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84F3-9924-4273-9613-9BA9154A716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B059-A3B0-474D-AF3C-9E57119D57C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1A9-98FD-4AD0-BE21-F5BF2206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9B7-0BAC-40B8-9FE1-2DF9D8F0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5D0-0696-4101-A772-D10460F0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666-AAC6-4A95-A6C6-D3854CC9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2B2-C840-451A-9CF9-8DA4547C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1F9-BC9F-40A8-B13A-7ECF8C48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A8C-49C5-410D-A7A3-262B2F12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CE3-3A46-4328-B755-3B1A0A61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ECD-6E79-42E8-8E37-DF63C913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866-3505-426C-A8E9-84555488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E1E-3E56-47C8-B820-ADCD9BCA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11D-CF12-4F01-96C2-5668FE9A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494F-B4A4-4D13-A54B-E69AC4F740C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2"/>
          <p:cNvSpPr/>
          <p:nvPr/>
        </p:nvSpPr>
        <p:spPr>
          <a:xfrm>
            <a:off x="692280" y="5762520"/>
            <a:ext cx="77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ES: Un percorso di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media-education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per una cittadinanza in rete sostenibile e consapev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2"/>
          <p:cNvSpPr/>
          <p:nvPr/>
        </p:nvSpPr>
        <p:spPr>
          <a:xfrm>
            <a:off x="2627280" y="3357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ENTUALE IMMAGINE RAPPRESEN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4"/>
          <p:cNvSpPr/>
          <p:nvPr/>
        </p:nvSpPr>
        <p:spPr>
          <a:xfrm>
            <a:off x="611280" y="62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GO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5"/>
          <p:cNvSpPr/>
          <p:nvPr/>
        </p:nvSpPr>
        <p:spPr>
          <a:xfrm>
            <a:off x="6372360" y="6206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Festival nazionale S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VENEZIA ME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Novembre 2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sellaDiTesto 6"/>
          <p:cNvSpPr/>
          <p:nvPr/>
        </p:nvSpPr>
        <p:spPr>
          <a:xfrm>
            <a:off x="2771640" y="62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5B6D-D6B8-4E61-B3FF-D88FDF963E1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5"/>
          <p:cNvSpPr/>
          <p:nvPr/>
        </p:nvSpPr>
        <p:spPr>
          <a:xfrm>
            <a:off x="755640" y="376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1. Motivazione iniz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3452-2E4E-4AD8-B301-509236D4EB1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5"/>
          <p:cNvSpPr/>
          <p:nvPr/>
        </p:nvSpPr>
        <p:spPr>
          <a:xfrm>
            <a:off x="179280" y="162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2. Identificazione del problema e obiettivi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A quali bisogni del territorio rispon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0D1D-3E32-41E8-B078-EE423AD73C0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5"/>
          <p:cNvSpPr/>
          <p:nvPr/>
        </p:nvSpPr>
        <p:spPr>
          <a:xfrm>
            <a:off x="900000" y="206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3. Strategia adott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ome raggiungere l’obiettivo/gli obiettiv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6F45-8735-4EF4-B9BA-339B9F1C64C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5"/>
          <p:cNvSpPr/>
          <p:nvPr/>
        </p:nvSpPr>
        <p:spPr>
          <a:xfrm>
            <a:off x="487440" y="10332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4. Fasi di real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Timeline: cosa, chi, quando?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457200" y="979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838F-6816-4B94-A9BF-C438E0AA975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5"/>
          <p:cNvSpPr/>
          <p:nvPr/>
        </p:nvSpPr>
        <p:spPr>
          <a:xfrm>
            <a:off x="684360" y="339840"/>
            <a:ext cx="793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5. Traguardi di compet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competenze disciplinari svilupp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A93A-AB5D-482D-8035-3367082E133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2"/>
          <p:cNvSpPr/>
          <p:nvPr/>
        </p:nvSpPr>
        <p:spPr>
          <a:xfrm>
            <a:off x="93492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6. Risultati raggiu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Benefici sociali/risposte ai bisogni di parten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E153-8697-41F8-82FC-EAABAA364F7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5"/>
          <p:cNvSpPr/>
          <p:nvPr/>
        </p:nvSpPr>
        <p:spPr>
          <a:xfrm>
            <a:off x="108000" y="20628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7. Valut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he cosa valutiamo e con quali strument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4122-AFBE-4F3E-A6F4-7B442B07E20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5"/>
          <p:cNvSpPr/>
          <p:nvPr/>
        </p:nvSpPr>
        <p:spPr>
          <a:xfrm>
            <a:off x="250920" y="3510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Eventuale video di presentazione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durata massima: 2 minu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6"/>
          <p:cNvSpPr/>
          <p:nvPr/>
        </p:nvSpPr>
        <p:spPr>
          <a:xfrm>
            <a:off x="971640" y="15526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K O ALTR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4:04:06Z</dcterms:created>
  <dc:creator>Tiziana_</dc:creator>
  <dc:description/>
  <dc:language>en-US</dc:language>
  <cp:lastModifiedBy>serenella.ciarrocchi</cp:lastModifiedBy>
  <dcterms:modified xsi:type="dcterms:W3CDTF">2021-04-16T11:34:43Z</dcterms:modified>
  <cp:revision>31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0</vt:lpwstr>
  </property>
</Properties>
</file>