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8F0-4761-4CF3-B5D2-32C3E55A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3CA-03EC-4025-A29E-B37AE806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6E7-441C-43E6-9EA8-B3BC407D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8D8-10C2-4F8E-AAE5-24DD7852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09B-C93B-4287-9C10-4959467F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658-EF37-4C52-831D-4C7FA688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047-0E65-4828-8434-234579FE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3B2-DD95-4C7F-977E-72FB5A35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2AC-7579-45BF-BDEB-71146A78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C5E-26E9-43A4-A295-54FB61A8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6FB-E8A3-4E51-887E-0116EC8E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941-EA27-429D-8796-B116EA28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D4F3-7889-45DC-BD41-A173C5AEF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Ipotesi%20di%20matrice%20dei%20LEP%20nella%20Scuola.doc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modello%20di%20classificazione%20obiettivi.doc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lla valu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valutazione è processo compos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isu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laborazione del giudi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isu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rumenti di misura pertin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sservazione (l’interazione osservato/osservator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laborazione del giudizio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na catena inferenzi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t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formazioni → sintomi → diagn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n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B. Il grado di “oggettività” della valutazione è condizionato dall’insieme degli elementi di incertezza lungo l’intero proces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’equità del sist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30592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rilevazioni standard come “materiale diagnostico” a livello macro – esempio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38080" y="873000"/>
            <a:ext cx="7786800" cy="5985000"/>
            <a:chOff x="838080" y="873000"/>
            <a:chExt cx="7786800" cy="5985000"/>
          </a:xfrm>
        </p:grpSpPr>
        <p:sp>
          <p:nvSpPr>
            <p:cNvPr id="74" name=""/>
            <p:cNvSpPr/>
            <p:nvPr/>
          </p:nvSpPr>
          <p:spPr>
            <a:xfrm>
              <a:off x="838080" y="1199160"/>
              <a:ext cx="0" cy="522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05160" y="1525680"/>
              <a:ext cx="1112400" cy="2067480"/>
            </a:xfrm>
            <a:prstGeom prst="ellipse">
              <a:avLst/>
            </a:prstGeom>
            <a:solidFill>
              <a:srgbClr val="000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0200" y="2505240"/>
              <a:ext cx="222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96600" y="1525680"/>
              <a:ext cx="333360" cy="46792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17920" y="3810960"/>
              <a:ext cx="200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10160" y="2831760"/>
              <a:ext cx="444960" cy="4026240"/>
            </a:xfrm>
            <a:prstGeom prst="ellipse">
              <a:avLst/>
            </a:prstGeom>
            <a:solidFill>
              <a:srgbClr val="00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31480" y="4899240"/>
              <a:ext cx="222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4200" y="873000"/>
              <a:ext cx="1779840" cy="543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dia elevata, sistema unifor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86520" y="1961280"/>
              <a:ext cx="1891080" cy="543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dia insufficiente buone eccellen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11320" y="3158280"/>
              <a:ext cx="2113560" cy="870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e eccellenze non raggiungono la media di riferi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 rilevazioni standard come “materiale diagnostico” a livello macro esempi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43080"/>
            <a:ext cx="0" cy="560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400480"/>
            <a:ext cx="560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914400"/>
            <a:ext cx="457200" cy="274320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2760" y="2286000"/>
            <a:ext cx="342720" cy="2857680"/>
          </a:xfrm>
          <a:prstGeom prst="ellipse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657600"/>
            <a:ext cx="4000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52960" y="4457880"/>
            <a:ext cx="342720" cy="24001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5600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866960" y="914400"/>
            <a:ext cx="1257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85800"/>
            <a:ext cx="91440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i nazio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009600" y="2857680"/>
            <a:ext cx="11430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52960" y="2629080"/>
            <a:ext cx="1143000" cy="34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uol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495320" y="4572000"/>
            <a:ext cx="800280" cy="34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4343400"/>
            <a:ext cx="1028880" cy="34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uol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1752480"/>
            <a:ext cx="152424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dia Naz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3200400"/>
            <a:ext cx="10288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di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5143680"/>
            <a:ext cx="9144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dia 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valutazione delle scuole: la scuola come organ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odologie, strumenti, protocolli valutativi vanno commisurati alle caratteristiche dell’organ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tazione per parametri vari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l paradigma obiettivi-risul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utazione di figure dirigenziali e di ampia autonomia o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tazione per parametri cost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 procedure e i comportamenti organizza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utazione dei figure subalterne, con compiti determinati e scarsa autonomia o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valutazione è sempre filtrata attraverso la cultura organizzativa spec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valutazione è sempre condizionata dalla padronanza dei “fattori della produz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orse economiche, personale, combinazione e sviluppo organizz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zione di strategie e obiettiv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054080"/>
            <a:ext cx="91440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54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010640" cy="58672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rrelazioni tra sistemi valutativi e carattere dell’organ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1012680"/>
            <a:ext cx="6019920" cy="5845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funzioni di integrazione della cultura organizz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 valutazione delle “prestazioni” della scu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tazioni = Risultati + Comporta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l “peso” assegnato alle due voci è legato alle caratteristiche dell’organizz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protocollo valutativo delle scuole deve misurarsi sul complesso delle “prestazioni” assegnate/riconosciute alle scu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senziale la definizione di un repertorio di prestazioni “essenziali”, come “livello zero” della valu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efinizione di tale repertorio è correlata alle “funzioni sociali” assegnate alla scu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efinizione di tale repertorio è competenza plurima di più sogg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efinizione di tale repertorio è correlata ad un diritto di cittadinanz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a ipotesi di matrice dei LEP per la scu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81480" y="61722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Matrice completa L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839080" cy="51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a definizione dei LEP è competenza riservata allo S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a Corte Costituzionale ha precisato che (sentenza 282/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on si tratta di una “materia” specifica, quanto di una competenza trasversale dello Stato esercitabile su tutte le materie coinvolgenti diritti di cittadinanza  e prestazioni da garant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Gli interventi legislativi i merito non possono “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nascere da valutazioni di pura discrezionalità politica dello stesso legislatore…”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ma devono prevedere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“l’elaborazione di indirizzi fondati sulla verifica dello stato delle conoscenze scientifiche e delle evidenze sperimentali acquisite”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unque il legislatore regionale esercitando le proprie podestà legislative piene ed esclusive non può limitare o condizionare il contenuto dei L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Ma il legislatore statale, nel determinare i LEP deve tenere conto di competenze specifiche di carattere tecnico scientific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l principio di collaborazione tra i titolari del sistema di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governanc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, richiede che il repertorio dei LEP sia oggetto di accordo e di condivisione (Stato, Regioni, Autonomia scolastica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utazione 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sambiguazione semantica: che cosa è la “performance”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’integrazione di un comportamento con un risul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a valutazione della performance rigu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e “prestazioni” di una organ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a valutazione delle persone nell’organ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’integrazione tra comportamenti e risultati si riflette sulle caratteristiche della “cultura organizzativa” dell’organizzazione, e cio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inguaggi, simboliche, significati scambi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elazioni tra ruoli e pers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Bisogni, desideri, aspettative, premi e pun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cambi sui confini dell’organizz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a valutazione della performance integra (perciò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alutazione dei risultati dell’organ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alutazione dei risultati delle pers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alutazione dei comportamenti organizza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alutazione della cultura organizzati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valutazione obiettivi/risultati: per una classificazione degli obie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paradigma risultati/obiettivi è il più “semplice” (concettualm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sua “praticabilità” è condizionata dai caratteri dell’organizz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’ pienamente applicabile in organizzazioni MBO o per figure professionali di piena autonomia e padronanza dei fat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’ possibile identificare una declaratoria “tassonomica” degli obiet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corre applicare tale tassonomia “situandola” nella organizzazione concreta che si vuole/deve valutar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Ipotesi classificazione obbie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“matrice” della valu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valutazione è sempre fonte di fantasmi (paura, fuga, nascondiment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sattivare i fantasmi portandoli alla luce e “dicendol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valutazione è sempre “asimmetr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validazione sociale attraverso opportunismo o oppos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sua validazione sociale ha a che f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ultura della val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plorazione completa della matrice valu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matrice della valutazione ha due dimen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rizzontale: chi, cosa, perché,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erticale: le gerarchie della valutazio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Valutazione e miglior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 valuta per decid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 c’è “automatismo” tra valutazione e miglior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 miglioramento è “una” delle decisioni che si possono assumere (vedi classificazione obiettiv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 “correzione” strategica che interpreta la scelta del miglioramento è “filtrata” dai processi decisio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 “convenienze” dell’organ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 dinamiche interne alla cultura organizz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valutazione del pers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 si valutano “le persone”, ma “le persone nell’organizzazi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modelli valutativi sono articolati in parallelo a quelli relativi all’organizz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utazione per parametri variab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paradigma obiettivi-risul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lutazione di figure dirigenziali e di ampia autonomia op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utazione per parametri cost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procedure e i comportamenti organizz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lutazione dei figure subalterne, con compiti determinati e scarsa autonomia op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 cosa è l’organizzazione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e “sguard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organizzazione è un insieme di procedure, attività, ruoli, operazioni, connesse funzionalmente tra lor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zazione come “macchina” (l’orologio)</a:t>
            </a: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Organigramm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legami fo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organizzazione è un insieme di significati scambiati, condivisi elaborati da un insieme di persone che operano in collettiv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zazione come “organismo vivente” </a:t>
            </a: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ntegrazione cultural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legami deb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atteri dei legami organizz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4038480" cy="4525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legami forti son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stenti agli u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co adatt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 lunga du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peti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ific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nutenzione perio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2920" y="836640"/>
            <a:ext cx="4038840" cy="4525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legami deboli son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co resistenti agli u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att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dice ridond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nutenzione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5589720"/>
            <a:ext cx="2808360" cy="398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manuale ope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5589720"/>
            <a:ext cx="3456000" cy="398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ultura organizz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preliminare della valutazione del personale: la definizione del “profilo di ruol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relazione ai “due sguardi” con i quali si osserva l’organizzazione, la definizione dei “profili di ruolo” assume connotati diver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profilo di ruolo è un insieme di mansioni, funzioni, attività assegnate e formalizzate in organigrammi e “manuali operativi”. (legami for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profilo di ruolo è ciò che “realmente” l’organizzazione si aspetta da una persona. (legami debol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.B. la cultura organizzativa effettivamente espressa deve ricomporre i due “sguard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mappa della valutazione del pers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06440"/>
            <a:ext cx="7467480" cy="4484880"/>
            <a:chOff x="457200" y="1306440"/>
            <a:chExt cx="7467480" cy="4484880"/>
          </a:xfrm>
        </p:grpSpPr>
        <p:sp>
          <p:nvSpPr>
            <p:cNvPr id="133" name=""/>
            <p:cNvSpPr/>
            <p:nvPr/>
          </p:nvSpPr>
          <p:spPr>
            <a:xfrm>
              <a:off x="3103560" y="5481720"/>
              <a:ext cx="936720" cy="30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Control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14400" y="4952880"/>
              <a:ext cx="642924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98600" y="1306440"/>
              <a:ext cx="3751200" cy="1096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1447920"/>
              <a:ext cx="150984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pprendimen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65400" y="1523880"/>
              <a:ext cx="1187280" cy="470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oscen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38520" y="1523880"/>
              <a:ext cx="1071720" cy="470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sperien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11640" y="1523880"/>
              <a:ext cx="1071720" cy="470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apacit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3320" y="1523880"/>
              <a:ext cx="1071360" cy="470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ttitudi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05320" y="2070000"/>
              <a:ext cx="1338120" cy="470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mpeten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96760" y="3279600"/>
              <a:ext cx="1409760" cy="627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ultura organizza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6720" y="3687840"/>
              <a:ext cx="1566720" cy="527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mportamenti di ru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1560" y="3992400"/>
              <a:ext cx="1473120" cy="627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otivazione profession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38520" y="4357800"/>
              <a:ext cx="1071720" cy="592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estazioni effica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19520" y="2733840"/>
              <a:ext cx="2666880" cy="626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19640" y="3003480"/>
              <a:ext cx="1805040" cy="78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19320" y="5105520"/>
              <a:ext cx="1876320" cy="627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57800" y="5105520"/>
              <a:ext cx="1874880" cy="627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3000" y="2090880"/>
              <a:ext cx="1143000" cy="312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Forma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83360" y="2090880"/>
              <a:ext cx="938160" cy="312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Eserci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67360" y="2502000"/>
              <a:ext cx="1440" cy="31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2680" y="2905200"/>
              <a:ext cx="1447920" cy="331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mportamen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24480" y="3124080"/>
              <a:ext cx="1295640" cy="470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otivazioni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dividual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23160" y="3743280"/>
              <a:ext cx="144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7360" y="3284640"/>
              <a:ext cx="23760" cy="37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98600" y="3484440"/>
              <a:ext cx="1870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86440" y="3855960"/>
              <a:ext cx="1766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5113440" y="3430440"/>
              <a:ext cx="1440" cy="42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148280" y="3484080"/>
              <a:ext cx="938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75280" y="4162320"/>
              <a:ext cx="1584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0200" y="5257800"/>
              <a:ext cx="1071720" cy="312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bbiettiv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91320" y="5257800"/>
              <a:ext cx="909360" cy="312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isulta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4080" y="5410080"/>
              <a:ext cx="214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167360" y="4897440"/>
              <a:ext cx="7920" cy="40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89600" y="3854520"/>
              <a:ext cx="133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86440" y="4440240"/>
              <a:ext cx="1204920" cy="471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Valuta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4843080" y="4068720"/>
              <a:ext cx="160812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21520" y="1954080"/>
              <a:ext cx="1440" cy="31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924240" y="2265480"/>
              <a:ext cx="196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049440" y="2109960"/>
              <a:ext cx="24156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6680" y="1981080"/>
              <a:ext cx="1800" cy="31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66680" y="2286000"/>
              <a:ext cx="13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014560" y="1953720"/>
              <a:ext cx="220680" cy="31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5770440" y="2436480"/>
              <a:ext cx="547920" cy="77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492520" y="3065400"/>
              <a:ext cx="55692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04920" y="624852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Da: Franco De Anna “Valutare i dirigenti della scuola”, Casa Editrice Spaggiari, Parma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er un profilo di ruolo del 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DS è un “dirigente pubblico” responsabile di una “strategia pubblica” a titolarità concor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DS è un dirigente di una organizzazione che produce servizi alla perso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DS è un professionista le cui funzioni non sono complessivamente “ordinabili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DS è un dirigente di una organizzazione a “legami deboli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DS è dirigente di una organizzazione a elevatissima permeabilità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DS è un dirigente orientato al “prodot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DS è un dirigente di una organizzazione ad alta intensità di personale e a basso tasso di gerarch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DS è un professionista il cui profilo ha un elevato contenuto deonto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ader e Manager: aforis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 manager “sa fare le co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 leader “sa cosa va fatt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 leadership ha “sempre a che fare con il potere”: i modi con cui si gestisce il potere caratterizzano le miserie e le qualità della leader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 controllo della rotta appartiene al manager; indicare la rotta appartiene al l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380880" y="762120"/>
          <a:ext cx="1143000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11430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adership 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 “abilità” del l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 Condividere idee e opin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Parafrasare (riformul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Dare direttive e compiti al lavoro del gr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  Risolvere problemi interpersonali e medi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   Ridurre tensione e stress con umo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  Riassumere i contributi dei membri del gr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     Offrire sostegno e approv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      Richiedere informazioni, idee, opinioni agli al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      Invitare gli altri membri del gruppo a parteci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  Controllare le capacità di comprensione degli al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  Infondere energia al gr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  Promuovere il processo di gr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608040"/>
          <a:ext cx="914400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8040"/>
                    <a:ext cx="914400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alutazione nella scuola: matrice orizzontale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ader si nasce o si diven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e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nat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tua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rasforma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at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zione tra il leader ed i collaborato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truttura del comp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 potere di pos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Forse leader si diventa, ma non è sicuro “quale” tipo di leader si impara ad ess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 flipV="1">
            <a:off x="1219320" y="914040"/>
            <a:ext cx="0" cy="4730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5645160"/>
            <a:ext cx="5445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44880" y="5875200"/>
            <a:ext cx="4235400" cy="525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ientamento agli obiet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74920" y="914400"/>
            <a:ext cx="171432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eader ami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aisseiz f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4920" y="4724280"/>
            <a:ext cx="1585800" cy="806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der iner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erv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9400" y="914400"/>
            <a:ext cx="20494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eader Capobr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9400" y="4648320"/>
            <a:ext cx="2049480" cy="795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eader fa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36960" y="2678040"/>
            <a:ext cx="2152440" cy="82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eader conform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dat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9720" y="1371600"/>
            <a:ext cx="454680" cy="374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ientamento alle rel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ipologie di l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mappa degli obiet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78000" y="685800"/>
            <a:ext cx="8308440" cy="6171840"/>
            <a:chOff x="378000" y="685800"/>
            <a:chExt cx="8308440" cy="6171840"/>
          </a:xfrm>
        </p:grpSpPr>
        <p:sp>
          <p:nvSpPr>
            <p:cNvPr id="201" name=""/>
            <p:cNvSpPr/>
            <p:nvPr/>
          </p:nvSpPr>
          <p:spPr>
            <a:xfrm>
              <a:off x="4730760" y="1885680"/>
              <a:ext cx="2412720" cy="2415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01840" y="6115320"/>
              <a:ext cx="1302120" cy="742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trollo di gestione e valuta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23120" y="4556160"/>
              <a:ext cx="1363320" cy="529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novazione  organizza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99680" y="1885680"/>
              <a:ext cx="2297520" cy="2228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16040" y="4113720"/>
              <a:ext cx="2541960" cy="16570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18520" y="1143000"/>
              <a:ext cx="0" cy="491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043800" y="1771200"/>
              <a:ext cx="3286440" cy="388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90080" y="2800440"/>
              <a:ext cx="5333040" cy="171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168720" y="1774080"/>
              <a:ext cx="3161520" cy="388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741680" y="2859840"/>
              <a:ext cx="5581440" cy="171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04840" y="2340360"/>
              <a:ext cx="0" cy="1310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704480" y="3649680"/>
              <a:ext cx="125316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416040" y="3649680"/>
              <a:ext cx="128880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06000" y="1999800"/>
              <a:ext cx="16866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ore pubbl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34880" y="4514040"/>
              <a:ext cx="148824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stione delle risor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13560" y="4399200"/>
              <a:ext cx="1364400" cy="571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istema Govern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98960" y="4571280"/>
              <a:ext cx="111600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ea della gestione e control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01080" y="3083040"/>
              <a:ext cx="1115280" cy="51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ea delle risor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82600" y="2908440"/>
              <a:ext cx="1053720" cy="74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ea del controllo soci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01840" y="685800"/>
              <a:ext cx="1239840" cy="514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novazione strateg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92960" y="1199880"/>
              <a:ext cx="155052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ntenimento e miglior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23120" y="2517840"/>
              <a:ext cx="1053720" cy="56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icerca e svilup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95760" y="5428080"/>
              <a:ext cx="1536120" cy="686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azionalizzazione finanziaria  ed econom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13560" y="5771160"/>
              <a:ext cx="1302120" cy="856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stione e promozione delle risorse uma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8000" y="4514040"/>
              <a:ext cx="1612080" cy="571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tecipazione al “governo mi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73720" y="2342880"/>
              <a:ext cx="1425960" cy="516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Rapporto con stakehold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70520" y="1199880"/>
              <a:ext cx="229284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apporto con i cittadini utenti del servi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685800" y="1143000"/>
            <a:ext cx="7391160" cy="5486400"/>
            <a:chOff x="685800" y="1143000"/>
            <a:chExt cx="7391160" cy="5486400"/>
          </a:xfrm>
        </p:grpSpPr>
        <p:sp>
          <p:nvSpPr>
            <p:cNvPr id="229" name=""/>
            <p:cNvSpPr/>
            <p:nvPr/>
          </p:nvSpPr>
          <p:spPr>
            <a:xfrm>
              <a:off x="4558320" y="2209680"/>
              <a:ext cx="2145600" cy="214704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98520" y="5969160"/>
              <a:ext cx="1158480" cy="660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trollo di gestione e valuta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64120" y="4583160"/>
              <a:ext cx="1212840" cy="470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novazione  organizza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95800" y="2209680"/>
              <a:ext cx="2044080" cy="19810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88680" y="4190040"/>
              <a:ext cx="2261520" cy="14731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47160" y="1549440"/>
              <a:ext cx="0" cy="436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057480" y="2107800"/>
              <a:ext cx="2923920" cy="345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20040" y="3022560"/>
              <a:ext cx="47440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3168360" y="2110680"/>
              <a:ext cx="2813040" cy="345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1898280" y="3076200"/>
              <a:ext cx="4965480" cy="152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34920" y="2613240"/>
              <a:ext cx="0" cy="1165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534920" y="3777840"/>
              <a:ext cx="1115280" cy="767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388680" y="3777840"/>
              <a:ext cx="1146240" cy="767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24280" y="2311200"/>
              <a:ext cx="1500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ore pubbl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40040" y="4545720"/>
              <a:ext cx="132372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stione delle risor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30200" y="4444200"/>
              <a:ext cx="1213920" cy="507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istema Govern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95640" y="4596480"/>
              <a:ext cx="9928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ea della gestione e control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54120" y="3273840"/>
              <a:ext cx="9925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ea delle risor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02760" y="3118680"/>
              <a:ext cx="937080" cy="66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ea del controllo soci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778480" y="2463480"/>
              <a:ext cx="6652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444120" y="2110680"/>
              <a:ext cx="1090800" cy="35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78480" y="3276360"/>
              <a:ext cx="0" cy="108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78480" y="4355640"/>
              <a:ext cx="66528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44120" y="5155200"/>
              <a:ext cx="1114200" cy="25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547160" y="5154840"/>
              <a:ext cx="1103040" cy="25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7160" y="2108160"/>
              <a:ext cx="1103040" cy="35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50200" y="2463480"/>
              <a:ext cx="673560" cy="81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00720" y="3276360"/>
              <a:ext cx="0" cy="108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650200" y="4355640"/>
              <a:ext cx="65016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98520" y="1143000"/>
              <a:ext cx="1103040" cy="456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novazione strateg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25480" y="1599840"/>
              <a:ext cx="137844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ntenimento e miglior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64120" y="2770920"/>
              <a:ext cx="9370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icerca e svilup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39000" y="5358600"/>
              <a:ext cx="1367280" cy="609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azionalizzazione finanziaria  ed econom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30200" y="5663160"/>
              <a:ext cx="115812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stione e promozione delle risorse uma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5800" y="4545720"/>
              <a:ext cx="143424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tecipazione al “governo mi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26800" y="2616120"/>
              <a:ext cx="126864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Rapporto con stakehold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68520" y="1599840"/>
              <a:ext cx="204012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apporto con i cittadini utenti del servi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444120" y="2768400"/>
              <a:ext cx="109080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44120" y="4545720"/>
              <a:ext cx="165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64280" y="3885120"/>
              <a:ext cx="385560" cy="66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98680" y="4545720"/>
              <a:ext cx="55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7160" y="2768400"/>
              <a:ext cx="551160" cy="81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lassificazione degli obiettivi del DS: una radar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vorare per progetti e gestire progett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a “gestione dei progetti” rappresenta un insieme di metodologie definite e sufficientemente codificate in una disciplina,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, (PM) grazie alle quali gestire un progetto con il livello atteso di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trade off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tra efficacia ed efficien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l PM è codificato in standard internazionali, Project Management Book of Knowledge (PMBOK) e presieduto da istituzioni che adeguano in continuità tali standard, le definizioni e le certificazioni consegue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econdo tali definzioni, un “progetto è un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impegno a termin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, assunto per realizzare un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prodotto o servizio irripetibil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”.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Tale definizione distingue dunque tra operatività a regime di una organizzazione (il lavoro continuo e più o meno ripetitivo) e il progetto che è temporaneo e u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Temporaneità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unicità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rappresentano operatori attraverso i quali è possibile classificare e caratterizzare un prog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unque “gestire progetti” fa riferimento a elementi di “professionalità” (del manager). “Lavorare per progetti” fa riferimento ad una caratteristica dell’organizzazi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ologie progett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685800" y="1981080"/>
          <a:ext cx="8001000" cy="3200400"/>
        </p:xfrm>
        <a:graphic>
          <a:graphicData uri="http://schemas.openxmlformats.org/drawingml/2006/table">
            <a:tbl>
              <a:tblPr/>
              <a:tblGrid>
                <a:gridCol w="914400"/>
                <a:gridCol w="762120"/>
                <a:gridCol w="2971800"/>
                <a:gridCol w="3352680"/>
              </a:tblGrid>
              <a:tr h="533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raneit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 rowSpan="2"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it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etti funzion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anutenzione, formazione ec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etti come “prodotti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rganizzazioni di engineering,consulenza, ecc)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etti di suppor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novazione organizzativa, di prodotto, ecc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etti come organizz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tart-ups, ec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odelli misti: l’organizzazione a mat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1828800"/>
            <a:ext cx="4647960" cy="1495440"/>
          </a:xfrm>
          <a:prstGeom prst="rect">
            <a:avLst/>
          </a:prstGeom>
          <a:solidFill>
            <a:srgbClr val="cc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General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esponsabilità dell’operatività gene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685800"/>
            <a:ext cx="4648320" cy="75456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abilità della cornice istitu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2590920"/>
            <a:ext cx="4724280" cy="4038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27432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 funzio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3352680"/>
            <a:ext cx="8534520" cy="1524240"/>
          </a:xfrm>
          <a:prstGeom prst="rightArrow">
            <a:avLst>
              <a:gd name="adj1" fmla="val 50000"/>
              <a:gd name="adj2" fmla="val 1399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60360" y="37018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45720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o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3200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3124080"/>
            <a:ext cx="19051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1447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3124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342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stema Nazionale di Valutazione, VALES, Valutazione dirig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el “regolamento” SNV le definizioni sono a “maglie larghe” (come inevitabile), 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ella sperimentazione VALES se ne dà una interpretazione che richiede attenzione critica. In partico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ossibili “cortocircuiti” concettuali ed operativi tra Autovalutazione, Valutazione esterna, Miglior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alutazione delle organizzazioni e valutazione degli esiti di apprend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alutazione degli apprendimenti e rilevazioni INVAL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alutazione e finanzia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alutazione esterna “dedicata” situazioni di “sofferenz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alutazione delle organizzazioni e valutazione dei dirigen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nfasi sul ruolo del “sistema informativo” ester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cuole in chia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l fasciciolo di scu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“modello” esterno di autovalut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utovalutazione autodeterminata e eterodetermin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’autovalutazione come impresa autonoma della scuola può costituire un requisito di ingresso alla valutazione: una misura della propensione al miglioramento (vedi AU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’autovalutazione come impegno “esterno” può introdurre elementi di opportunismo e stereotip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’assunzione del modello CIPP propone uno standard consolidato: ma non può essere assunto come “adempimento esterno” (impegno critico verso altri modelli: CAF, EFQM, ecc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’impegno essenziale del modello sta nel coinvolgere la scuola nel reperire, analizzare, utilizzare tutte le informazioni interne a sua disposizione (autoanalisi)  per rielaborare una autovaluta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’adempimento esterno rischia di conformizzare il flusso informativo interno/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l flusso informativo in senso contrario (esterno/interno: scuole in chiaro, fascicolo di scuola) rischia di “conformizzare” e togliere significatività ai dati ste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ccorre rinforzare il significato della autovalutazione come “impegno autonomo” della scuola e non come adempiment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tazione dell’efficacia del servizio reso e sistema informat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914400"/>
            <a:ext cx="83822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fficacia del servizio si misura dal rapporto tra mezzi impiegati, obiettivi perseguiti e grado di soddisfazione dei bisogni. (obiettivi, risultati, effet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cessita di riconnettere sistematicamente le informazioni provenienti dal sistema informativo interno, con la rilevazione sistematica del contesto es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condizione essenziale è quella dell’appianamento delle asimmetrie informative tra il “produttore” e il “consumatore” (democrazia e regolazione del merca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valutazione dell’efficacia prelude ad una forma di “rendicontazione sociale”, che comprende anche quella di natura economica ma si estende al “capitale sociale” prodotto per la comunità locale di rifer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ndicontazione sociale ha una pluralità di interlocutori: dai più vicini “portatori di interesse” verso l’attività della scuola, alla platea ampia dei cittadini del territorio e delle loro forme di organizzazione istituzionale e auto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ndicontazione sociale riunifica e integra tutte le forme di comunicazione, istituzionale e non, previste normativamente e non,  che connettono l’ambiente di “produzione” del servizio e le condizioni di erogazione e fruizione ester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Valutazione: la matrice vertica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14400" y="762120"/>
          <a:ext cx="7315200" cy="464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3152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33520" y="57150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.B. i “dati” misurati su ciascun livello sono interpretabili rapportandoli al livello gerarchico preceden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0" y="787320"/>
          <a:ext cx="9144000" cy="6070680"/>
        </p:xfrm>
        <a:graphic>
          <a:graphicData uri="http://schemas.openxmlformats.org/drawingml/2006/table">
            <a:tbl>
              <a:tblPr/>
              <a:tblGrid>
                <a:gridCol w="1565280"/>
                <a:gridCol w="3213000"/>
                <a:gridCol w="1893960"/>
                <a:gridCol w="2471760"/>
              </a:tblGrid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m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uto inform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inat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i informati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no dell’Offerta Form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tà della scuola, Valori, Mission, Strategie, Scelte didattico pedagogiche, Modello organizzativo, Progettazione formativa ann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g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mi di gestione, Pubbl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’ indicativo delle intenzioni e dei programmi ma non informa sui risultati precedenti, Non contiene informazioni sulle risorse economiche ed umane, E’ fortemente orientato agli interlocutori inte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olamento inter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e di comportamento della “popolazione inter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nti , Studenti, Person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to agli interlocutori inte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a Annuale (preventiv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ate e spese classificate per: programmi e progetti (in accordo con POF); Funzioni e serviz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mi di gestione, Amministrazione, Organismi di contro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tivo sotto il profilo delle poste generali, Non predisposto per contabilità analitica, Rivolto quasi esclusivamente ad interlocutori inte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zione del D.S. sul Piano di Attività ann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biettivi perseguiti e risorse di Bilancio, articolate per progetti, Risultati attesi, Guida alla lettura del preven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mi di gesti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mi di contro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ramente i risultati attesi sono corredati da indicatori di performance, Spesso il nesso tra risorse e articolazione per progetti è nominale, riportando semplicemente le etichette relative del P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n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ate articolate per “natura”, spese articolate per Programmi e progetti, Funzioni e serviz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i della gestione finanzi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mi di gestione, Amministrazione, Organismi di contro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volto quasi esclusivamente a interlocutori inte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za dell’informazione contabile, assenti istituzionalmente indicatori di efficacia ed efficienza (se vi sono è scelta della scuol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li strumenti di comunicazione istitu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Valutazione ed autovalu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62120" y="762120"/>
          <a:ext cx="7772400" cy="511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772400" cy="51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57200" y="5867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N.B. Il problema è il “posizionamento” dichiarato lungo l’itinerario auto-eteroval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Valutazione del prodotto della scuola/rilevazione dei livelli di appr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endi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rta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mozione eguagl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up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nfo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vidual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produzione cultu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nomia 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dicatori livelli di appr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dicatori compet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mparazioni sistem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ivelli di equ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ateriale diagnostico a livell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ateriale diagnostico a livello siste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447920"/>
            <a:ext cx="3809880" cy="42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“prodotti” della scu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447920"/>
            <a:ext cx="3809880" cy="42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rilevazioni es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e rilevazioni standard come “materiale diagnostico” a livello micro –esempi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03200" y="2308320"/>
          <a:ext cx="10234800" cy="40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2308320"/>
                    <a:ext cx="1023480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e rilevazioni standard come “materiale diagnostico” a livello micro –esempi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7800" y="1449360"/>
          <a:ext cx="8560080" cy="31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449360"/>
                    <a:ext cx="856008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e rilevazioni standard come “materiale diagnostico” a livello micro –esempi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76200" y="1449360"/>
          <a:ext cx="8451720" cy="26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49360"/>
                    <a:ext cx="845172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3:12:01Z</dcterms:created>
  <dc:creator>franco de anna</dc:creator>
  <dc:description/>
  <dc:language>en-US</dc:language>
  <cp:lastModifiedBy>M.I.U.R.</cp:lastModifiedBy>
  <dcterms:modified xsi:type="dcterms:W3CDTF">2013-03-18T11:50:41Z</dcterms:modified>
  <cp:revision>19</cp:revision>
  <dc:subject/>
  <dc:title>Della valutazione</dc:title>
</cp:coreProperties>
</file>