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13DF-2DB3-434B-A9C7-A41195C37FC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modulo da compilare:165 potenziali campi, enorme semplificazione (&gt; 500), totali eliminati, ogni area  è riconoscibile dal col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ve siamo e dove posiamo arriv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1DE3-A0D1-4DBE-B4A2-9BF7ED623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1CB1-CCBF-44A8-B72C-960D4A72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B830-C7F1-4AA2-A2F5-9A9461CF9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B8D0-B17A-4CAB-8106-9E84F475F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B67A-CE7C-459B-91FB-5A9EAD92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8FCC-CC7D-4BC7-BF61-130589A0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E350-8F67-449A-970B-DE76B945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0073-6417-48C6-8B5F-67A6C40A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6954-222E-4E24-A94D-7B2755A4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B9FA-6D53-4645-A0FF-70DD13E5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4961-3788-43B3-A716-48762C54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5292-071C-44D5-9430-59BE4D6B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EE89-67A6-4087-ABC3-0866DE776025}" type="slidenum">
              <a:rPr b="0" lang="it-IT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6699"/>
                </a:solidFill>
                <a:latin typeface="Times New Roman"/>
              </a:rPr>
              <a:t>MSM inserimento dati bilancio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2971800" cy="4709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676520" y="13716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Times New Roman"/>
              </a:rPr>
              <a:t>http://www.irremarche.net/msm/msm.asp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21337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anagrafica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4800" y="28954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Indicatori di bilanci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91120" y="38098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Entrate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267080" y="4495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Spese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51814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Controllo incrociat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57150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Indice di correlazione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2000" y="62485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Note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543800" y="3809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imes New Roman"/>
              </a:rPr>
              <a:t>165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153280" y="3809880"/>
            <a:ext cx="3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 flipV="1">
            <a:off x="1447920" y="609120"/>
            <a:ext cx="4038480" cy="221004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257800" y="60912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Times New Roman"/>
              </a:rPr>
              <a:t>I dati (bicompilazione)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09480" y="2666880"/>
            <a:ext cx="844560" cy="2943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90720" y="5638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3733920"/>
            <a:ext cx="1066680" cy="45720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276720"/>
            <a:ext cx="1143000" cy="114300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004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DB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44956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Times New Roman"/>
              </a:rPr>
              <a:t>mdb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43400" y="3581280"/>
            <a:ext cx="914400" cy="457200"/>
          </a:xfrm>
          <a:custGeom>
            <a:avLst/>
            <a:gdLst>
              <a:gd name="textAreaLeft" fmla="*/ 304920 w 914400"/>
              <a:gd name="textAreaRight" fmla="*/ 783360 w 914400"/>
              <a:gd name="textAreaTop" fmla="*/ 263520 h 457200"/>
              <a:gd name="textAreaBottom" fmla="*/ 391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800600" y="2971800"/>
            <a:ext cx="457200" cy="4190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886200" y="4419720"/>
            <a:ext cx="399960" cy="4572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sp>
        <p:nvSpPr>
          <p:cNvPr id="71" name=""/>
          <p:cNvSpPr/>
          <p:nvPr/>
        </p:nvSpPr>
        <p:spPr>
          <a:xfrm>
            <a:off x="647712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Analisi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quantitativa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411480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Analisi qualitativa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1523880" y="533520"/>
            <a:ext cx="4019760" cy="2047680"/>
          </a:xfrm>
          <a:prstGeom prst="rect">
            <a:avLst/>
          </a:prstGeom>
          <a:ln w="57240">
            <a:solidFill>
              <a:srgbClr val="336699"/>
            </a:solidFill>
            <a:prstDash val="sysDot"/>
            <a:miter/>
          </a:ln>
        </p:spPr>
      </p:pic>
      <p:sp>
        <p:nvSpPr>
          <p:cNvPr id="74" name=""/>
          <p:cNvSpPr/>
          <p:nvPr/>
        </p:nvSpPr>
        <p:spPr>
          <a:xfrm flipV="1">
            <a:off x="914400" y="533520"/>
            <a:ext cx="609480" cy="228600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990720" y="2514240"/>
            <a:ext cx="533160" cy="60948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447920" y="2514240"/>
            <a:ext cx="4114800" cy="60948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62920" y="3276720"/>
            <a:ext cx="1295280" cy="761760"/>
          </a:xfrm>
          <a:custGeom>
            <a:avLst/>
            <a:gdLst>
              <a:gd name="textAreaLeft" fmla="*/ 0 w 1295280"/>
              <a:gd name="textAreaRight" fmla="*/ 1295640 w 129528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CROCI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24280" y="1905120"/>
            <a:ext cx="2286000" cy="182880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20439000">
            <a:off x="5638680" y="2971800"/>
            <a:ext cx="914400" cy="304920"/>
          </a:xfrm>
          <a:custGeom>
            <a:avLst/>
            <a:gdLst>
              <a:gd name="textAreaLeft" fmla="*/ 0 w 914400"/>
              <a:gd name="textAreaRight" fmla="*/ 914760 w 9144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2819520"/>
            <a:ext cx="533520" cy="304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Times New Roman"/>
              </a:rPr>
              <a:t>Immissione dati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Due giornate lavorative (2003 – 2004)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Reperimento dati (sul cartaceo)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Ridistribuzione dati (sul cartaceo)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Immissione dati nel modulo web e invio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Spedizione del cartaceo (posta) insieme questionario indagine qualitativo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6699"/>
                </a:solidFill>
                <a:latin typeface="Times New Roman"/>
              </a:rPr>
              <a:t>Ridistribuzione dati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3520" y="2971800"/>
            <a:ext cx="6457680" cy="370188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2895480" y="1447920"/>
            <a:ext cx="6010560" cy="1295280"/>
            <a:chOff x="2895480" y="1447920"/>
            <a:chExt cx="6010560" cy="1295280"/>
          </a:xfrm>
        </p:grpSpPr>
        <p:pic>
          <p:nvPicPr>
            <p:cNvPr id="86" name="" descr=""/>
            <p:cNvPicPr/>
            <p:nvPr/>
          </p:nvPicPr>
          <p:blipFill>
            <a:blip r:embed="rId3"/>
            <a:stretch/>
          </p:blipFill>
          <p:spPr>
            <a:xfrm>
              <a:off x="2895480" y="1447920"/>
              <a:ext cx="60105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6553080" y="2286000"/>
              <a:ext cx="838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809880" y="2286000"/>
              <a:ext cx="838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 flipH="1">
            <a:off x="1752120" y="2514600"/>
            <a:ext cx="4800600" cy="23623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676520" y="2514600"/>
            <a:ext cx="4876560" cy="26668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447560" y="2514600"/>
            <a:ext cx="5105160" cy="31240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1600200" y="2514600"/>
            <a:ext cx="4952880" cy="33526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6699"/>
                </a:solidFill>
                <a:latin typeface="Times New Roman"/>
              </a:rPr>
              <a:t>Avvertenze compilazione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2057400"/>
            <a:ext cx="7238880" cy="309780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Times New Roman"/>
              </a:rPr>
              <a:t>ATTENZIONE!</a:t>
            </a:r>
            <a:br>
              <a:rPr sz="2800"/>
            </a:br>
            <a:r>
              <a:rPr b="1" lang="it-IT" sz="2800" spc="-1" strike="noStrike">
                <a:solidFill>
                  <a:srgbClr val="336699"/>
                </a:solidFill>
                <a:latin typeface="Times New Roman"/>
              </a:rPr>
              <a:t>Per la notazione decimale inserire il punto al posto della virgola ad esempio </a:t>
            </a: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3,14</a:t>
            </a:r>
            <a:r>
              <a:rPr b="1" lang="it-IT" sz="2800" spc="-1" strike="noStrike">
                <a:solidFill>
                  <a:srgbClr val="336699"/>
                </a:solidFill>
                <a:latin typeface="Times New Roman"/>
              </a:rPr>
              <a:t> va scritto </a:t>
            </a: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3.14</a:t>
            </a:r>
            <a:r>
              <a:rPr b="1" lang="it-IT" sz="2800" spc="-1" strike="noStrike">
                <a:solidFill>
                  <a:srgbClr val="336699"/>
                </a:solidFill>
                <a:latin typeface="Times New Roman"/>
              </a:rPr>
              <a:t> oppure </a:t>
            </a: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23456,78</a:t>
            </a:r>
            <a:r>
              <a:rPr b="1" lang="it-IT" sz="2800" spc="-1" strike="noStrike">
                <a:solidFill>
                  <a:srgbClr val="336699"/>
                </a:solidFill>
                <a:latin typeface="Times New Roman"/>
              </a:rPr>
              <a:t> va scritto </a:t>
            </a: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23456.78 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Times New Roman"/>
              </a:rPr>
              <a:t>(non inserire il suddivisore di migliaia)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62320" y="541008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elp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ntestuale + e-mail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6699"/>
                </a:solidFill>
                <a:latin typeface="Times New Roman"/>
              </a:rPr>
              <a:t>Controllo incrociato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80880" y="2057400"/>
          <a:ext cx="8382240" cy="204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057400"/>
                    <a:ext cx="8382240" cy="20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457200" y="4114800"/>
            <a:ext cx="8305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ntrollo risultati: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 - Avanzo vincolato e non vincolato = avanzo esistente a fine esercizio precedente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54864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 - Avanzo esistente a fine esercizio = (entrate-spese )            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6699"/>
                </a:solidFill>
                <a:latin typeface="Times New Roman"/>
              </a:rPr>
              <a:t>Spedizione dati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7962840" cy="2533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600200" y="4594320"/>
            <a:ext cx="4600440" cy="2263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rot="5471400">
            <a:off x="609120" y="4495680"/>
            <a:ext cx="914400" cy="914400"/>
          </a:xfrm>
          <a:custGeom>
            <a:avLst/>
            <a:gdLst>
              <a:gd name="textAreaLeft" fmla="*/ 304920 w 914400"/>
              <a:gd name="textAreaRight" fmla="*/ 783360 w 914400"/>
              <a:gd name="textAreaTop" fmla="*/ 526680 h 914400"/>
              <a:gd name="textAreaBottom" fmla="*/ 783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05120" y="5943600"/>
            <a:ext cx="1218960" cy="304920"/>
          </a:xfrm>
          <a:prstGeom prst="rect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Times New Roman"/>
              </a:rPr>
              <a:t>Operazioni da svolgere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Immissione dal 15/10/04 – al 15/11/04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Compilazione per l’anno 2003 via web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Compilazione per l’anno 2004 via web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Spedizione anche del cartaceo tramite posta - snail mail -  (spedire insieme qualitativo-quantitativo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6699"/>
                </a:solidFill>
                <a:latin typeface="Times New Roman"/>
              </a:rPr>
              <a:t>Prospettive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905120"/>
            <a:ext cx="8305920" cy="38037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336699"/>
                </a:solidFill>
                <a:latin typeface="Times New Roman"/>
              </a:rPr>
              <a:t>Ricerca e fattibilità (quantitativo-qualitativo)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A regime = Analisi sincronica e diacronica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Memoria storica (per ogni Istituto)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Ipotesi di sviluppo:  </a:t>
            </a:r>
            <a:br>
              <a:rPr sz="2400"/>
            </a:b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it-IT" sz="2000" spc="-1" strike="noStrike">
                <a:solidFill>
                  <a:srgbClr val="ffff00"/>
                </a:solidFill>
                <a:latin typeface="Times New Roman"/>
              </a:rPr>
              <a:t>1 - Server</a:t>
            </a:r>
            <a:br>
              <a:rPr sz="2000"/>
            </a:br>
            <a:r>
              <a:rPr b="1" lang="it-IT" sz="2000" spc="-1" strike="noStrike">
                <a:solidFill>
                  <a:srgbClr val="ffff00"/>
                </a:solidFill>
                <a:latin typeface="Times New Roman"/>
              </a:rPr>
              <a:t>                        2 - Gestione dati</a:t>
            </a:r>
            <a:br>
              <a:rPr sz="2000"/>
            </a:br>
            <a:r>
              <a:rPr b="1" lang="it-IT" sz="2000" spc="-1" strike="noStrike">
                <a:solidFill>
                  <a:srgbClr val="ffff00"/>
                </a:solidFill>
                <a:latin typeface="Times New Roman"/>
              </a:rPr>
              <a:t>                        3 - Automatizzazione procedure calcolo statistico </a:t>
            </a:r>
            <a:br>
              <a:rPr sz="2000"/>
            </a:br>
            <a:r>
              <a:rPr b="1" lang="it-IT" sz="2000" spc="-1" strike="noStrike">
                <a:solidFill>
                  <a:srgbClr val="ffff00"/>
                </a:solidFill>
                <a:latin typeface="Times New Roman"/>
              </a:rPr>
              <a:t>                             immediatamente dopo l’immissione dati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                    </a:t>
            </a:r>
            <a:r>
              <a:rPr b="1" lang="it-IT" sz="2000" spc="-1" strike="noStrike">
                <a:solidFill>
                  <a:srgbClr val="ffff00"/>
                </a:solidFill>
                <a:latin typeface="Times New Roman"/>
              </a:rPr>
              <a:t>4- Area collaborativa DSGA (pagine gialle, repository)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2438280"/>
            <a:ext cx="6096240" cy="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13:27:46Z</dcterms:created>
  <dc:creator>roberto</dc:creator>
  <dc:description/>
  <dc:language>en-US</dc:language>
  <cp:lastModifiedBy>giancarlo.mariani.an</cp:lastModifiedBy>
  <dcterms:modified xsi:type="dcterms:W3CDTF">2004-11-19T11:25:11Z</dcterms:modified>
  <cp:revision>17</cp:revision>
  <dc:subject/>
  <dc:title>MSM inserimento dati bilancio</dc:title>
</cp:coreProperties>
</file>