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FCE-F14D-4BAC-ACA7-CBDEB744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C807-097B-4245-86F7-27A01C7C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B30-76B2-4033-8002-9B9CD216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E930-399F-4E8B-A009-0DF3015D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E77-E739-4815-B37C-5F4E9744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041-C0AA-4CA2-837B-B09E69BF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C3F-E299-4272-A49F-C18DC085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8CB-7DEC-471F-BAF5-9AB154BE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837-785C-4C57-8885-C165C2A3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F10C-A821-428F-AFC1-114DC017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4FB-6370-4008-99B3-0971345F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E80-0D4D-46AF-AA6C-5F533E99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1BC2-EF52-4AAC-B770-BD5909BC9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1676520"/>
            <a:ext cx="5029200" cy="3352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228600"/>
            <a:ext cx="33526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omic Sans MS"/>
              </a:rPr>
              <a:t>Ufficio Scolastico Regionale per le Mar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omic Sans MS"/>
              </a:rPr>
              <a:t>Direzione Gener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38680" y="228600"/>
            <a:ext cx="327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omic Sans MS"/>
              </a:rPr>
              <a:t>IRRE Mar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omic Sans MS"/>
              </a:rPr>
              <a:t>Istituto Regionale di Ricerca Educ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5334120"/>
            <a:ext cx="571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ITIS “VOLTERRA” - Torrette di Anc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30 settembr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0" y="1981080"/>
            <a:ext cx="1095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66880" y="2743200"/>
            <a:ext cx="914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8120" y="3505320"/>
            <a:ext cx="1143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505320" y="2438280"/>
            <a:ext cx="3047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onitoraggi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191120" y="4038480"/>
            <a:ext cx="2590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archigia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81280" y="32004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uol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990720"/>
            <a:ext cx="4419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Comic Sans MS"/>
              </a:rPr>
              <a:t>In collaborazione 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Comic Sans MS"/>
              </a:rPr>
              <a:t>l’Università Politecnica delle Mar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670-4B58-43F6-8513-9076F90235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 rot="998400">
            <a:off x="533160" y="2057400"/>
            <a:ext cx="609480" cy="1219320"/>
          </a:xfrm>
          <a:custGeom>
            <a:avLst/>
            <a:gdLst>
              <a:gd name="textAreaLeft" fmla="*/ 81360 w 609480"/>
              <a:gd name="textAreaRight" fmla="*/ 528120 w 60948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9f3b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484400">
            <a:off x="75960" y="914040"/>
            <a:ext cx="609480" cy="1219320"/>
          </a:xfrm>
          <a:custGeom>
            <a:avLst/>
            <a:gdLst>
              <a:gd name="textAreaLeft" fmla="*/ 81360 w 609480"/>
              <a:gd name="textAreaRight" fmla="*/ 528120 w 60948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4e2b4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52280" y="457200"/>
            <a:ext cx="4191120" cy="838080"/>
            <a:chOff x="152280" y="457200"/>
            <a:chExt cx="4191120" cy="838080"/>
          </a:xfrm>
        </p:grpSpPr>
        <p:sp>
          <p:nvSpPr>
            <p:cNvPr id="240" name=""/>
            <p:cNvSpPr/>
            <p:nvPr/>
          </p:nvSpPr>
          <p:spPr>
            <a:xfrm>
              <a:off x="152280" y="457200"/>
              <a:ext cx="4118760" cy="838080"/>
            </a:xfrm>
            <a:custGeom>
              <a:avLst/>
              <a:gdLst>
                <a:gd name="textAreaLeft" fmla="*/ 0 w 4118760"/>
                <a:gd name="textAreaRight" fmla="*/ 4119120 w 41187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3fd93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2280" y="609480"/>
              <a:ext cx="419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Comic Sans MS"/>
                </a:rPr>
                <a:t>Analisi qualitativ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1523880"/>
            <a:ext cx="3124080" cy="1143000"/>
            <a:chOff x="533520" y="1523880"/>
            <a:chExt cx="3124080" cy="1143000"/>
          </a:xfrm>
        </p:grpSpPr>
        <p:sp>
          <p:nvSpPr>
            <p:cNvPr id="243" name=""/>
            <p:cNvSpPr/>
            <p:nvPr/>
          </p:nvSpPr>
          <p:spPr>
            <a:xfrm>
              <a:off x="533520" y="1523880"/>
              <a:ext cx="3124080" cy="1143000"/>
            </a:xfrm>
            <a:prstGeom prst="ellipse">
              <a:avLst/>
            </a:prstGeom>
            <a:gradFill rotWithShape="0">
              <a:gsLst>
                <a:gs pos="0">
                  <a:srgbClr val="2efa8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14400" y="1523880"/>
              <a:ext cx="238716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è svol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in situazione</a:t>
              </a: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856080" y="2866680"/>
            <a:ext cx="4630320" cy="2924280"/>
            <a:chOff x="856080" y="2866680"/>
            <a:chExt cx="4630320" cy="2924280"/>
          </a:xfrm>
        </p:grpSpPr>
        <p:sp>
          <p:nvSpPr>
            <p:cNvPr id="246" name=""/>
            <p:cNvSpPr/>
            <p:nvPr/>
          </p:nvSpPr>
          <p:spPr>
            <a:xfrm>
              <a:off x="1447920" y="4190760"/>
              <a:ext cx="4038480" cy="1600200"/>
            </a:xfrm>
            <a:prstGeom prst="ellipse">
              <a:avLst/>
            </a:prstGeom>
            <a:gradFill rotWithShape="0">
              <a:gsLst>
                <a:gs pos="0">
                  <a:srgbClr val="a7e5eb"/>
                </a:gs>
                <a:gs pos="100000">
                  <a:srgbClr val="eaeaea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21409200">
              <a:off x="914400" y="2895480"/>
              <a:ext cx="1094040" cy="2133360"/>
            </a:xfrm>
            <a:custGeom>
              <a:avLst/>
              <a:gdLst>
                <a:gd name="textAreaLeft" fmla="*/ 146520 w 1094040"/>
                <a:gd name="textAreaRight" fmla="*/ 947520 w 1094040"/>
                <a:gd name="textAreaTop" fmla="*/ 373320 h 2133360"/>
                <a:gd name="textAreaBottom" fmla="*/ 1546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d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05120" y="4571640"/>
              <a:ext cx="336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sulla relazione tra Soggetti “con storia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 rot="1775400">
              <a:off x="914040" y="4267080"/>
              <a:ext cx="982800" cy="236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e soprattutto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990720" y="2666880"/>
            <a:ext cx="3809880" cy="1419840"/>
            <a:chOff x="990720" y="2666880"/>
            <a:chExt cx="3809880" cy="1419840"/>
          </a:xfrm>
        </p:grpSpPr>
        <p:sp>
          <p:nvSpPr>
            <p:cNvPr id="251" name=""/>
            <p:cNvSpPr/>
            <p:nvPr/>
          </p:nvSpPr>
          <p:spPr>
            <a:xfrm>
              <a:off x="990720" y="2666880"/>
              <a:ext cx="3062160" cy="1219320"/>
            </a:xfrm>
            <a:prstGeom prst="ellipse">
              <a:avLst/>
            </a:prstGeom>
            <a:gradFill rotWithShape="0">
              <a:gsLst>
                <a:gs pos="0">
                  <a:srgbClr val="fca2ed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43000" y="2895480"/>
              <a:ext cx="257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è fondata sull’osservaz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78360" y="2960640"/>
              <a:ext cx="822240" cy="555840"/>
            </a:xfrm>
            <a:custGeom>
              <a:avLst/>
              <a:gdLst>
                <a:gd name="textAreaLeft" fmla="*/ 128520 w 822240"/>
                <a:gd name="textAreaRight" fmla="*/ 719640 w 822240"/>
                <a:gd name="textAreaTop" fmla="*/ 138960 h 555840"/>
                <a:gd name="textAreaBottom" fmla="*/ 416880 h 55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ca2ed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4427640" y="3146400"/>
              <a:ext cx="223560" cy="184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di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6144840" y="6400800"/>
            <a:ext cx="19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000000"/>
                </a:solidFill>
                <a:latin typeface="Comic Sans MS"/>
              </a:rPr>
              <a:t>Bianca Maria Ventura</a:t>
            </a:r>
            <a:r>
              <a:rPr b="1" lang="it-IT" sz="800" spc="-1" strike="noStrike">
                <a:solidFill>
                  <a:srgbClr val="000000"/>
                </a:solidFill>
                <a:latin typeface="Comic Sans MS"/>
              </a:rPr>
              <a:t> - IRRE Mar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419720" y="304920"/>
            <a:ext cx="4495320" cy="2514600"/>
            <a:chOff x="4419720" y="304920"/>
            <a:chExt cx="4495320" cy="2514600"/>
          </a:xfrm>
        </p:grpSpPr>
        <p:sp>
          <p:nvSpPr>
            <p:cNvPr id="257" name=""/>
            <p:cNvSpPr/>
            <p:nvPr/>
          </p:nvSpPr>
          <p:spPr>
            <a:xfrm>
              <a:off x="4419720" y="304920"/>
              <a:ext cx="4495320" cy="2514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cf26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82800" y="376560"/>
              <a:ext cx="4168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Comic Sans MS"/>
                </a:rPr>
                <a:t>Approfondisce alcuni aspetti emergenti dall’analisi quantitativa attinenti al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724280" y="1371600"/>
            <a:ext cx="40388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gestione finanzi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qualità dell’organizz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qualità della didat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800600" y="2971800"/>
            <a:ext cx="2895480" cy="1402560"/>
            <a:chOff x="4800600" y="2971800"/>
            <a:chExt cx="2895480" cy="1402560"/>
          </a:xfrm>
        </p:grpSpPr>
        <p:sp>
          <p:nvSpPr>
            <p:cNvPr id="261" name=""/>
            <p:cNvSpPr/>
            <p:nvPr/>
          </p:nvSpPr>
          <p:spPr>
            <a:xfrm>
              <a:off x="4800600" y="2971800"/>
              <a:ext cx="205740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eafd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00600" y="3048120"/>
              <a:ext cx="289548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documen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even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azio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629400" y="4648320"/>
            <a:ext cx="2286000" cy="1600200"/>
            <a:chOff x="6629400" y="4648320"/>
            <a:chExt cx="2286000" cy="1600200"/>
          </a:xfrm>
        </p:grpSpPr>
        <p:sp>
          <p:nvSpPr>
            <p:cNvPr id="264" name=""/>
            <p:cNvSpPr/>
            <p:nvPr/>
          </p:nvSpPr>
          <p:spPr>
            <a:xfrm>
              <a:off x="6629400" y="4648320"/>
              <a:ext cx="2286000" cy="160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effb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34320" y="4876920"/>
              <a:ext cx="1752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difficoltà,  problemi, prospettiv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410080" y="2819520"/>
            <a:ext cx="2819520" cy="2286000"/>
            <a:chOff x="5410080" y="2819520"/>
            <a:chExt cx="2819520" cy="2286000"/>
          </a:xfrm>
        </p:grpSpPr>
        <p:sp>
          <p:nvSpPr>
            <p:cNvPr id="267" name=""/>
            <p:cNvSpPr/>
            <p:nvPr/>
          </p:nvSpPr>
          <p:spPr>
            <a:xfrm>
              <a:off x="8229600" y="2819520"/>
              <a:ext cx="0" cy="1676160"/>
            </a:xfrm>
            <a:prstGeom prst="line">
              <a:avLst/>
            </a:prstGeom>
            <a:ln w="76320">
              <a:solidFill>
                <a:srgbClr val="ffff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1143000" cy="0"/>
            </a:xfrm>
            <a:prstGeom prst="line">
              <a:avLst/>
            </a:prstGeom>
            <a:ln w="76320">
              <a:solidFill>
                <a:srgbClr val="ffff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438-060F-4FAB-B677-86FD765F13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846400" y="6400080"/>
            <a:ext cx="19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000000"/>
                </a:solidFill>
                <a:latin typeface="Comic Sans MS"/>
              </a:rPr>
              <a:t>Bianca Maria Ventura</a:t>
            </a:r>
            <a:r>
              <a:rPr b="1" lang="it-IT" sz="800" spc="-1" strike="noStrike">
                <a:solidFill>
                  <a:srgbClr val="000000"/>
                </a:solidFill>
                <a:latin typeface="Comic Sans MS"/>
              </a:rPr>
              <a:t> - IRRE Mar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590920" y="1447560"/>
            <a:ext cx="4343400" cy="2438280"/>
            <a:chOff x="2590920" y="1447560"/>
            <a:chExt cx="4343400" cy="2438280"/>
          </a:xfrm>
        </p:grpSpPr>
        <p:sp>
          <p:nvSpPr>
            <p:cNvPr id="271" name=""/>
            <p:cNvSpPr/>
            <p:nvPr/>
          </p:nvSpPr>
          <p:spPr>
            <a:xfrm flipV="1">
              <a:off x="2590920" y="1446840"/>
              <a:ext cx="4038480" cy="243828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-360 h 2438280"/>
                <a:gd name="textAreaBottom" fmla="*/ 243828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5100" y="4334"/>
                  </a:lnTo>
                  <a:lnTo>
                    <a:pt x="13000" y="4334"/>
                  </a:lnTo>
                  <a:lnTo>
                    <a:pt x="13000" y="8600"/>
                  </a:lnTo>
                  <a:lnTo>
                    <a:pt x="17266" y="8600"/>
                  </a:lnTo>
                  <a:lnTo>
                    <a:pt x="17266" y="6500"/>
                  </a:lnTo>
                  <a:lnTo>
                    <a:pt x="21600" y="10800"/>
                  </a:lnTo>
                  <a:lnTo>
                    <a:pt x="17266" y="15100"/>
                  </a:lnTo>
                  <a:lnTo>
                    <a:pt x="17266" y="13000"/>
                  </a:lnTo>
                  <a:lnTo>
                    <a:pt x="4334" y="13000"/>
                  </a:lnTo>
                  <a:lnTo>
                    <a:pt x="4334" y="15100"/>
                  </a:lnTo>
                  <a:lnTo>
                    <a:pt x="0" y="10800"/>
                  </a:lnTo>
                  <a:lnTo>
                    <a:pt x="4334" y="6500"/>
                  </a:lnTo>
                  <a:lnTo>
                    <a:pt x="4334" y="8600"/>
                  </a:lnTo>
                  <a:lnTo>
                    <a:pt x="8600" y="8600"/>
                  </a:lnTo>
                  <a:lnTo>
                    <a:pt x="8600" y="4334"/>
                  </a:lnTo>
                  <a:lnTo>
                    <a:pt x="6500" y="4334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f1e9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43200" y="1905120"/>
              <a:ext cx="419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Comic Sans MS"/>
                </a:rPr>
                <a:t>I punti di attenzi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590920" y="4038480"/>
            <a:ext cx="3809880" cy="2362320"/>
            <a:chOff x="2590920" y="4038480"/>
            <a:chExt cx="3809880" cy="2362320"/>
          </a:xfrm>
        </p:grpSpPr>
        <p:sp>
          <p:nvSpPr>
            <p:cNvPr id="274" name=""/>
            <p:cNvSpPr/>
            <p:nvPr/>
          </p:nvSpPr>
          <p:spPr>
            <a:xfrm>
              <a:off x="2590920" y="4038480"/>
              <a:ext cx="3809880" cy="2362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de3b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29160" y="4107240"/>
              <a:ext cx="3532680" cy="398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de3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Gestione finanzia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28600" y="228600"/>
            <a:ext cx="2286000" cy="4038120"/>
            <a:chOff x="228600" y="228600"/>
            <a:chExt cx="2286000" cy="4038120"/>
          </a:xfrm>
        </p:grpSpPr>
        <p:sp>
          <p:nvSpPr>
            <p:cNvPr id="277" name=""/>
            <p:cNvSpPr/>
            <p:nvPr/>
          </p:nvSpPr>
          <p:spPr>
            <a:xfrm>
              <a:off x="228600" y="228600"/>
              <a:ext cx="2286000" cy="403812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4038120"/>
                <a:gd name="textAreaBottom" fmla="*/ 3926520 h 4038120"/>
              </a:gdLst>
              <a:ahLst/>
              <a:rect l="textAreaLeft" t="textAreaTop" r="textAreaRight" b="textAreaBottom"/>
              <a:pathLst>
                <a:path w="21600" h="38153">
                  <a:moveTo>
                    <a:pt x="3600" y="0"/>
                  </a:moveTo>
                  <a:arcTo wR="3600" hR="3600" stAng="16200000" swAng="-5400000"/>
                  <a:lnTo>
                    <a:pt x="0" y="34553"/>
                  </a:lnTo>
                  <a:arcTo wR="3600" hR="3600" stAng="10800000" swAng="-5400000"/>
                  <a:lnTo>
                    <a:pt x="18000" y="381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ffc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0680" y="346320"/>
              <a:ext cx="2121480" cy="703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Qualità della didat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705720" y="228600"/>
            <a:ext cx="2209680" cy="4114800"/>
            <a:chOff x="6705720" y="228600"/>
            <a:chExt cx="2209680" cy="4114800"/>
          </a:xfrm>
        </p:grpSpPr>
        <p:sp>
          <p:nvSpPr>
            <p:cNvPr id="280" name=""/>
            <p:cNvSpPr/>
            <p:nvPr/>
          </p:nvSpPr>
          <p:spPr>
            <a:xfrm>
              <a:off x="6705720" y="228600"/>
              <a:ext cx="2209680" cy="4114800"/>
            </a:xfrm>
            <a:custGeom>
              <a:avLst/>
              <a:gdLst>
                <a:gd name="textAreaLeft" fmla="*/ 107640 w 2209680"/>
                <a:gd name="textAreaRight" fmla="*/ 2102040 w 2209680"/>
                <a:gd name="textAreaTop" fmla="*/ 107640 h 4114800"/>
                <a:gd name="textAreaBottom" fmla="*/ 4007160 h 4114800"/>
              </a:gdLst>
              <a:ahLst/>
              <a:rect l="textAreaLeft" t="textAreaTop" r="textAreaRight" b="textAreaBottom"/>
              <a:pathLst>
                <a:path w="21600" h="40220">
                  <a:moveTo>
                    <a:pt x="3600" y="0"/>
                  </a:moveTo>
                  <a:arcTo wR="3600" hR="3600" stAng="16200000" swAng="-5400000"/>
                  <a:lnTo>
                    <a:pt x="0" y="36620"/>
                  </a:lnTo>
                  <a:arcTo wR="3600" hR="3600" stAng="10800000" swAng="-5400000"/>
                  <a:lnTo>
                    <a:pt x="18000" y="402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db5f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82040" y="380880"/>
              <a:ext cx="2057400" cy="1008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db5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Qualità del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organizza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743200" y="4495680"/>
            <a:ext cx="36576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Scelte di impiego delle riso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ifficoltà incon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Fonti di finanziamento alternative a quelle stat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05720" y="1143000"/>
            <a:ext cx="20574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Il ruolo del cont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Metodi di gestione delle risorse   umane, strutturali e finanziar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Metodi per il controllo dei proc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1062720"/>
            <a:ext cx="2286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Diversificazione della didattica e delle occasione di apprend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personalizzazione dei percorsi format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ignificatività degli apprendi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953440" y="532800"/>
            <a:ext cx="3405600" cy="762480"/>
            <a:chOff x="2953440" y="532800"/>
            <a:chExt cx="3405600" cy="762480"/>
          </a:xfrm>
        </p:grpSpPr>
        <p:sp>
          <p:nvSpPr>
            <p:cNvPr id="286" name=""/>
            <p:cNvSpPr/>
            <p:nvPr/>
          </p:nvSpPr>
          <p:spPr>
            <a:xfrm>
              <a:off x="2953440" y="532800"/>
              <a:ext cx="3405600" cy="520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Comic Sans MS"/>
                </a:rPr>
                <a:t>Analisi qualitativ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48320" y="990720"/>
              <a:ext cx="0" cy="30456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7A3-05AC-4708-88AF-5B419BA698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6826320" y="376920"/>
            <a:ext cx="2585160" cy="3101760"/>
            <a:chOff x="6826320" y="376920"/>
            <a:chExt cx="2585160" cy="3101760"/>
          </a:xfrm>
        </p:grpSpPr>
        <p:sp>
          <p:nvSpPr>
            <p:cNvPr id="289" name=""/>
            <p:cNvSpPr/>
            <p:nvPr/>
          </p:nvSpPr>
          <p:spPr>
            <a:xfrm flipH="1" rot="19882800">
              <a:off x="7394400" y="555840"/>
              <a:ext cx="1447920" cy="2743200"/>
            </a:xfrm>
            <a:custGeom>
              <a:avLst/>
              <a:gdLst>
                <a:gd name="textAreaLeft" fmla="*/ 193680 w 1447920"/>
                <a:gd name="textAreaRight" fmla="*/ 1254240 w 1447920"/>
                <a:gd name="textAreaTop" fmla="*/ 479880 h 2743200"/>
                <a:gd name="textAreaBottom" fmla="*/ 198900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ddbe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 rot="18237000">
              <a:off x="7702920" y="2238480"/>
              <a:ext cx="1447920" cy="3124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costruiti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879800" y="842400"/>
            <a:ext cx="1687320" cy="2861640"/>
            <a:chOff x="4879800" y="842400"/>
            <a:chExt cx="1687320" cy="2861640"/>
          </a:xfrm>
        </p:grpSpPr>
        <p:sp>
          <p:nvSpPr>
            <p:cNvPr id="292" name=""/>
            <p:cNvSpPr/>
            <p:nvPr/>
          </p:nvSpPr>
          <p:spPr>
            <a:xfrm flipH="1" rot="307800">
              <a:off x="4998960" y="901440"/>
              <a:ext cx="1447920" cy="2743200"/>
            </a:xfrm>
            <a:custGeom>
              <a:avLst/>
              <a:gdLst>
                <a:gd name="textAreaLeft" fmla="*/ 193680 w 1447920"/>
                <a:gd name="textAreaRight" fmla="*/ 1254240 w 1447920"/>
                <a:gd name="textAreaTop" fmla="*/ 479880 h 2743200"/>
                <a:gd name="textAreaBottom" fmla="*/ 198900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ddbe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 rot="19897800">
              <a:off x="5024880" y="2668680"/>
              <a:ext cx="1447560" cy="3124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messi a punto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803920" y="748800"/>
            <a:ext cx="2162520" cy="3039840"/>
            <a:chOff x="5803920" y="748800"/>
            <a:chExt cx="2162520" cy="3039840"/>
          </a:xfrm>
        </p:grpSpPr>
        <p:sp>
          <p:nvSpPr>
            <p:cNvPr id="295" name=""/>
            <p:cNvSpPr/>
            <p:nvPr/>
          </p:nvSpPr>
          <p:spPr>
            <a:xfrm flipH="1" rot="20617200">
              <a:off x="6160680" y="897120"/>
              <a:ext cx="1447920" cy="2742840"/>
            </a:xfrm>
            <a:custGeom>
              <a:avLst/>
              <a:gdLst>
                <a:gd name="textAreaLeft" fmla="*/ 193680 w 1447920"/>
                <a:gd name="textAreaRight" fmla="*/ 1254240 w 1447920"/>
                <a:gd name="textAreaTop" fmla="*/ 479880 h 2742840"/>
                <a:gd name="textAreaBottom" fmla="*/ 1988640 h 274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ddbe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 rot="19050000">
              <a:off x="6381720" y="2608200"/>
              <a:ext cx="1447920" cy="3812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 testati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922720" y="6324120"/>
            <a:ext cx="19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000000"/>
                </a:solidFill>
                <a:latin typeface="Comic Sans MS"/>
              </a:rPr>
              <a:t>Bianca Maria Ventura</a:t>
            </a:r>
            <a:r>
              <a:rPr b="1" lang="it-IT" sz="800" spc="-1" strike="noStrike">
                <a:solidFill>
                  <a:srgbClr val="000000"/>
                </a:solidFill>
                <a:latin typeface="Comic Sans MS"/>
              </a:rPr>
              <a:t> - IRRE Mar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45960" y="419760"/>
            <a:ext cx="4402440" cy="1360800"/>
            <a:chOff x="345960" y="419760"/>
            <a:chExt cx="4402440" cy="1360800"/>
          </a:xfrm>
        </p:grpSpPr>
        <p:sp>
          <p:nvSpPr>
            <p:cNvPr id="299" name=""/>
            <p:cNvSpPr/>
            <p:nvPr/>
          </p:nvSpPr>
          <p:spPr>
            <a:xfrm rot="426600">
              <a:off x="381240" y="681120"/>
              <a:ext cx="4276080" cy="838080"/>
            </a:xfrm>
            <a:custGeom>
              <a:avLst/>
              <a:gdLst>
                <a:gd name="textAreaLeft" fmla="*/ 0 w 4276080"/>
                <a:gd name="textAreaRight" fmla="*/ 4276440 w 42760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3fd93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426600">
              <a:off x="381600" y="838080"/>
              <a:ext cx="435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Comic Sans MS"/>
                </a:rPr>
                <a:t>Noi ora siamo qu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876920" y="457200"/>
            <a:ext cx="3352320" cy="1523880"/>
            <a:chOff x="4876920" y="457200"/>
            <a:chExt cx="3352320" cy="1523880"/>
          </a:xfrm>
        </p:grpSpPr>
        <p:sp>
          <p:nvSpPr>
            <p:cNvPr id="302" name=""/>
            <p:cNvSpPr/>
            <p:nvPr/>
          </p:nvSpPr>
          <p:spPr>
            <a:xfrm>
              <a:off x="4876920" y="457200"/>
              <a:ext cx="3352320" cy="152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cc"/>
                </a:gs>
              </a:gsLst>
              <a:lin ang="5400000"/>
            </a:gradFill>
            <a:ln w="2844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55720" y="685800"/>
              <a:ext cx="2514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Strumenti per l’analisi quantitati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666880" y="2362320"/>
            <a:ext cx="2133720" cy="137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2844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9966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30 scu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4114800"/>
            <a:ext cx="2743200" cy="1523880"/>
          </a:xfrm>
          <a:prstGeom prst="ellipse">
            <a:avLst/>
          </a:prstGeom>
          <a:gradFill rotWithShape="0">
            <a:gsLst>
              <a:gs pos="0">
                <a:srgbClr val="fefbbc"/>
              </a:gs>
              <a:gs pos="100000">
                <a:srgbClr val="f09d6a"/>
              </a:gs>
            </a:gsLst>
            <a:lin ang="8100000"/>
          </a:gradFill>
          <a:ln w="2844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9966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niver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cu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archigi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523520" y="3048120"/>
            <a:ext cx="3886560" cy="1752480"/>
            <a:chOff x="1523520" y="3048120"/>
            <a:chExt cx="3886560" cy="1752480"/>
          </a:xfrm>
        </p:grpSpPr>
        <p:sp>
          <p:nvSpPr>
            <p:cNvPr id="307" name=""/>
            <p:cNvSpPr/>
            <p:nvPr/>
          </p:nvSpPr>
          <p:spPr>
            <a:xfrm flipH="1">
              <a:off x="1523520" y="304812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23880" y="3048120"/>
              <a:ext cx="0" cy="99036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09880" y="3733920"/>
              <a:ext cx="0" cy="1066680"/>
            </a:xfrm>
            <a:prstGeom prst="line">
              <a:avLst/>
            </a:prstGeom>
            <a:ln w="7632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09880" y="4800600"/>
              <a:ext cx="160020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410080" y="3835440"/>
            <a:ext cx="3092400" cy="2184480"/>
            <a:chOff x="5410080" y="3835440"/>
            <a:chExt cx="3092400" cy="2184480"/>
          </a:xfrm>
        </p:grpSpPr>
        <p:sp>
          <p:nvSpPr>
            <p:cNvPr id="312" name=""/>
            <p:cNvSpPr/>
            <p:nvPr/>
          </p:nvSpPr>
          <p:spPr>
            <a:xfrm>
              <a:off x="5410080" y="3835440"/>
              <a:ext cx="3092400" cy="2184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de3b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62720" y="5546880"/>
              <a:ext cx="2755800" cy="398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de3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0000"/>
                  </a:solidFill>
                  <a:latin typeface="Comic Sans MS"/>
                </a:rPr>
                <a:t>Analisi qualitati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486400" y="4648320"/>
            <a:ext cx="2852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54800" y="4071600"/>
            <a:ext cx="30556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mpilazione  questionario e modulo 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on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Elaborazione 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4B0-DA19-4D35-A6ED-0FEACD69CE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2590920" y="1828440"/>
            <a:ext cx="4343400" cy="2438280"/>
            <a:chOff x="2590920" y="1828440"/>
            <a:chExt cx="4343400" cy="2438280"/>
          </a:xfrm>
        </p:grpSpPr>
        <p:sp>
          <p:nvSpPr>
            <p:cNvPr id="317" name=""/>
            <p:cNvSpPr/>
            <p:nvPr/>
          </p:nvSpPr>
          <p:spPr>
            <a:xfrm flipV="1">
              <a:off x="2590920" y="1827720"/>
              <a:ext cx="4038480" cy="243828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-360 h 2438280"/>
                <a:gd name="textAreaBottom" fmla="*/ 243828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5100" y="4334"/>
                  </a:lnTo>
                  <a:lnTo>
                    <a:pt x="13000" y="4334"/>
                  </a:lnTo>
                  <a:lnTo>
                    <a:pt x="13000" y="8600"/>
                  </a:lnTo>
                  <a:lnTo>
                    <a:pt x="17266" y="8600"/>
                  </a:lnTo>
                  <a:lnTo>
                    <a:pt x="17266" y="6500"/>
                  </a:lnTo>
                  <a:lnTo>
                    <a:pt x="21600" y="10800"/>
                  </a:lnTo>
                  <a:lnTo>
                    <a:pt x="17266" y="15100"/>
                  </a:lnTo>
                  <a:lnTo>
                    <a:pt x="17266" y="13000"/>
                  </a:lnTo>
                  <a:lnTo>
                    <a:pt x="4334" y="13000"/>
                  </a:lnTo>
                  <a:lnTo>
                    <a:pt x="4334" y="15100"/>
                  </a:lnTo>
                  <a:lnTo>
                    <a:pt x="0" y="10800"/>
                  </a:lnTo>
                  <a:lnTo>
                    <a:pt x="4334" y="6500"/>
                  </a:lnTo>
                  <a:lnTo>
                    <a:pt x="4334" y="8600"/>
                  </a:lnTo>
                  <a:lnTo>
                    <a:pt x="8600" y="8600"/>
                  </a:lnTo>
                  <a:lnTo>
                    <a:pt x="8600" y="4334"/>
                  </a:lnTo>
                  <a:lnTo>
                    <a:pt x="6500" y="4334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f1e9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43200" y="2286000"/>
              <a:ext cx="419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it-IT" sz="2800" spc="-1" strike="noStrike">
                  <a:solidFill>
                    <a:srgbClr val="ff0000"/>
                  </a:solidFill>
                  <a:latin typeface="Comic Sans MS"/>
                </a:rPr>
                <a:t>Le questioni aper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048120" y="4419720"/>
            <a:ext cx="3124080" cy="1523880"/>
            <a:chOff x="3048120" y="4419720"/>
            <a:chExt cx="3124080" cy="1523880"/>
          </a:xfrm>
        </p:grpSpPr>
        <p:sp>
          <p:nvSpPr>
            <p:cNvPr id="320" name=""/>
            <p:cNvSpPr/>
            <p:nvPr/>
          </p:nvSpPr>
          <p:spPr>
            <a:xfrm>
              <a:off x="3048120" y="4419720"/>
              <a:ext cx="3124080" cy="1523880"/>
            </a:xfrm>
            <a:prstGeom prst="ellipse">
              <a:avLst/>
            </a:prstGeom>
            <a:gradFill rotWithShape="0">
              <a:gsLst>
                <a:gs pos="0">
                  <a:srgbClr val="2efa8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29000" y="4648320"/>
              <a:ext cx="2387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Passaggio dal campione all’univer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553080" y="1981080"/>
            <a:ext cx="2590920" cy="2165040"/>
            <a:chOff x="6553080" y="1981080"/>
            <a:chExt cx="2590920" cy="2165040"/>
          </a:xfrm>
        </p:grpSpPr>
        <p:sp>
          <p:nvSpPr>
            <p:cNvPr id="323" name=""/>
            <p:cNvSpPr/>
            <p:nvPr/>
          </p:nvSpPr>
          <p:spPr>
            <a:xfrm>
              <a:off x="6553080" y="1981080"/>
              <a:ext cx="2590920" cy="1752480"/>
            </a:xfrm>
            <a:prstGeom prst="ellipse">
              <a:avLst/>
            </a:prstGeom>
            <a:gradFill rotWithShape="0">
              <a:gsLst>
                <a:gs pos="0">
                  <a:srgbClr val="2efa8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58000" y="2222640"/>
              <a:ext cx="18050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Costituzione di un Gruppo regionale di monitoragg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6320" y="1905120"/>
            <a:ext cx="2514600" cy="1828440"/>
            <a:chOff x="76320" y="1905120"/>
            <a:chExt cx="2514600" cy="1828440"/>
          </a:xfrm>
        </p:grpSpPr>
        <p:sp>
          <p:nvSpPr>
            <p:cNvPr id="326" name=""/>
            <p:cNvSpPr/>
            <p:nvPr/>
          </p:nvSpPr>
          <p:spPr>
            <a:xfrm>
              <a:off x="76320" y="1905120"/>
              <a:ext cx="2514600" cy="1828440"/>
            </a:xfrm>
            <a:prstGeom prst="ellipse">
              <a:avLst/>
            </a:prstGeom>
            <a:gradFill rotWithShape="0">
              <a:gsLst>
                <a:gs pos="0">
                  <a:srgbClr val="2efa8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880" y="2058840"/>
              <a:ext cx="18655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Costituzione di una banca dati in interazione con le scu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048120" y="228600"/>
            <a:ext cx="3124080" cy="1523880"/>
            <a:chOff x="3048120" y="228600"/>
            <a:chExt cx="3124080" cy="1523880"/>
          </a:xfrm>
        </p:grpSpPr>
        <p:sp>
          <p:nvSpPr>
            <p:cNvPr id="329" name=""/>
            <p:cNvSpPr/>
            <p:nvPr/>
          </p:nvSpPr>
          <p:spPr>
            <a:xfrm>
              <a:off x="3048120" y="228600"/>
              <a:ext cx="3124080" cy="1523880"/>
            </a:xfrm>
            <a:prstGeom prst="ellipse">
              <a:avLst/>
            </a:prstGeom>
            <a:gradFill rotWithShape="0">
              <a:gsLst>
                <a:gs pos="0">
                  <a:srgbClr val="2efa8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29000" y="457200"/>
              <a:ext cx="2387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Costituzione di una rete di scu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371600" y="914400"/>
            <a:ext cx="6477120" cy="990720"/>
            <a:chOff x="1371600" y="914400"/>
            <a:chExt cx="6477120" cy="990720"/>
          </a:xfrm>
        </p:grpSpPr>
        <p:grpSp>
          <p:nvGrpSpPr>
            <p:cNvPr id="332" name=""/>
            <p:cNvGrpSpPr/>
            <p:nvPr/>
          </p:nvGrpSpPr>
          <p:grpSpPr>
            <a:xfrm>
              <a:off x="1371600" y="914400"/>
              <a:ext cx="1600200" cy="990720"/>
              <a:chOff x="1371600" y="914400"/>
              <a:chExt cx="1600200" cy="990720"/>
            </a:xfrm>
          </p:grpSpPr>
          <p:sp>
            <p:nvSpPr>
              <p:cNvPr id="333" name=""/>
              <p:cNvSpPr/>
              <p:nvPr/>
            </p:nvSpPr>
            <p:spPr>
              <a:xfrm flipV="1">
                <a:off x="1371600" y="914400"/>
                <a:ext cx="0" cy="99072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371600" y="914400"/>
                <a:ext cx="16002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477120" y="990720"/>
              <a:ext cx="1371600" cy="914400"/>
              <a:chOff x="6477120" y="990720"/>
              <a:chExt cx="1371600" cy="914400"/>
            </a:xfrm>
          </p:grpSpPr>
          <p:sp>
            <p:nvSpPr>
              <p:cNvPr id="336" name=""/>
              <p:cNvSpPr/>
              <p:nvPr/>
            </p:nvSpPr>
            <p:spPr>
              <a:xfrm flipV="1">
                <a:off x="7848720" y="990720"/>
                <a:ext cx="0" cy="91440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6477120" y="99072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3906-50E5-4CF2-AF71-ED8F335474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rot="14638800">
            <a:off x="4136040" y="992520"/>
            <a:ext cx="747720" cy="2590560"/>
          </a:xfrm>
          <a:custGeom>
            <a:avLst/>
            <a:gdLst>
              <a:gd name="textAreaLeft" fmla="*/ 100080 w 747720"/>
              <a:gd name="textAreaRight" fmla="*/ 647640 w 74772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8887200">
            <a:off x="990000" y="3428640"/>
            <a:ext cx="990360" cy="2057400"/>
          </a:xfrm>
          <a:custGeom>
            <a:avLst/>
            <a:gdLst>
              <a:gd name="textAreaLeft" fmla="*/ 132480 w 990360"/>
              <a:gd name="textAreaRight" fmla="*/ 857880 w 99036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3327600">
            <a:off x="4571280" y="4419720"/>
            <a:ext cx="990720" cy="2057400"/>
          </a:xfrm>
          <a:custGeom>
            <a:avLst/>
            <a:gdLst>
              <a:gd name="textAreaLeft" fmla="*/ 132480 w 990720"/>
              <a:gd name="textAreaRight" fmla="*/ 858240 w 99072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483400">
            <a:off x="7620120" y="2438280"/>
            <a:ext cx="914400" cy="183852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1480 h 1838520"/>
              <a:gd name="textAreaBottom" fmla="*/ 1333080 h 183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7995800">
            <a:off x="6567120" y="526680"/>
            <a:ext cx="762120" cy="1523880"/>
          </a:xfrm>
          <a:custGeom>
            <a:avLst/>
            <a:gdLst>
              <a:gd name="textAreaLeft" fmla="*/ 101880 w 762120"/>
              <a:gd name="textAreaRight" fmla="*/ 660240 w 76212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64771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000000"/>
                </a:solidFill>
                <a:latin typeface="Comic Sans MS"/>
              </a:rPr>
              <a:t>Bianca Maria Ventura</a:t>
            </a:r>
            <a:r>
              <a:rPr b="1" lang="it-IT" sz="800" spc="-1" strike="noStrike">
                <a:solidFill>
                  <a:srgbClr val="000000"/>
                </a:solidFill>
                <a:latin typeface="Comic Sans MS"/>
              </a:rPr>
              <a:t> - IRRE Mar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257800" y="2133720"/>
            <a:ext cx="2743200" cy="1523880"/>
            <a:chOff x="5257800" y="2133720"/>
            <a:chExt cx="2743200" cy="1523880"/>
          </a:xfrm>
        </p:grpSpPr>
        <p:sp>
          <p:nvSpPr>
            <p:cNvPr id="59" name=""/>
            <p:cNvSpPr/>
            <p:nvPr/>
          </p:nvSpPr>
          <p:spPr>
            <a:xfrm>
              <a:off x="5257800" y="2133720"/>
              <a:ext cx="2743200" cy="15238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62720" y="2209680"/>
              <a:ext cx="22096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Comic Sans MS"/>
                </a:rPr>
                <a:t>Che cosa   si intende f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181480" y="4114800"/>
            <a:ext cx="2743200" cy="1523880"/>
            <a:chOff x="5181480" y="4114800"/>
            <a:chExt cx="2743200" cy="1523880"/>
          </a:xfrm>
        </p:grpSpPr>
        <p:sp>
          <p:nvSpPr>
            <p:cNvPr id="62" name=""/>
            <p:cNvSpPr/>
            <p:nvPr/>
          </p:nvSpPr>
          <p:spPr>
            <a:xfrm>
              <a:off x="5181480" y="4114800"/>
              <a:ext cx="2743200" cy="1523880"/>
            </a:xfrm>
            <a:prstGeom prst="ellipse">
              <a:avLst/>
            </a:prstGeom>
            <a:gradFill rotWithShape="0">
              <a:gsLst>
                <a:gs pos="0">
                  <a:srgbClr val="66ff66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86400" y="4419720"/>
              <a:ext cx="2209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Comic Sans MS"/>
                </a:rPr>
                <a:t>Con quali finalit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219320" y="2209680"/>
            <a:ext cx="2743200" cy="1524240"/>
            <a:chOff x="1219320" y="2209680"/>
            <a:chExt cx="2743200" cy="1524240"/>
          </a:xfrm>
        </p:grpSpPr>
        <p:sp>
          <p:nvSpPr>
            <p:cNvPr id="65" name=""/>
            <p:cNvSpPr/>
            <p:nvPr/>
          </p:nvSpPr>
          <p:spPr>
            <a:xfrm>
              <a:off x="1219320" y="2209680"/>
              <a:ext cx="2743200" cy="152424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23880" y="2438280"/>
              <a:ext cx="22100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Comic Sans MS"/>
                </a:rPr>
                <a:t>Con qual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Comic Sans MS"/>
                </a:rPr>
                <a:t>strument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23880" y="4267080"/>
            <a:ext cx="2743200" cy="1524240"/>
            <a:chOff x="1523880" y="4267080"/>
            <a:chExt cx="2743200" cy="1524240"/>
          </a:xfrm>
        </p:grpSpPr>
        <p:sp>
          <p:nvSpPr>
            <p:cNvPr id="68" name=""/>
            <p:cNvSpPr/>
            <p:nvPr/>
          </p:nvSpPr>
          <p:spPr>
            <a:xfrm>
              <a:off x="1523880" y="4267080"/>
              <a:ext cx="2743200" cy="15242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52480" y="4343400"/>
              <a:ext cx="22100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Comic Sans MS"/>
                </a:rPr>
                <a:t>Quali sono  i soggetti coinvolt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666880" y="533520"/>
            <a:ext cx="3962520" cy="947160"/>
            <a:chOff x="2666880" y="533520"/>
            <a:chExt cx="3962520" cy="947160"/>
          </a:xfrm>
        </p:grpSpPr>
        <p:sp>
          <p:nvSpPr>
            <p:cNvPr id="71" name=""/>
            <p:cNvSpPr/>
            <p:nvPr/>
          </p:nvSpPr>
          <p:spPr>
            <a:xfrm>
              <a:off x="2666880" y="533520"/>
              <a:ext cx="396252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ffff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95480" y="533520"/>
              <a:ext cx="3505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LA FILOSOFIA DEL PROGET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CF9-B919-473E-B932-34087C2C7B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 rot="2853000">
            <a:off x="1896840" y="1455480"/>
            <a:ext cx="1141560" cy="1735200"/>
          </a:xfrm>
          <a:custGeom>
            <a:avLst/>
            <a:gdLst>
              <a:gd name="textAreaLeft" fmla="*/ 152640 w 1141560"/>
              <a:gd name="textAreaRight" fmla="*/ 988920 w 1141560"/>
              <a:gd name="textAreaTop" fmla="*/ 303480 h 1735200"/>
              <a:gd name="textAreaBottom" fmla="*/ 1258200 h 17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99040" y="6477120"/>
            <a:ext cx="19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000000"/>
                </a:solidFill>
                <a:latin typeface="Comic Sans MS"/>
              </a:rPr>
              <a:t>Bianca Maria Ventura</a:t>
            </a:r>
            <a:r>
              <a:rPr b="1" lang="it-IT" sz="800" spc="-1" strike="noStrike">
                <a:solidFill>
                  <a:srgbClr val="000000"/>
                </a:solidFill>
                <a:latin typeface="Comic Sans MS"/>
              </a:rPr>
              <a:t> - IRRE Mar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4191120"/>
            <a:ext cx="0" cy="457200"/>
          </a:xfrm>
          <a:prstGeom prst="line">
            <a:avLst/>
          </a:prstGeom>
          <a:ln cap="rnd" w="76320">
            <a:solidFill>
              <a:srgbClr val="ffff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549520" y="5005080"/>
            <a:ext cx="3890880" cy="413640"/>
            <a:chOff x="2549520" y="5005080"/>
            <a:chExt cx="3890880" cy="413640"/>
          </a:xfrm>
        </p:grpSpPr>
        <p:sp>
          <p:nvSpPr>
            <p:cNvPr id="77" name=""/>
            <p:cNvSpPr/>
            <p:nvPr/>
          </p:nvSpPr>
          <p:spPr>
            <a:xfrm>
              <a:off x="2549520" y="5005080"/>
              <a:ext cx="692280" cy="35352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751720" y="5020200"/>
              <a:ext cx="688680" cy="39852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133720" y="309240"/>
            <a:ext cx="5317560" cy="1819800"/>
            <a:chOff x="2133720" y="309240"/>
            <a:chExt cx="5317560" cy="1819800"/>
          </a:xfrm>
        </p:grpSpPr>
        <p:sp>
          <p:nvSpPr>
            <p:cNvPr id="80" name=""/>
            <p:cNvSpPr/>
            <p:nvPr/>
          </p:nvSpPr>
          <p:spPr>
            <a:xfrm rot="20660400">
              <a:off x="6477120" y="380520"/>
              <a:ext cx="761760" cy="1676520"/>
            </a:xfrm>
            <a:custGeom>
              <a:avLst/>
              <a:gdLst>
                <a:gd name="textAreaLeft" fmla="*/ 101880 w 761760"/>
                <a:gd name="textAreaRight" fmla="*/ 659880 w 761760"/>
                <a:gd name="textAreaTop" fmla="*/ 293400 h 1676520"/>
                <a:gd name="textAreaBottom" fmla="*/ 121572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3720" y="380880"/>
              <a:ext cx="457200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380880"/>
              <a:ext cx="4190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Comic Sans MS"/>
                </a:rPr>
                <a:t>CHE COSA SI INTENDE F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590920" y="1523880"/>
            <a:ext cx="3886200" cy="1600200"/>
            <a:chOff x="2590920" y="1523880"/>
            <a:chExt cx="3886200" cy="1600200"/>
          </a:xfrm>
        </p:grpSpPr>
        <p:sp>
          <p:nvSpPr>
            <p:cNvPr id="84" name=""/>
            <p:cNvSpPr/>
            <p:nvPr/>
          </p:nvSpPr>
          <p:spPr>
            <a:xfrm>
              <a:off x="2590920" y="1523880"/>
              <a:ext cx="3886200" cy="1600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99"/>
                </a:gs>
              </a:gsLst>
              <a:lin ang="10800000"/>
            </a:gradFill>
            <a:ln w="2844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1676520"/>
              <a:ext cx="3200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Acquisire una serie di informazioni sulla scuola marchigia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286000" y="3200400"/>
            <a:ext cx="4572000" cy="1085040"/>
            <a:chOff x="2286000" y="3200400"/>
            <a:chExt cx="4572000" cy="1085040"/>
          </a:xfrm>
        </p:grpSpPr>
        <p:sp>
          <p:nvSpPr>
            <p:cNvPr id="87" name=""/>
            <p:cNvSpPr/>
            <p:nvPr/>
          </p:nvSpPr>
          <p:spPr>
            <a:xfrm>
              <a:off x="2286000" y="3200400"/>
              <a:ext cx="45720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62320" y="3276720"/>
              <a:ext cx="426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Comic Sans MS"/>
                </a:rPr>
                <a:t>Conoscere le condizioni di esercizio dell’autonomia da parte delle scu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200400" y="4724280"/>
            <a:ext cx="2590920" cy="1219320"/>
            <a:chOff x="3200400" y="4724280"/>
            <a:chExt cx="2590920" cy="1219320"/>
          </a:xfrm>
        </p:grpSpPr>
        <p:sp>
          <p:nvSpPr>
            <p:cNvPr id="90" name=""/>
            <p:cNvSpPr/>
            <p:nvPr/>
          </p:nvSpPr>
          <p:spPr>
            <a:xfrm>
              <a:off x="3200400" y="4724280"/>
              <a:ext cx="2590920" cy="121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00400" y="4800600"/>
              <a:ext cx="2514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GESTIO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DELLE RISORSE FINANZIAR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447920" y="3429000"/>
            <a:ext cx="6172200" cy="762120"/>
            <a:chOff x="1447920" y="3429000"/>
            <a:chExt cx="6172200" cy="762120"/>
          </a:xfrm>
        </p:grpSpPr>
        <p:sp>
          <p:nvSpPr>
            <p:cNvPr id="93" name=""/>
            <p:cNvSpPr/>
            <p:nvPr/>
          </p:nvSpPr>
          <p:spPr>
            <a:xfrm flipH="1">
              <a:off x="1447920" y="3429000"/>
              <a:ext cx="838080" cy="0"/>
            </a:xfrm>
            <a:prstGeom prst="line">
              <a:avLst/>
            </a:prstGeom>
            <a:ln cap="rnd" w="7632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47920" y="3429000"/>
              <a:ext cx="0" cy="762120"/>
            </a:xfrm>
            <a:prstGeom prst="line">
              <a:avLst/>
            </a:prstGeom>
            <a:ln cap="rnd" w="76320">
              <a:solidFill>
                <a:srgbClr val="ffff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857640" y="3429000"/>
              <a:ext cx="762120" cy="0"/>
            </a:xfrm>
            <a:prstGeom prst="line">
              <a:avLst/>
            </a:prstGeom>
            <a:ln cap="rnd" w="7632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620120" y="3429000"/>
              <a:ext cx="0" cy="762120"/>
            </a:xfrm>
            <a:prstGeom prst="line">
              <a:avLst/>
            </a:prstGeom>
            <a:ln cap="rnd" w="76320">
              <a:solidFill>
                <a:srgbClr val="ffff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447920" y="5486400"/>
            <a:ext cx="6172200" cy="533520"/>
            <a:chOff x="1447920" y="5486400"/>
            <a:chExt cx="6172200" cy="533520"/>
          </a:xfrm>
        </p:grpSpPr>
        <p:sp>
          <p:nvSpPr>
            <p:cNvPr id="98" name=""/>
            <p:cNvSpPr/>
            <p:nvPr/>
          </p:nvSpPr>
          <p:spPr>
            <a:xfrm flipV="1">
              <a:off x="1447920" y="548640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47920" y="6019920"/>
              <a:ext cx="617220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7620120" y="548640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28600" y="4343400"/>
            <a:ext cx="2438280" cy="990720"/>
            <a:chOff x="228600" y="4343400"/>
            <a:chExt cx="2438280" cy="990720"/>
          </a:xfrm>
        </p:grpSpPr>
        <p:sp>
          <p:nvSpPr>
            <p:cNvPr id="102" name=""/>
            <p:cNvSpPr/>
            <p:nvPr/>
          </p:nvSpPr>
          <p:spPr>
            <a:xfrm>
              <a:off x="228600" y="4343400"/>
              <a:ext cx="2438280" cy="9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520" y="4495680"/>
              <a:ext cx="18968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omic Sans MS"/>
                </a:rPr>
                <a:t>SCELT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omic Sans MS"/>
                </a:rPr>
                <a:t>DIDATTI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321600" y="4343400"/>
            <a:ext cx="2593800" cy="990720"/>
            <a:chOff x="6321600" y="4343400"/>
            <a:chExt cx="2593800" cy="990720"/>
          </a:xfrm>
        </p:grpSpPr>
        <p:sp>
          <p:nvSpPr>
            <p:cNvPr id="105" name=""/>
            <p:cNvSpPr/>
            <p:nvPr/>
          </p:nvSpPr>
          <p:spPr>
            <a:xfrm>
              <a:off x="6321600" y="4343400"/>
              <a:ext cx="2593800" cy="9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53080" y="4419720"/>
              <a:ext cx="22100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omic Sans MS"/>
                </a:rPr>
                <a:t>SCEL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omic Sans MS"/>
                </a:rPr>
                <a:t>ORGANIZZ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77B-5F8E-4FFE-93CA-2262AB74AA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2286000" y="228600"/>
            <a:ext cx="4495320" cy="1676520"/>
            <a:chOff x="2286000" y="228600"/>
            <a:chExt cx="4495320" cy="1676520"/>
          </a:xfrm>
        </p:grpSpPr>
        <p:sp>
          <p:nvSpPr>
            <p:cNvPr id="108" name=""/>
            <p:cNvSpPr/>
            <p:nvPr/>
          </p:nvSpPr>
          <p:spPr>
            <a:xfrm>
              <a:off x="2939760" y="228600"/>
              <a:ext cx="3432960" cy="1676520"/>
            </a:xfrm>
            <a:prstGeom prst="downArrowCallout">
              <a:avLst>
                <a:gd name="adj1" fmla="val 51196"/>
                <a:gd name="adj2" fmla="val 5119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6000" y="228600"/>
              <a:ext cx="4495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Comic Sans MS"/>
                </a:rPr>
                <a:t>  </a:t>
              </a:r>
              <a:r>
                <a:rPr b="1" lang="it-IT" sz="2400" spc="-1" strike="noStrike">
                  <a:solidFill>
                    <a:srgbClr val="ff0000"/>
                  </a:solidFill>
                  <a:latin typeface="Comic Sans MS"/>
                </a:rPr>
                <a:t>CON  QUA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it-IT" sz="2400" spc="-1" strike="noStrike">
                  <a:solidFill>
                    <a:srgbClr val="ff0000"/>
                  </a:solidFill>
                  <a:latin typeface="Comic Sans MS"/>
                </a:rPr>
                <a:t>FINALIT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666880" y="2286000"/>
            <a:ext cx="3962160" cy="838080"/>
            <a:chOff x="2666880" y="2286000"/>
            <a:chExt cx="3962160" cy="838080"/>
          </a:xfrm>
        </p:grpSpPr>
        <p:sp>
          <p:nvSpPr>
            <p:cNvPr id="111" name=""/>
            <p:cNvSpPr/>
            <p:nvPr/>
          </p:nvSpPr>
          <p:spPr>
            <a:xfrm>
              <a:off x="2666880" y="2286000"/>
              <a:ext cx="3962160" cy="83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2844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54960" y="2462400"/>
              <a:ext cx="318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3333cc"/>
                  </a:solidFill>
                  <a:latin typeface="Comic Sans MS"/>
                </a:rPr>
                <a:t>Conoscenz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34960" y="3757680"/>
            <a:ext cx="3884400" cy="2147760"/>
            <a:chOff x="534960" y="3757680"/>
            <a:chExt cx="3884400" cy="2147760"/>
          </a:xfrm>
        </p:grpSpPr>
        <p:sp>
          <p:nvSpPr>
            <p:cNvPr id="114" name=""/>
            <p:cNvSpPr/>
            <p:nvPr/>
          </p:nvSpPr>
          <p:spPr>
            <a:xfrm>
              <a:off x="534960" y="3757680"/>
              <a:ext cx="3884400" cy="2147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df9d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9520" y="383400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Comic Sans MS"/>
                </a:rPr>
                <a:t>UFFICIO SCOLASTICO REGIO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87240" y="4547160"/>
            <a:ext cx="37134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Ricevere indicazioni e acquis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elementi di conoscenza c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ispirino le politiche scolast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regio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648320" y="3733920"/>
            <a:ext cx="3962160" cy="2209680"/>
            <a:chOff x="4648320" y="3733920"/>
            <a:chExt cx="3962160" cy="2209680"/>
          </a:xfrm>
        </p:grpSpPr>
        <p:sp>
          <p:nvSpPr>
            <p:cNvPr id="118" name=""/>
            <p:cNvSpPr/>
            <p:nvPr/>
          </p:nvSpPr>
          <p:spPr>
            <a:xfrm>
              <a:off x="4648320" y="3733920"/>
              <a:ext cx="3962160" cy="220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8320" y="3880800"/>
              <a:ext cx="39621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Comic Sans MS"/>
                </a:rPr>
                <a:t>ISTITUZIONI SCOLASTICHE DELLA REG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58280" y="4497840"/>
            <a:ext cx="34725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noscersi  e farsi conosce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per progettarsi, migliorarsi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struire sinergie efficace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orientate al comp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75000" y="6400080"/>
            <a:ext cx="19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000000"/>
                </a:solidFill>
                <a:latin typeface="Comic Sans MS"/>
              </a:rPr>
              <a:t>Bianca Maria Ventura</a:t>
            </a:r>
            <a:r>
              <a:rPr b="1" lang="it-IT" sz="800" spc="-1" strike="noStrike">
                <a:solidFill>
                  <a:srgbClr val="000000"/>
                </a:solidFill>
                <a:latin typeface="Comic Sans MS"/>
              </a:rPr>
              <a:t> - IRRE Mar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6320" y="152280"/>
            <a:ext cx="3429000" cy="3200040"/>
            <a:chOff x="76320" y="152280"/>
            <a:chExt cx="3429000" cy="3200040"/>
          </a:xfrm>
        </p:grpSpPr>
        <p:sp>
          <p:nvSpPr>
            <p:cNvPr id="123" name=""/>
            <p:cNvSpPr/>
            <p:nvPr/>
          </p:nvSpPr>
          <p:spPr>
            <a:xfrm>
              <a:off x="76320" y="152280"/>
              <a:ext cx="3429000" cy="320004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3520" y="1112400"/>
              <a:ext cx="2514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r>
                <a:rPr b="1" i="1" lang="it-IT" sz="1400" spc="-1" strike="noStrike">
                  <a:solidFill>
                    <a:srgbClr val="000000"/>
                  </a:solidFill>
                  <a:latin typeface="Comic Sans MS"/>
                </a:rPr>
                <a:t>La sapienza è insieme scienza ed intelligenza delle cose che per loro natura sono più degne di onore.      </a:t>
              </a:r>
              <a:r>
                <a:rPr b="1" lang="it-IT" sz="1400" spc="-1" strike="noStrike">
                  <a:solidFill>
                    <a:srgbClr val="000000"/>
                  </a:solidFill>
                  <a:latin typeface="Comic Sans MS"/>
                </a:rPr>
                <a:t>Aristote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666880" y="2666880"/>
            <a:ext cx="4038480" cy="1066680"/>
            <a:chOff x="2666880" y="2666880"/>
            <a:chExt cx="4038480" cy="1066680"/>
          </a:xfrm>
        </p:grpSpPr>
        <p:sp>
          <p:nvSpPr>
            <p:cNvPr id="126" name=""/>
            <p:cNvSpPr/>
            <p:nvPr/>
          </p:nvSpPr>
          <p:spPr>
            <a:xfrm>
              <a:off x="2666880" y="2733480"/>
              <a:ext cx="0" cy="100008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05360" y="2666880"/>
              <a:ext cx="0" cy="100008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867280" y="457200"/>
            <a:ext cx="3124440" cy="2971800"/>
            <a:chOff x="5867280" y="457200"/>
            <a:chExt cx="3124440" cy="2971800"/>
          </a:xfrm>
        </p:grpSpPr>
        <p:sp>
          <p:nvSpPr>
            <p:cNvPr id="129" name=""/>
            <p:cNvSpPr/>
            <p:nvPr/>
          </p:nvSpPr>
          <p:spPr>
            <a:xfrm>
              <a:off x="5867280" y="457200"/>
              <a:ext cx="3124440" cy="297180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480" y="1447920"/>
              <a:ext cx="221004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00"/>
                  </a:solidFill>
                  <a:latin typeface="Comic Sans MS"/>
                </a:rPr>
                <a:t>A ciascun uomo è concesso di conoscere se stesso e migliorars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omic Sans MS"/>
                </a:rPr>
                <a:t>Eracli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191120" y="4876920"/>
            <a:ext cx="685800" cy="304560"/>
          </a:xfrm>
          <a:prstGeom prst="leftRightArrow">
            <a:avLst>
              <a:gd name="adj1" fmla="val 50000"/>
              <a:gd name="adj2" fmla="val 44827"/>
            </a:avLst>
          </a:prstGeom>
          <a:gradFill rotWithShape="0">
            <a:gsLst>
              <a:gs pos="0">
                <a:srgbClr val="99ffcc"/>
              </a:gs>
              <a:gs pos="100000">
                <a:srgbClr val="ff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C78-8124-4A80-AD5C-4C37EDE6F6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2620440" y="1104840"/>
            <a:ext cx="3980880" cy="5119560"/>
            <a:chOff x="2620440" y="1104840"/>
            <a:chExt cx="3980880" cy="5119560"/>
          </a:xfrm>
        </p:grpSpPr>
        <p:sp>
          <p:nvSpPr>
            <p:cNvPr id="133" name=""/>
            <p:cNvSpPr/>
            <p:nvPr/>
          </p:nvSpPr>
          <p:spPr>
            <a:xfrm rot="6112800">
              <a:off x="5181120" y="4648320"/>
              <a:ext cx="685800" cy="205740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360000 h 2057400"/>
                <a:gd name="textAreaBottom" fmla="*/ 149184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gradFill rotWithShape="0">
              <a:gsLst>
                <a:gs pos="0">
                  <a:srgbClr val="00ffcc"/>
                </a:gs>
                <a:gs pos="100000">
                  <a:srgbClr val="ffcc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860000">
              <a:off x="3352680" y="608760"/>
              <a:ext cx="685800" cy="205740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360000 h 2057400"/>
                <a:gd name="textAreaBottom" fmla="*/ 149184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gradFill rotWithShape="0">
              <a:gsLst>
                <a:gs pos="0">
                  <a:srgbClr val="00ffcc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922720" y="6400800"/>
            <a:ext cx="19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000000"/>
                </a:solidFill>
                <a:latin typeface="Comic Sans MS"/>
              </a:rPr>
              <a:t>Bianca Maria Ventura</a:t>
            </a:r>
            <a:r>
              <a:rPr b="1" lang="it-IT" sz="800" spc="-1" strike="noStrike">
                <a:solidFill>
                  <a:srgbClr val="000000"/>
                </a:solidFill>
                <a:latin typeface="Comic Sans MS"/>
              </a:rPr>
              <a:t> - IRRE Mar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948280" y="1295280"/>
            <a:ext cx="2890800" cy="4876200"/>
            <a:chOff x="5948280" y="1295280"/>
            <a:chExt cx="2890800" cy="4876200"/>
          </a:xfrm>
        </p:grpSpPr>
        <p:sp>
          <p:nvSpPr>
            <p:cNvPr id="137" name=""/>
            <p:cNvSpPr/>
            <p:nvPr/>
          </p:nvSpPr>
          <p:spPr>
            <a:xfrm>
              <a:off x="5948280" y="1295280"/>
              <a:ext cx="2890800" cy="4876200"/>
            </a:xfrm>
            <a:custGeom>
              <a:avLst/>
              <a:gdLst>
                <a:gd name="textAreaLeft" fmla="*/ 141120 w 2890800"/>
                <a:gd name="textAreaRight" fmla="*/ 2749680 w 2890800"/>
                <a:gd name="textAreaTop" fmla="*/ 141120 h 4876200"/>
                <a:gd name="textAreaBottom" fmla="*/ 4735080 h 4876200"/>
              </a:gdLst>
              <a:ahLst/>
              <a:rect l="textAreaLeft" t="textAreaTop" r="textAreaRight" b="textAreaBottom"/>
              <a:pathLst>
                <a:path w="21600" h="36433">
                  <a:moveTo>
                    <a:pt x="3600" y="0"/>
                  </a:moveTo>
                  <a:arcTo wR="3600" hR="3600" stAng="16200000" swAng="-5400000"/>
                  <a:lnTo>
                    <a:pt x="0" y="32833"/>
                  </a:lnTo>
                  <a:arcTo wR="3600" hR="3600" stAng="10800000" swAng="-5400000"/>
                  <a:lnTo>
                    <a:pt x="18000" y="364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df9d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74720" y="1468440"/>
              <a:ext cx="255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Comic Sans MS"/>
                </a:rPr>
                <a:t>SISTEMA DI VALUTAZIO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28600" y="1219320"/>
            <a:ext cx="2895480" cy="4952160"/>
            <a:chOff x="228600" y="1219320"/>
            <a:chExt cx="2895480" cy="4952160"/>
          </a:xfrm>
        </p:grpSpPr>
        <p:sp>
          <p:nvSpPr>
            <p:cNvPr id="140" name=""/>
            <p:cNvSpPr/>
            <p:nvPr/>
          </p:nvSpPr>
          <p:spPr>
            <a:xfrm>
              <a:off x="228600" y="1219320"/>
              <a:ext cx="2895480" cy="4952160"/>
            </a:xfrm>
            <a:custGeom>
              <a:avLst/>
              <a:gdLst>
                <a:gd name="textAreaLeft" fmla="*/ 141120 w 2895480"/>
                <a:gd name="textAreaRight" fmla="*/ 2754360 w 2895480"/>
                <a:gd name="textAreaTop" fmla="*/ 141120 h 4952160"/>
                <a:gd name="textAreaBottom" fmla="*/ 4811040 h 4952160"/>
              </a:gdLst>
              <a:ahLst/>
              <a:rect l="textAreaLeft" t="textAreaTop" r="textAreaRight" b="textAreaBottom"/>
              <a:pathLst>
                <a:path w="21600" h="36941">
                  <a:moveTo>
                    <a:pt x="3600" y="0"/>
                  </a:moveTo>
                  <a:arcTo wR="3600" hR="3600" stAng="16200000" swAng="-5400000"/>
                  <a:lnTo>
                    <a:pt x="0" y="33341"/>
                  </a:lnTo>
                  <a:arcTo wR="3600" hR="3600" stAng="10800000" swAng="-5400000"/>
                  <a:lnTo>
                    <a:pt x="18000" y="369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" y="1549080"/>
              <a:ext cx="28954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Comic Sans MS"/>
                </a:rPr>
                <a:t>AUTOANALI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600200" y="76212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2497320"/>
            <a:ext cx="29718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ttivato  dagli stessi operatori della scuola in linea con il Piano dell’Offerta Form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volto a cogliere non i singoli fenomeni entro il sistema formativo, ma l’evoluzione dell’azione educativa nel tempo tanto da costruirne una “memoria storic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975320"/>
            <a:ext cx="289548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me analisi sistematica, svolta in  momenti e con modalità diverse, di tutte le variabili che sostanziano il servizio scola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ha funzione diagnostica delle eventuali disfunzioni o disservi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è volta alla individuazione delle ipotesi corret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2895480"/>
            <a:ext cx="2352960" cy="1789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Attivazione d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process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miglior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380880"/>
            <a:ext cx="73152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EVOLUZIONE  DEL  MONITORAG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676520" y="838080"/>
            <a:ext cx="5790960" cy="304920"/>
            <a:chOff x="1676520" y="838080"/>
            <a:chExt cx="5790960" cy="304920"/>
          </a:xfrm>
        </p:grpSpPr>
        <p:sp>
          <p:nvSpPr>
            <p:cNvPr id="148" name=""/>
            <p:cNvSpPr/>
            <p:nvPr/>
          </p:nvSpPr>
          <p:spPr>
            <a:xfrm>
              <a:off x="7467480" y="83808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6520" y="83808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AC2-2A5E-45E1-98F2-5DBCB6EB8C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76320" y="380880"/>
            <a:ext cx="4190760" cy="1066680"/>
            <a:chOff x="76320" y="380880"/>
            <a:chExt cx="4190760" cy="1066680"/>
          </a:xfrm>
        </p:grpSpPr>
        <p:sp>
          <p:nvSpPr>
            <p:cNvPr id="151" name=""/>
            <p:cNvSpPr/>
            <p:nvPr/>
          </p:nvSpPr>
          <p:spPr>
            <a:xfrm>
              <a:off x="457200" y="380880"/>
              <a:ext cx="3505320" cy="799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320" y="380880"/>
              <a:ext cx="419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it-IT" sz="2800" spc="-1" strike="noStrike">
                  <a:solidFill>
                    <a:srgbClr val="ff0000"/>
                  </a:solidFill>
                  <a:latin typeface="Comic Sans MS"/>
                </a:rPr>
                <a:t>I Soggetti coinvolt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33720" y="1180800"/>
              <a:ext cx="0" cy="266760"/>
            </a:xfrm>
            <a:prstGeom prst="line">
              <a:avLst/>
            </a:prstGeom>
            <a:ln w="7632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922720" y="6400800"/>
            <a:ext cx="19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000000"/>
                </a:solidFill>
                <a:latin typeface="Comic Sans MS"/>
              </a:rPr>
              <a:t>Bianca Maria Ventura</a:t>
            </a:r>
            <a:r>
              <a:rPr b="1" lang="it-IT" sz="800" spc="-1" strike="noStrike">
                <a:solidFill>
                  <a:srgbClr val="000000"/>
                </a:solidFill>
                <a:latin typeface="Comic Sans MS"/>
              </a:rPr>
              <a:t> - IRRE Mar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133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41560" y="1951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57200" y="2514600"/>
            <a:ext cx="4191120" cy="944640"/>
            <a:chOff x="457200" y="2514600"/>
            <a:chExt cx="4191120" cy="944640"/>
          </a:xfrm>
        </p:grpSpPr>
        <p:sp>
          <p:nvSpPr>
            <p:cNvPr id="158" name=""/>
            <p:cNvSpPr/>
            <p:nvPr/>
          </p:nvSpPr>
          <p:spPr>
            <a:xfrm>
              <a:off x="457200" y="2514600"/>
              <a:ext cx="4191120" cy="914400"/>
            </a:xfrm>
            <a:custGeom>
              <a:avLst/>
              <a:gdLst>
                <a:gd name="textAreaLeft" fmla="*/ 0 w 4191120"/>
                <a:gd name="textAreaRight" fmla="*/ 4191480 w 41911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520" y="2673720"/>
              <a:ext cx="37321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ISTITUZIONI SCOLASTIC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della Regione Mar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7200" y="3581280"/>
            <a:ext cx="4267080" cy="2755800"/>
            <a:chOff x="457200" y="3581280"/>
            <a:chExt cx="4267080" cy="2755800"/>
          </a:xfrm>
        </p:grpSpPr>
        <p:sp>
          <p:nvSpPr>
            <p:cNvPr id="161" name=""/>
            <p:cNvSpPr/>
            <p:nvPr/>
          </p:nvSpPr>
          <p:spPr>
            <a:xfrm>
              <a:off x="457200" y="3581280"/>
              <a:ext cx="4267080" cy="275580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2755800"/>
                <a:gd name="textAreaBottom" fmla="*/ 2756160 h 27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" y="3617280"/>
              <a:ext cx="37335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omic Sans MS"/>
                </a:rPr>
                <a:t>COMITATO  SCIENTIFIC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omic Sans MS"/>
                </a:rPr>
                <a:t>INTERISTITUZIONAL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16920" y="1523880"/>
            <a:ext cx="4093560" cy="838080"/>
            <a:chOff x="4516920" y="1523880"/>
            <a:chExt cx="4093560" cy="838080"/>
          </a:xfrm>
        </p:grpSpPr>
        <p:sp>
          <p:nvSpPr>
            <p:cNvPr id="164" name=""/>
            <p:cNvSpPr/>
            <p:nvPr/>
          </p:nvSpPr>
          <p:spPr>
            <a:xfrm>
              <a:off x="4647960" y="1523880"/>
              <a:ext cx="396252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16920" y="1751760"/>
              <a:ext cx="387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Promozione del Monitoragg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57200" y="1523880"/>
            <a:ext cx="4114800" cy="850680"/>
            <a:chOff x="457200" y="1523880"/>
            <a:chExt cx="4114800" cy="850680"/>
          </a:xfrm>
        </p:grpSpPr>
        <p:sp>
          <p:nvSpPr>
            <p:cNvPr id="167" name=""/>
            <p:cNvSpPr/>
            <p:nvPr/>
          </p:nvSpPr>
          <p:spPr>
            <a:xfrm>
              <a:off x="457200" y="1523880"/>
              <a:ext cx="4114800" cy="83808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2200" y="1589040"/>
              <a:ext cx="33231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Ufficio Scolastico Regio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DIREZIONE GENER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572000" y="380880"/>
            <a:ext cx="4191120" cy="990360"/>
            <a:chOff x="4572000" y="380880"/>
            <a:chExt cx="4191120" cy="990360"/>
          </a:xfrm>
        </p:grpSpPr>
        <p:sp>
          <p:nvSpPr>
            <p:cNvPr id="170" name=""/>
            <p:cNvSpPr/>
            <p:nvPr/>
          </p:nvSpPr>
          <p:spPr>
            <a:xfrm>
              <a:off x="4724280" y="380880"/>
              <a:ext cx="3733920" cy="742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380880"/>
              <a:ext cx="419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Comic Sans MS"/>
                </a:rPr>
                <a:t>I ruoli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05720" y="1123560"/>
              <a:ext cx="0" cy="247680"/>
            </a:xfrm>
            <a:prstGeom prst="line">
              <a:avLst/>
            </a:prstGeom>
            <a:ln w="7632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614480" y="2590920"/>
            <a:ext cx="4071960" cy="838080"/>
            <a:chOff x="4614480" y="2590920"/>
            <a:chExt cx="4071960" cy="838080"/>
          </a:xfrm>
        </p:grpSpPr>
        <p:sp>
          <p:nvSpPr>
            <p:cNvPr id="174" name=""/>
            <p:cNvSpPr/>
            <p:nvPr/>
          </p:nvSpPr>
          <p:spPr>
            <a:xfrm>
              <a:off x="4802760" y="2590920"/>
              <a:ext cx="388368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14480" y="2632680"/>
              <a:ext cx="382788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Oggetto “attivo” dell’analis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i="1" lang="it-IT" sz="1600" spc="-1" strike="noStrike">
                  <a:solidFill>
                    <a:srgbClr val="000000"/>
                  </a:solidFill>
                  <a:latin typeface="Comic Sans MS"/>
                </a:rPr>
                <a:t>(soggetti di relazio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876920" y="3809880"/>
            <a:ext cx="358128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033080"/>
            <a:ext cx="36576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struzione degli strumenti di rilevazione e di anali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volgimento dell’edizione 2004 -2005 del monitoraggio nella forma della ricerca-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4256640"/>
            <a:ext cx="342900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Ufficio Scolastico Regi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Università Politecnica delle Marc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Università di Urb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Dirigenti Scolastici e Direttori SGA in serviz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IRRE Mar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9CF-B509-45A8-9379-FBCCBE01AE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2590920" y="1523880"/>
            <a:ext cx="3886200" cy="1447920"/>
            <a:chOff x="2590920" y="1523880"/>
            <a:chExt cx="3886200" cy="1447920"/>
          </a:xfrm>
        </p:grpSpPr>
        <p:sp>
          <p:nvSpPr>
            <p:cNvPr id="180" name=""/>
            <p:cNvSpPr/>
            <p:nvPr/>
          </p:nvSpPr>
          <p:spPr>
            <a:xfrm>
              <a:off x="2590920" y="1523880"/>
              <a:ext cx="3886200" cy="144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2844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71800" y="18288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800" spc="-1" strike="noStrike">
                  <a:solidFill>
                    <a:srgbClr val="3333cc"/>
                  </a:solidFill>
                  <a:latin typeface="Comic Sans MS"/>
                </a:rPr>
                <a:t>Mediazion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572000" y="2971800"/>
            <a:ext cx="0" cy="1066680"/>
          </a:xfrm>
          <a:prstGeom prst="line">
            <a:avLst/>
          </a:prstGeom>
          <a:ln w="572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80880" y="2438280"/>
            <a:ext cx="8305920" cy="1676520"/>
            <a:chOff x="380880" y="2438280"/>
            <a:chExt cx="8305920" cy="1676520"/>
          </a:xfrm>
        </p:grpSpPr>
        <p:sp>
          <p:nvSpPr>
            <p:cNvPr id="184" name=""/>
            <p:cNvSpPr/>
            <p:nvPr/>
          </p:nvSpPr>
          <p:spPr>
            <a:xfrm>
              <a:off x="380880" y="2438280"/>
              <a:ext cx="3810240" cy="167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/>
                </a:gs>
              </a:gsLst>
              <a:lin ang="5400000"/>
            </a:gradFill>
            <a:ln w="2844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76920" y="2514600"/>
              <a:ext cx="3809880" cy="160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2844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4120" y="2590920"/>
              <a:ext cx="3200400" cy="14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9900"/>
                  </a:solidFill>
                  <a:latin typeface="Comic Sans MS"/>
                </a:rPr>
                <a:t>Esigenza di standardizzazio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omic Sans MS"/>
                </a:rPr>
                <a:t>[ MIUR e sue articolazioni periferiche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2590920"/>
              <a:ext cx="33530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cc0099"/>
                  </a:solidFill>
                  <a:latin typeface="Comic Sans MS"/>
                </a:rPr>
                <a:t>Autonomia progettuale</a:t>
              </a:r>
              <a:r>
                <a:rPr b="0" i="1" lang="it-IT" sz="2800" spc="-1" strike="noStrike">
                  <a:solidFill>
                    <a:srgbClr val="cc0099"/>
                  </a:solidFill>
                  <a:latin typeface="Comic Sans M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omic Sans MS"/>
                </a:rPr>
                <a:t>[ Istituzioni scolastiche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362320" y="380880"/>
            <a:ext cx="4800600" cy="914400"/>
            <a:chOff x="2362320" y="380880"/>
            <a:chExt cx="4800600" cy="914400"/>
          </a:xfrm>
        </p:grpSpPr>
        <p:sp>
          <p:nvSpPr>
            <p:cNvPr id="189" name=""/>
            <p:cNvSpPr/>
            <p:nvPr/>
          </p:nvSpPr>
          <p:spPr>
            <a:xfrm>
              <a:off x="2438280" y="380880"/>
              <a:ext cx="457200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62320" y="457200"/>
              <a:ext cx="480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Comic Sans MS"/>
                </a:rPr>
                <a:t>Il ruolo dell’ I.R.R.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143000" y="4191120"/>
            <a:ext cx="6781680" cy="220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22720" y="6400800"/>
            <a:ext cx="19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000000"/>
                </a:solidFill>
                <a:latin typeface="Comic Sans MS"/>
              </a:rPr>
              <a:t>Bianca Maria Ventura</a:t>
            </a:r>
            <a:r>
              <a:rPr b="1" lang="it-IT" sz="800" spc="-1" strike="noStrike">
                <a:solidFill>
                  <a:srgbClr val="000000"/>
                </a:solidFill>
                <a:latin typeface="Comic Sans MS"/>
              </a:rPr>
              <a:t> - IRRE Mar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191120"/>
            <a:ext cx="716256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Ricerca-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Sostegno alle attività di form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Sostegno alle attività di proget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Divulgazione delle “buone pratich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struzione dei materiali per il monitoraggio e l’autoanalisi e per la didat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1295280"/>
            <a:ext cx="0" cy="228600"/>
          </a:xfrm>
          <a:prstGeom prst="line">
            <a:avLst/>
          </a:prstGeom>
          <a:ln w="572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EBAF-89CA-4E97-86DD-E649A272B9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rot="1880400">
            <a:off x="217080" y="2133720"/>
            <a:ext cx="773280" cy="1604880"/>
          </a:xfrm>
          <a:custGeom>
            <a:avLst/>
            <a:gdLst>
              <a:gd name="textAreaLeft" fmla="*/ 103320 w 773280"/>
              <a:gd name="textAreaRight" fmla="*/ 669960 w 773280"/>
              <a:gd name="textAreaTop" fmla="*/ 280800 h 1604880"/>
              <a:gd name="textAreaBottom" fmla="*/ 1163520 h 16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22720" y="6400800"/>
            <a:ext cx="19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000000"/>
                </a:solidFill>
                <a:latin typeface="Comic Sans MS"/>
              </a:rPr>
              <a:t>Bianca Maria Ventura</a:t>
            </a:r>
            <a:r>
              <a:rPr b="1" lang="it-IT" sz="800" spc="-1" strike="noStrike">
                <a:solidFill>
                  <a:srgbClr val="000000"/>
                </a:solidFill>
                <a:latin typeface="Comic Sans MS"/>
              </a:rPr>
              <a:t> - IRRE Mar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20350200">
            <a:off x="8000640" y="2209320"/>
            <a:ext cx="838080" cy="1524240"/>
          </a:xfrm>
          <a:custGeom>
            <a:avLst/>
            <a:gdLst>
              <a:gd name="textAreaLeft" fmla="*/ 112320 w 838080"/>
              <a:gd name="textAreaRight" fmla="*/ 725760 w 83808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c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04920"/>
            <a:ext cx="716256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… </a:t>
            </a:r>
            <a:r>
              <a:rPr b="1" i="1" lang="it-IT" sz="2000" spc="-1" strike="noStrike">
                <a:solidFill>
                  <a:srgbClr val="ff0000"/>
                </a:solidFill>
                <a:latin typeface="Comic Sans MS"/>
              </a:rPr>
              <a:t>nel caso specifico del</a:t>
            </a:r>
            <a:r>
              <a:rPr b="1" i="1" lang="it-IT" sz="3200" spc="-1" strike="noStrike">
                <a:solidFill>
                  <a:srgbClr val="ff0000"/>
                </a:solidFill>
                <a:latin typeface="Comic Sans MS"/>
              </a:rPr>
              <a:t> Monitorag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95280" y="1447920"/>
            <a:ext cx="6553440" cy="1676160"/>
            <a:chOff x="1295280" y="1447920"/>
            <a:chExt cx="6553440" cy="1676160"/>
          </a:xfrm>
        </p:grpSpPr>
        <p:grpSp>
          <p:nvGrpSpPr>
            <p:cNvPr id="200" name=""/>
            <p:cNvGrpSpPr/>
            <p:nvPr/>
          </p:nvGrpSpPr>
          <p:grpSpPr>
            <a:xfrm>
              <a:off x="1295280" y="1447920"/>
              <a:ext cx="6553440" cy="1676160"/>
              <a:chOff x="1295280" y="1447920"/>
              <a:chExt cx="6553440" cy="1676160"/>
            </a:xfrm>
          </p:grpSpPr>
          <p:sp>
            <p:nvSpPr>
              <p:cNvPr id="201" name=""/>
              <p:cNvSpPr/>
              <p:nvPr/>
            </p:nvSpPr>
            <p:spPr>
              <a:xfrm>
                <a:off x="2743200" y="1447920"/>
                <a:ext cx="3657600" cy="1676160"/>
              </a:xfrm>
              <a:custGeom>
                <a:avLst/>
                <a:gdLst>
                  <a:gd name="textAreaLeft" fmla="*/ 914400 w 3657600"/>
                  <a:gd name="textAreaRight" fmla="*/ 2743200 w 3657600"/>
                  <a:gd name="textAreaTop" fmla="*/ 0 h 1676160"/>
                  <a:gd name="textAreaBottom" fmla="*/ 1676520 h 167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16200" y="0"/>
                    </a:lnTo>
                    <a:lnTo>
                      <a:pt x="16200" y="8100"/>
                    </a:lnTo>
                    <a:lnTo>
                      <a:pt x="18900" y="8100"/>
                    </a:lnTo>
                    <a:lnTo>
                      <a:pt x="18900" y="5500"/>
                    </a:lnTo>
                    <a:lnTo>
                      <a:pt x="21600" y="10800"/>
                    </a:lnTo>
                    <a:lnTo>
                      <a:pt x="18900" y="16100"/>
                    </a:lnTo>
                    <a:lnTo>
                      <a:pt x="18900" y="13500"/>
                    </a:lnTo>
                    <a:lnTo>
                      <a:pt x="16200" y="13500"/>
                    </a:lnTo>
                    <a:lnTo>
                      <a:pt x="16200" y="21600"/>
                    </a:lnTo>
                    <a:lnTo>
                      <a:pt x="5400" y="21600"/>
                    </a:lnTo>
                    <a:lnTo>
                      <a:pt x="5400" y="13500"/>
                    </a:lnTo>
                    <a:lnTo>
                      <a:pt x="2700" y="13500"/>
                    </a:lnTo>
                    <a:lnTo>
                      <a:pt x="2700" y="16100"/>
                    </a:lnTo>
                    <a:lnTo>
                      <a:pt x="0" y="10800"/>
                    </a:lnTo>
                    <a:lnTo>
                      <a:pt x="2700" y="5500"/>
                    </a:lnTo>
                    <a:lnTo>
                      <a:pt x="2700" y="8100"/>
                    </a:lnTo>
                    <a:lnTo>
                      <a:pt x="5400" y="81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5280" y="2286000"/>
                <a:ext cx="65534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3505320" y="1981080"/>
              <a:ext cx="21654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800" spc="-1" strike="noStrike">
                  <a:solidFill>
                    <a:srgbClr val="ff0000"/>
                  </a:solidFill>
                  <a:latin typeface="Comic Sans MS"/>
                </a:rPr>
                <a:t>Mediazione</a:t>
              </a:r>
              <a:r>
                <a:rPr b="0" i="1" lang="it-IT" sz="18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572000" y="1066680"/>
            <a:ext cx="0" cy="30492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1600200"/>
            <a:ext cx="2133720" cy="137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2844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9966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339966"/>
                </a:solidFill>
                <a:latin typeface="Comic Sans MS"/>
              </a:rPr>
              <a:t>Coordi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3276720"/>
            <a:ext cx="3200400" cy="2819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57200" y="1676520"/>
            <a:ext cx="2133720" cy="1371600"/>
            <a:chOff x="457200" y="1676520"/>
            <a:chExt cx="2133720" cy="1371600"/>
          </a:xfrm>
        </p:grpSpPr>
        <p:sp>
          <p:nvSpPr>
            <p:cNvPr id="208" name=""/>
            <p:cNvSpPr/>
            <p:nvPr/>
          </p:nvSpPr>
          <p:spPr>
            <a:xfrm>
              <a:off x="457200" y="1676520"/>
              <a:ext cx="2133720" cy="137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cc"/>
                </a:gs>
              </a:gsLst>
              <a:lin ang="5400000"/>
            </a:gradFill>
            <a:ln w="2844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1752480"/>
              <a:ext cx="160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cc3399"/>
                  </a:solidFill>
                  <a:latin typeface="Comic Sans MS"/>
                </a:rPr>
                <a:t>Contributo</a:t>
              </a:r>
              <a:r>
                <a:rPr b="0" lang="it-IT" sz="2400" spc="-1" strike="noStrike">
                  <a:solidFill>
                    <a:srgbClr val="cc3399"/>
                  </a:solidFill>
                  <a:latin typeface="Comic Sans MS"/>
                </a:rPr>
                <a:t> nella fase ideati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876920" y="3276720"/>
            <a:ext cx="3124080" cy="2819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3346560"/>
            <a:ext cx="31244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el proge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egli strumenti di anali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elle modalità di svolgimento delle operazioni di monitoragg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2971800"/>
            <a:ext cx="304812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del Comitato Scientifico Interistitu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della formazione del Gruppo di Ricerca che svolgerà il monitoragg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delle operazioni di monitoraggio edizione 2004-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4572000"/>
            <a:ext cx="685800" cy="304920"/>
          </a:xfrm>
          <a:prstGeom prst="leftRightArrow">
            <a:avLst>
              <a:gd name="adj1" fmla="val 50000"/>
              <a:gd name="adj2" fmla="val 44774"/>
            </a:avLst>
          </a:prstGeom>
          <a:gradFill rotWithShape="0">
            <a:gsLst>
              <a:gs pos="0">
                <a:srgbClr val="ccffcc"/>
              </a:gs>
              <a:gs pos="100000">
                <a:srgbClr val="ffcccc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8E7-3535-415F-86A7-E462557DA3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rot="17807400">
            <a:off x="3845160" y="5374800"/>
            <a:ext cx="772920" cy="1604880"/>
          </a:xfrm>
          <a:custGeom>
            <a:avLst/>
            <a:gdLst>
              <a:gd name="textAreaLeft" fmla="*/ 103320 w 772920"/>
              <a:gd name="textAreaRight" fmla="*/ 669600 w 772920"/>
              <a:gd name="textAreaTop" fmla="*/ 280800 h 1604880"/>
              <a:gd name="textAreaBottom" fmla="*/ 1163520 h 16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286000" y="533520"/>
            <a:ext cx="4800600" cy="1600200"/>
            <a:chOff x="2286000" y="533520"/>
            <a:chExt cx="4800600" cy="1600200"/>
          </a:xfrm>
        </p:grpSpPr>
        <p:sp>
          <p:nvSpPr>
            <p:cNvPr id="216" name=""/>
            <p:cNvSpPr/>
            <p:nvPr/>
          </p:nvSpPr>
          <p:spPr>
            <a:xfrm>
              <a:off x="2743200" y="533520"/>
              <a:ext cx="3657600" cy="1600200"/>
            </a:xfrm>
            <a:custGeom>
              <a:avLst/>
              <a:gdLst>
                <a:gd name="textAreaLeft" fmla="*/ 914400 w 3657600"/>
                <a:gd name="textAreaRight" fmla="*/ 2743200 w 365760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86000" y="1066680"/>
              <a:ext cx="480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cc3300"/>
                  </a:solidFill>
                  <a:latin typeface="Comic Sans MS"/>
                </a:rPr>
                <a:t>Gli strument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-208800" y="685800"/>
            <a:ext cx="9444240" cy="2146320"/>
            <a:chOff x="-208800" y="685800"/>
            <a:chExt cx="9444240" cy="2146320"/>
          </a:xfrm>
        </p:grpSpPr>
        <p:sp>
          <p:nvSpPr>
            <p:cNvPr id="219" name=""/>
            <p:cNvSpPr/>
            <p:nvPr/>
          </p:nvSpPr>
          <p:spPr>
            <a:xfrm rot="1880400">
              <a:off x="151920" y="1143000"/>
              <a:ext cx="773280" cy="1604880"/>
            </a:xfrm>
            <a:custGeom>
              <a:avLst/>
              <a:gdLst>
                <a:gd name="textAreaLeft" fmla="*/ 103320 w 773280"/>
                <a:gd name="textAreaRight" fmla="*/ 669960 w 773280"/>
                <a:gd name="textAreaTop" fmla="*/ 280800 h 1604880"/>
                <a:gd name="textAreaBottom" fmla="*/ 1163520 h 160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0350200">
              <a:off x="8153280" y="1142640"/>
              <a:ext cx="838440" cy="1523880"/>
            </a:xfrm>
            <a:custGeom>
              <a:avLst/>
              <a:gdLst>
                <a:gd name="textAreaLeft" fmla="*/ 112320 w 838440"/>
                <a:gd name="textAreaRight" fmla="*/ 726120 w 838440"/>
                <a:gd name="textAreaTop" fmla="*/ 266400 h 1523880"/>
                <a:gd name="textAreaBottom" fmla="*/ 11048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3520" y="762120"/>
              <a:ext cx="2133360" cy="137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2844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9480" y="106668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3399"/>
                  </a:solidFill>
                  <a:latin typeface="Comic Sans MS"/>
                </a:rPr>
                <a:t>Analisi quantitati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77120" y="685800"/>
              <a:ext cx="2133360" cy="137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2844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990720"/>
              <a:ext cx="213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339933"/>
                  </a:solidFill>
                  <a:latin typeface="Comic Sans MS"/>
                </a:rPr>
                <a:t>Analisi qualitati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57200" y="2514600"/>
            <a:ext cx="3581280" cy="4038120"/>
            <a:chOff x="457200" y="2514600"/>
            <a:chExt cx="3581280" cy="4038120"/>
          </a:xfrm>
        </p:grpSpPr>
        <p:sp>
          <p:nvSpPr>
            <p:cNvPr id="226" name=""/>
            <p:cNvSpPr/>
            <p:nvPr/>
          </p:nvSpPr>
          <p:spPr>
            <a:xfrm>
              <a:off x="457200" y="2514600"/>
              <a:ext cx="3581280" cy="3733920"/>
            </a:xfrm>
            <a:custGeom>
              <a:avLst/>
              <a:gdLst>
                <a:gd name="textAreaLeft" fmla="*/ 174600 w 3581280"/>
                <a:gd name="textAreaRight" fmla="*/ 3406680 w 3581280"/>
                <a:gd name="textAreaTop" fmla="*/ 174600 h 3733920"/>
                <a:gd name="textAreaBottom" fmla="*/ 3559320 h 3733920"/>
              </a:gdLst>
              <a:ahLst/>
              <a:rect l="textAreaLeft" t="textAreaTop" r="textAreaRight" b="textAreaBottom"/>
              <a:pathLst>
                <a:path w="21600" h="22521">
                  <a:moveTo>
                    <a:pt x="3600" y="0"/>
                  </a:moveTo>
                  <a:arcTo wR="3600" hR="3600" stAng="16200000" swAng="-5400000"/>
                  <a:lnTo>
                    <a:pt x="0" y="18921"/>
                  </a:lnTo>
                  <a:arcTo wR="3600" hR="3600" stAng="10800000" swAng="-5400000"/>
                  <a:lnTo>
                    <a:pt x="18000" y="225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9480" y="2514600"/>
              <a:ext cx="3276720" cy="40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0000"/>
                  </a:solidFill>
                  <a:latin typeface="Comic Sans MS"/>
                </a:rPr>
                <a:t>QUESTIONA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aspetti organizzativi e didatti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0000"/>
                  </a:solidFill>
                  <a:latin typeface="Comic Sans MS"/>
                </a:rPr>
                <a:t>MODULO </a:t>
              </a:r>
              <a:r>
                <a:rPr b="1" i="1" lang="it-IT" sz="2000" spc="-1" strike="noStrike">
                  <a:solidFill>
                    <a:srgbClr val="ff0000"/>
                  </a:solidFill>
                  <a:latin typeface="Comic Sans MS"/>
                </a:rPr>
                <a:t>ON LINE</a:t>
              </a:r>
              <a:r>
                <a:rPr b="1" lang="it-IT" sz="2000" spc="-1" strike="noStrike">
                  <a:solidFill>
                    <a:srgbClr val="ff0000"/>
                  </a:solidFill>
                  <a:latin typeface="Comic Sans MS"/>
                </a:rPr>
                <a:t> ACQUISIZIONE DA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aspetti contabi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221160" y="6491160"/>
            <a:ext cx="19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" spc="-1" strike="noStrike">
                <a:solidFill>
                  <a:srgbClr val="000000"/>
                </a:solidFill>
                <a:latin typeface="Comic Sans MS"/>
              </a:rPr>
              <a:t>Bianca Maria Ventura</a:t>
            </a:r>
            <a:r>
              <a:rPr b="1" lang="it-IT" sz="800" spc="-1" strike="noStrike">
                <a:solidFill>
                  <a:srgbClr val="000000"/>
                </a:solidFill>
                <a:latin typeface="Comic Sans MS"/>
              </a:rPr>
              <a:t> - IRRE Mar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297180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2819520"/>
            <a:ext cx="32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952880" y="2514600"/>
            <a:ext cx="3581640" cy="3733920"/>
            <a:chOff x="4952880" y="2514600"/>
            <a:chExt cx="3581640" cy="3733920"/>
          </a:xfrm>
        </p:grpSpPr>
        <p:sp>
          <p:nvSpPr>
            <p:cNvPr id="232" name=""/>
            <p:cNvSpPr/>
            <p:nvPr/>
          </p:nvSpPr>
          <p:spPr>
            <a:xfrm>
              <a:off x="4952880" y="2514600"/>
              <a:ext cx="3581640" cy="3733920"/>
            </a:xfrm>
            <a:custGeom>
              <a:avLst/>
              <a:gdLst>
                <a:gd name="textAreaLeft" fmla="*/ 174600 w 3581640"/>
                <a:gd name="textAreaRight" fmla="*/ 3407040 w 3581640"/>
                <a:gd name="textAreaTop" fmla="*/ 174600 h 3733920"/>
                <a:gd name="textAreaBottom" fmla="*/ 3559320 h 3733920"/>
              </a:gdLst>
              <a:ahLst/>
              <a:rect l="textAreaLeft" t="textAreaTop" r="textAreaRight" b="textAreaBottom"/>
              <a:pathLst>
                <a:path w="21600" h="22518">
                  <a:moveTo>
                    <a:pt x="3600" y="0"/>
                  </a:moveTo>
                  <a:arcTo wR="3600" hR="3600" stAng="16200000" swAng="-5400000"/>
                  <a:lnTo>
                    <a:pt x="0" y="18918"/>
                  </a:lnTo>
                  <a:arcTo wR="3600" hR="3600" stAng="10800000" swAng="-5400000"/>
                  <a:lnTo>
                    <a:pt x="18000" y="225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72120" y="2666880"/>
              <a:ext cx="314280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0000"/>
                  </a:solidFill>
                  <a:latin typeface="Comic Sans MS"/>
                </a:rPr>
                <a:t>  </a:t>
              </a:r>
              <a:r>
                <a:rPr b="1" lang="it-IT" sz="2000" spc="-1" strike="noStrike">
                  <a:solidFill>
                    <a:srgbClr val="ff0000"/>
                  </a:solidFill>
                  <a:latin typeface="Comic Sans MS"/>
                </a:rPr>
                <a:t>PLURALITÀ di     STRUMENTI e di AZION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4880" y="3657240"/>
            <a:ext cx="32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 cura del Dirigente Scolastic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4960" y="5714640"/>
            <a:ext cx="31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 cura del Direttore del S.G.A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5960" y="3878640"/>
            <a:ext cx="3434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nalisi di docu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Focus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Intervista in profond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Osservazione parte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2FB-5F1D-4B5D-9F1B-052A1D1881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3:02:52Z</dcterms:created>
  <dc:creator>Utente</dc:creator>
  <dc:description/>
  <dc:language>en-US</dc:language>
  <cp:lastModifiedBy>giancarlo.mariani.an</cp:lastModifiedBy>
  <dcterms:modified xsi:type="dcterms:W3CDTF">2004-11-19T11:24:50Z</dcterms:modified>
  <cp:revision>60</cp:revision>
  <dc:subject/>
  <dc:title>Monitoraggio  Scuole Marchigiane</dc:title>
</cp:coreProperties>
</file>