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296-9DEF-4F9B-A571-A1875059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C1C-DD08-48F5-804C-F50A6DD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363-B335-42DB-A361-F4DC09FC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5B9-5520-4DD0-A5F9-A9A54613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F3C2-36B4-4AA1-9558-0C2EA2DF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CDE-FE2D-4F43-8055-554EB227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C4F1-6F73-4E65-AF59-668A29A3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99C-BFAC-4AEA-9E83-F16CCFE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1FD2-B7A5-4806-AEB4-B64FF1E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50C0-F1A3-4465-B1CC-92AAF58F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7FE9-6F14-466F-B5FA-2E6BC15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13D-D484-463E-8ABB-89EF26B2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71DA-76E1-4368-A22F-17E2994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742A-9843-45AC-829D-07D8579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2F3D-85D2-451B-AD08-7AAFE26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419E-2FBD-4043-9619-DADEAF47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175-3C89-466B-B418-B985DF8A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42E-6772-4B5A-8DA7-C8A88533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FD1-E138-4079-AE98-D2FCE358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EA0-F69B-418F-8E09-73BC1439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FBA-FB0B-42D6-8BEA-9749C19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16D-B7D7-43A6-B2F2-F0A1A77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62A-8337-4009-BCF9-7AA9929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4EC-791F-4913-981A-6B93FD9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332-B064-4E40-8484-F4644F264C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5AB7-1F28-4A8B-975B-19B299F18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26960" y="838080"/>
            <a:ext cx="45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Monitoraggio Scuola Marchigiane (M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9240" y="2819520"/>
            <a:ext cx="540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petti organizzativi e didat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Questio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6080" y="5943600"/>
            <a:ext cx="38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Monitoraggio Scuola Marche (MSM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petti organizzativi e didat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otto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rush Script MT"/>
              </a:rPr>
              <a:t>Anna Maria Alegi</a:t>
            </a:r>
            <a:r>
              <a:rPr b="0" lang="it-IT" sz="2000" spc="-1" strike="noStrike">
                <a:solidFill>
                  <a:srgbClr val="000000"/>
                </a:solidFill>
                <a:latin typeface="Brush Script MT"/>
              </a:rPr>
              <a:t> (IRRE Mar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rush Script MT"/>
              </a:rPr>
              <a:t>Francesca Forno</a:t>
            </a:r>
            <a:r>
              <a:rPr b="0" lang="it-IT" sz="2000" spc="-1" strike="noStrike">
                <a:solidFill>
                  <a:srgbClr val="000000"/>
                </a:solidFill>
                <a:latin typeface="Brush Script MT"/>
              </a:rPr>
              <a:t> (Università di Urbi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rush Script MT"/>
              </a:rPr>
              <a:t>Bianca Maria Ventura</a:t>
            </a:r>
            <a:r>
              <a:rPr b="0" lang="it-IT" sz="2000" spc="-1" strike="noStrike">
                <a:solidFill>
                  <a:srgbClr val="000000"/>
                </a:solidFill>
                <a:latin typeface="Brush Script MT"/>
              </a:rPr>
              <a:t> (IRRE Mar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rush Script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22400" y="6019920"/>
            <a:ext cx="38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Aspetti organizzativi e didat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2880" y="22093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isire informazioni sulla scuola marchigian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3886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nalisi Finanz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19720" y="3581280"/>
            <a:ext cx="1523520" cy="1143000"/>
            <a:chOff x="4419720" y="3581280"/>
            <a:chExt cx="1523520" cy="1143000"/>
          </a:xfrm>
        </p:grpSpPr>
        <p:sp>
          <p:nvSpPr>
            <p:cNvPr id="137" name="Puzzle3"/>
            <p:cNvSpPr/>
            <p:nvPr/>
          </p:nvSpPr>
          <p:spPr>
            <a:xfrm>
              <a:off x="5161680" y="3581280"/>
              <a:ext cx="599040" cy="607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Puzzle2"/>
            <p:cNvSpPr/>
            <p:nvPr/>
          </p:nvSpPr>
          <p:spPr>
            <a:xfrm>
              <a:off x="4987440" y="4023720"/>
              <a:ext cx="955800" cy="5533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Puzzle4"/>
            <p:cNvSpPr/>
            <p:nvPr/>
          </p:nvSpPr>
          <p:spPr>
            <a:xfrm>
              <a:off x="4617360" y="4016880"/>
              <a:ext cx="576360" cy="7074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Puzzle1"/>
            <p:cNvSpPr/>
            <p:nvPr/>
          </p:nvSpPr>
          <p:spPr>
            <a:xfrm>
              <a:off x="4419720" y="3764880"/>
              <a:ext cx="968040" cy="4215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579680" y="36576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celte organizz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96920" y="525780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celte didat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V="1" rot="16200000">
            <a:off x="5028480" y="1256400"/>
            <a:ext cx="258120" cy="4696560"/>
          </a:xfrm>
          <a:prstGeom prst="bentConnector3">
            <a:avLst>
              <a:gd name="adj1" fmla="val 18882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/>
          <p:nvPr/>
        </p:nvCxnSpPr>
        <p:spPr>
          <a:xfrm flipH="1" rot="16200000">
            <a:off x="2385000" y="4472280"/>
            <a:ext cx="927720" cy="21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42" idx="3"/>
            <a:endCxn id="135" idx="1"/>
          </p:cNvCxnSpPr>
          <p:nvPr/>
        </p:nvCxnSpPr>
        <p:spPr>
          <a:xfrm flipV="1">
            <a:off x="4044960" y="4084200"/>
            <a:ext cx="2432880" cy="13723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142280" y="12574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601992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Aspetti organizzativi e didat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04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i tecniche di tipo quantitativo: Il questionario strut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9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accolta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976560"/>
            <a:ext cx="3505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laborazion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(analisi delle informazioni raccol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51" idx="0"/>
          </p:cNvCxnSpPr>
          <p:nvPr/>
        </p:nvCxnSpPr>
        <p:spPr>
          <a:xfrm flipH="1" rot="16200000">
            <a:off x="3477960" y="3645360"/>
            <a:ext cx="548280" cy="114840"/>
          </a:xfrm>
          <a:prstGeom prst="curvedConnector5">
            <a:avLst>
              <a:gd name="adj1" fmla="val 49802"/>
              <a:gd name="adj2" fmla="val 50000"/>
              <a:gd name="adj3" fmla="val 498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715000" y="470844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formazioni per ‘ripensare’ l’indagare in sit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87036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ima ‘fotografia’ della scuola marchig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5638680"/>
            <a:ext cx="736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i tecniche di tipo q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1" idx="1"/>
          </p:cNvCxnSpPr>
          <p:nvPr/>
        </p:nvCxnSpPr>
        <p:spPr>
          <a:xfrm flipH="1" flipV="1" rot="10800000">
            <a:off x="2056320" y="4389120"/>
            <a:ext cx="3506040" cy="730800"/>
          </a:xfrm>
          <a:prstGeom prst="curvedConnector5">
            <a:avLst>
              <a:gd name="adj1" fmla="val -6520"/>
              <a:gd name="adj2" fmla="val 49975"/>
              <a:gd name="adj3" fmla="val -65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1" idx="0"/>
            <a:endCxn id="154" idx="0"/>
          </p:cNvCxnSpPr>
          <p:nvPr/>
        </p:nvCxnSpPr>
        <p:spPr>
          <a:xfrm flipH="1" flipV="1" rot="5400000">
            <a:off x="5528160" y="2151000"/>
            <a:ext cx="106920" cy="3544200"/>
          </a:xfrm>
          <a:prstGeom prst="curvedConnector5">
            <a:avLst>
              <a:gd name="adj1" fmla="val 314864"/>
              <a:gd name="adj2" fmla="val 50000"/>
              <a:gd name="adj3" fmla="val 314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computr1"/>
          <p:cNvSpPr/>
          <p:nvPr/>
        </p:nvSpPr>
        <p:spPr>
          <a:xfrm>
            <a:off x="1600200" y="40384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8400" y="1322280"/>
            <a:ext cx="1128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6445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Aspetti organizzativi e didat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quest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0680" y="227016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. Dati struttu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2120" y="265104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. Le ris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0600" y="3032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. La gestione della progettu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4920" y="341316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 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1760" y="387036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. La flessi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0680" y="425124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. 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5280" y="463248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. La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38160" y="501984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. La qualità del prodo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04400" y="547704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. La qualità della 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644508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Aspetti organizzativi e didat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mpilazione del quest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iù ris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844880"/>
            <a:ext cx="3809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a sola ripos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indicare la modalità prevale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40224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01760" y="5583240"/>
            <a:ext cx="6485040" cy="893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00400" y="64450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66cc"/>
                </a:solidFill>
                <a:latin typeface="Times New Roman"/>
              </a:rPr>
              <a:t>Aspetti organizzativi e didattic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nalisi in si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362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tilizzo combinato di più tecniche 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1082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vista in profondità (dirigenti scolasti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6417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cus Group (docenti e personale ATA, genit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41752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alisi del contenuto di alcuni documenti (documenti di programmazione, relazioni fin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01336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zione di alcune situazioni particolari (ripensamento di un’esperienza di apprendimento con gli studen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6172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cc"/>
                </a:solidFill>
                <a:latin typeface="Monotype Corsiva"/>
              </a:rPr>
              <a:t>Francesca Forno – Università di Ur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ancarlo.mariani.an</cp:lastModifiedBy>
  <dcterms:modified xsi:type="dcterms:W3CDTF">2004-11-19T11:25:01Z</dcterms:modified>
  <cp:revision>35</cp:revision>
  <dc:subject/>
  <dc:title>PowerPoint Presentation</dc:title>
</cp:coreProperties>
</file>