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BB13-EFA1-4BA7-A20D-36A93D90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6DE-BC0C-42C0-B602-60A468C3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9EEC-BDAE-4A4A-A63B-33EC3CBC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59FB-00FE-4C67-87FE-BBBA612D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809A-3C3A-4A32-9802-BE28F38B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6053-61A1-438C-9149-7F190E95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791C-92E3-4866-86E7-80630AA2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7345-0A92-425C-BB6D-114CF255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443C-31E0-4E3B-A9C7-C477BA64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22AE-2A91-4103-AD18-C0390B77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248A-7F0C-487C-8A32-9D37A92F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E57A-AC01-4B41-90EF-C06979F5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D27F-FDDA-4655-91C6-83BB5458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A8A6-18BA-4F18-9B05-269B89DA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2462-F8A2-4641-B579-8347A213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C146-9F59-4B72-B1B5-8EC01793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B2B9-D710-4CAD-B510-C2FA445A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AE9E-060B-4BC9-89C1-1A5AADE1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E6E6-AD1B-474D-9196-878AA7ED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460B-220D-4929-B9E1-A53BD4AA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AB0-1C98-46BC-9A76-D4E248F4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94D-D85D-45FA-B504-C735F45B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0EBF-DEB3-4AC3-88E0-E46E80A6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B5D-8090-41E7-8825-0D4117FD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92C9-AC99-4BCD-A8BD-2A318FBEFAA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D095-440A-4072-9485-F1EED5A07F10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90720" y="1447920"/>
            <a:ext cx="7238880" cy="2803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800000"/>
                </a:solidFill>
                <a:latin typeface="Verdana"/>
                <a:ea typeface="Arial"/>
              </a:rPr>
              <a:t>Servizi erogati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800000"/>
                </a:solidFill>
                <a:latin typeface="Verdana"/>
                <a:ea typeface="Arial"/>
              </a:rPr>
              <a:t>dall’Amministrazione</a:t>
            </a:r>
            <a:r>
              <a:rPr b="1" lang="ar-SA" sz="4400" spc="-1" strike="noStrike">
                <a:solidFill>
                  <a:srgbClr val="800000"/>
                </a:solidFill>
                <a:latin typeface="Verdana"/>
                <a:ea typeface="Arial"/>
              </a:rPr>
              <a:t>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800000"/>
                </a:solidFill>
                <a:latin typeface="Verdana"/>
                <a:ea typeface="Arial"/>
              </a:rPr>
              <a:t>alle scuol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1828800"/>
            <a:ext cx="243828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3962520"/>
            <a:ext cx="312408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434340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Verdana"/>
                <a:ea typeface="Arial"/>
              </a:rPr>
              <a:t>Prime evidenze del report. n. 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4876920"/>
            <a:ext cx="723888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6019920"/>
            <a:ext cx="723888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495288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Verdana"/>
              </a:rPr>
              <a:t>Progetto di ricerca per la verifica dei livelli di servizio erogati sul territorio dal MIUR e dalle istituzioni scolastiche autonom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6E1-8453-461A-B1ED-658BCC79F0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4038480"/>
            <a:ext cx="5486400" cy="209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Introdurre nuove competenze e consolidare quelle esistenti per i dipendenti di USR/CSA in materia di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Contabilità pubblic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Gestione progett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Capacità managerial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Relazioni con il pubblic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Cooperazione interistituzional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 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762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Punti di criticit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600200"/>
            <a:ext cx="8001000" cy="1935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Garantire chiarezza su ruoli e responsabilità di USR e CSA per permettere  una immediata identificazione dei referent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  </a:t>
            </a:r>
            <a:r>
              <a:rPr b="0" i="1" lang="en-US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Ridurre il livello di disomogeneità dell’offerta di servizi da parte di USR e CS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  </a:t>
            </a:r>
            <a:r>
              <a:rPr b="0" i="1" lang="en-US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Garantire alle scuole supporto e assistenza per una reale applicazione dell’autonom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  </a:t>
            </a:r>
            <a:r>
              <a:rPr b="0" i="1" lang="en-US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Adottare nuove modalità di gestione delle informazion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4800600"/>
            <a:ext cx="3810240" cy="1437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Rivedere il sistema di aggiornamento dei docenti su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  </a:t>
            </a:r>
            <a:r>
              <a:rPr b="0" i="1" lang="en-US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Programmazione delle attivit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Contenuti dei cors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Monitoraggi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1066680"/>
            <a:ext cx="198108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Verdana"/>
                <a:ea typeface="Times New Roman"/>
              </a:rPr>
              <a:t>Consulenza e assistenz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4267080"/>
            <a:ext cx="2133360" cy="580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Verdana"/>
                <a:ea typeface="Times New Roman"/>
              </a:rPr>
              <a:t>Aggiornamento professional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72CC-E1BA-41B4-8237-E0564F5E32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352680"/>
            <a:ext cx="6324840" cy="1194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40458c"/>
                </a:solidFill>
                <a:latin typeface="Verdana"/>
                <a:ea typeface="Times New Roman"/>
              </a:rPr>
              <a:t>Ridurre il ritardo nell’assegnazione degli organici e la frammentazion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40458c"/>
                </a:solidFill>
                <a:latin typeface="Verdana"/>
                <a:ea typeface="Times New Roman"/>
              </a:rPr>
              <a:t>Realizzare azioni che consentano un adeguato livello qualitativo e quantitativo di personale presso le scuol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 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762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Punti di criticit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3880" y="1447920"/>
            <a:ext cx="5867640" cy="1321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Times New Roman"/>
              </a:rPr>
              <a:t>  </a:t>
            </a:r>
            <a:r>
              <a:rPr b="0" i="1" lang="en-US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Rendere più tempestiva l’assegnazione di risorse finanziari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  </a:t>
            </a:r>
            <a:r>
              <a:rPr b="0" i="1" lang="en-US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Verificare l’impiego delle risorse finanziarie stanzia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  </a:t>
            </a:r>
            <a:r>
              <a:rPr b="0" i="1" lang="en-US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Sviluppare le competenze tecniche per la gestione delle risor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10280" y="1371600"/>
            <a:ext cx="182880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Verdana"/>
                <a:ea typeface="Times New Roman"/>
              </a:rPr>
              <a:t>Erogazione finanziament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3581280"/>
            <a:ext cx="1752480" cy="580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Verdana"/>
                <a:ea typeface="Times New Roman"/>
              </a:rPr>
              <a:t>Gestione del personal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4952880"/>
            <a:ext cx="6324480" cy="1194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 </a:t>
            </a:r>
            <a:r>
              <a:rPr b="0" i="1" lang="it-IT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Introdurre o aggiornare gli strumenti a supporto dei processi di comunicazione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 </a:t>
            </a:r>
            <a:r>
              <a:rPr b="0" i="1" lang="it-IT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fornire</a:t>
            </a:r>
            <a:r>
              <a:rPr b="0" i="1" lang="ar-SA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 competenze adeguate per la ricerca e l’analisi delle informazioni.</a:t>
            </a:r>
            <a:r>
              <a:rPr b="0" lang="it-IT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29400" y="5257800"/>
            <a:ext cx="2133720" cy="580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Verdana"/>
                <a:ea typeface="Times New Roman"/>
              </a:rPr>
              <a:t>Informazione e comunicazion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A7C-F542-4834-A00A-4CA0D91BED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33920" y="388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43400">
            <a:off x="4800240" y="1752480"/>
            <a:ext cx="3651120" cy="174492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I servizi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migliorabil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21459600">
            <a:off x="838080" y="2057040"/>
            <a:ext cx="3657600" cy="168768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I serviz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esistent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268800">
            <a:off x="4701960" y="4011120"/>
            <a:ext cx="3429000" cy="1702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I serviz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in fase di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attivaz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 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268800">
            <a:off x="990720" y="4343400"/>
            <a:ext cx="3579840" cy="1647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I servizi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innovativ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33720" y="83808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La nuova mappa dei servizi dell’Amministraz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88F8-61DC-4713-9BE1-7C3CBDDF03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28800"/>
            <a:ext cx="4267080" cy="1681200"/>
          </a:xfrm>
          <a:prstGeom prst="rect">
            <a:avLst/>
          </a:prstGeom>
          <a:solidFill>
            <a:srgbClr val="b7c1eb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ervizi esistent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upporto alle scuole per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rticolazione orario scolastic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bbligo formativ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ttività educative complementar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to amministrativo e contabil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2057400"/>
            <a:ext cx="4191120" cy="2167920"/>
          </a:xfrm>
          <a:prstGeom prst="rect">
            <a:avLst/>
          </a:prstGeom>
          <a:solidFill>
            <a:srgbClr val="ecd882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ervizi migliorabil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upporto alle scuole per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l POF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rogettazione, il sostegno all’handicap,  la sicurezz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l rapporto con gli Enti Local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l recepimento delle innovazioni correlate alla riform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 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4343400"/>
            <a:ext cx="4114800" cy="10674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Times New Roman"/>
              </a:rPr>
              <a:t>Servizi in fase di attivazion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458c"/>
                </a:solidFill>
                <a:latin typeface="Verdana"/>
              </a:rPr>
              <a:t>Supporto alle scuole per:</a:t>
            </a:r>
            <a:br>
              <a:rPr sz="1600"/>
            </a:br>
            <a:r>
              <a:rPr b="0" i="1" lang="en-US" sz="1600" spc="-1" strike="noStrike">
                <a:solidFill>
                  <a:srgbClr val="40458c"/>
                </a:solidFill>
                <a:latin typeface="Verdana"/>
              </a:rPr>
              <a:t>assistenza legal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4495680"/>
            <a:ext cx="4114800" cy="2295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Verdana"/>
                <a:ea typeface="Times New Roman"/>
              </a:rPr>
              <a:t>Servizi innovativ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40458c"/>
                </a:solidFill>
                <a:latin typeface="Verdana"/>
              </a:rPr>
              <a:t>supporto alle scuole per:</a:t>
            </a:r>
            <a:br>
              <a:rPr sz="1600"/>
            </a:b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40458c"/>
                </a:solidFill>
                <a:latin typeface="Verdana"/>
              </a:rPr>
              <a:t>  </a:t>
            </a:r>
            <a:r>
              <a:rPr b="0" i="1" lang="it-IT" sz="1600" spc="-1" strike="noStrike">
                <a:solidFill>
                  <a:srgbClr val="40458c"/>
                </a:solidFill>
                <a:latin typeface="Verdana"/>
              </a:rPr>
              <a:t>organizzazione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40458c"/>
                </a:solidFill>
                <a:latin typeface="Verdana"/>
              </a:rPr>
              <a:t>  </a:t>
            </a:r>
            <a:r>
              <a:rPr b="0" i="1" lang="it-IT" sz="1600" spc="-1" strike="noStrike">
                <a:solidFill>
                  <a:srgbClr val="40458c"/>
                </a:solidFill>
                <a:latin typeface="Verdana"/>
              </a:rPr>
              <a:t>programmazione, rendicontazione e certificazion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40458c"/>
                </a:solidFill>
                <a:latin typeface="Verdana"/>
              </a:rPr>
              <a:t>  </a:t>
            </a:r>
            <a:r>
              <a:rPr b="0" i="1" lang="it-IT" sz="1600" spc="-1" strike="noStrike">
                <a:solidFill>
                  <a:srgbClr val="40458c"/>
                </a:solidFill>
                <a:latin typeface="Verdana"/>
              </a:rPr>
              <a:t>sviluppo progett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133720" y="8380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Consulenza e assistenz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FDE4-0A0B-4588-BAD2-2E344B3E16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09480" y="1676520"/>
            <a:ext cx="4114800" cy="1620000"/>
          </a:xfrm>
          <a:prstGeom prst="rect">
            <a:avLst/>
          </a:prstGeom>
          <a:solidFill>
            <a:srgbClr val="b7c1eb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  <a:ea typeface="Times New Roman"/>
              </a:rPr>
              <a:t>Servizi esistent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finizione indirizzi general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onitoraggio del Piano Regiona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48320" y="2133720"/>
            <a:ext cx="4114800" cy="1477080"/>
          </a:xfrm>
          <a:prstGeom prst="rect">
            <a:avLst/>
          </a:prstGeom>
          <a:solidFill>
            <a:srgbClr val="ecd882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  <a:ea typeface="Times New Roman"/>
              </a:rPr>
              <a:t>Servizi migliorabil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ggiornamento operativo del personale scolastic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rogazione dei fondi alle scuo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 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038480"/>
            <a:ext cx="4114800" cy="14770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  <a:ea typeface="Times New Roman"/>
              </a:rPr>
              <a:t>Servizi in fase di attivazion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Verdana"/>
              </a:rPr>
              <a:t>Facilitazione accordi con le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</a:rPr>
              <a:t>Università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48320" y="4343400"/>
            <a:ext cx="4114800" cy="14770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  <a:ea typeface="Times New Roman"/>
              </a:rPr>
              <a:t>Servizi innovativ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Verdana"/>
              </a:rPr>
              <a:t>Supervisione aggiornamento docent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Verdana"/>
              </a:rPr>
              <a:t>Monitoraggio dei fondi assegnat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33720" y="8380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Aggiornamento professiona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B79-3F4A-4C2A-AFC3-63DE40343A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04920" y="1600200"/>
            <a:ext cx="4419360" cy="1935360"/>
          </a:xfrm>
          <a:prstGeom prst="rect">
            <a:avLst/>
          </a:prstGeom>
          <a:solidFill>
            <a:srgbClr val="b7c1eb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ervizi esistent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laborazione e diffusione bandi, concors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struttoria contratti e incarichi dirigenti scolastic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struttoria per l’istituto obbligatorio di conciliazion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48320" y="1905120"/>
            <a:ext cx="4267080" cy="3290040"/>
          </a:xfrm>
          <a:prstGeom prst="rect">
            <a:avLst/>
          </a:prstGeom>
          <a:solidFill>
            <a:srgbClr val="ecd882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ervizi migliorabil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llocazione risorse umane e organizzazione delle dotazioni organich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estione graduatori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Mobilità del personale scolastic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ntenzioso disciplinar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estione figure tecnico-professionali della scuol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estione informazioni sulle attività svolte(L. 241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 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4343400"/>
            <a:ext cx="4114800" cy="13215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Times New Roman"/>
              </a:rPr>
              <a:t>Servizi in fase di attivazion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458c"/>
                </a:solidFill>
                <a:latin typeface="Verdana"/>
              </a:rPr>
              <a:t>  </a:t>
            </a:r>
            <a:r>
              <a:rPr b="0" i="1" lang="en-US" sz="1600" spc="-1" strike="noStrike">
                <a:solidFill>
                  <a:srgbClr val="40458c"/>
                </a:solidFill>
                <a:latin typeface="Verdana"/>
              </a:rPr>
              <a:t>Valutazione dei dirigent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458c"/>
                </a:solidFill>
                <a:latin typeface="Verdana"/>
              </a:rPr>
              <a:t>  </a:t>
            </a:r>
            <a:r>
              <a:rPr b="0" i="1" lang="en-US" sz="1600" spc="-1" strike="noStrike">
                <a:solidFill>
                  <a:srgbClr val="40458c"/>
                </a:solidFill>
                <a:latin typeface="Verdana"/>
              </a:rPr>
              <a:t>Contenzioso nel diritto del lavor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33720" y="8380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Gestione del persona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B5B-8DE9-4013-9A50-FF090BF4A0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1676520"/>
            <a:ext cx="3733920" cy="1059840"/>
          </a:xfrm>
          <a:prstGeom prst="rect">
            <a:avLst/>
          </a:prstGeom>
          <a:solidFill>
            <a:srgbClr val="b7c1eb"/>
          </a:solidFill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rvizi esistent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ssegnazione dei finanziamenti alle scuole per il funzionamen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9880" y="5638680"/>
            <a:ext cx="4648320" cy="7855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Verdana"/>
                <a:ea typeface="Times New Roman"/>
              </a:rPr>
              <a:t>Servizi innovativ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Supporto all’attività di found raising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 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3429000"/>
            <a:ext cx="7619760" cy="14770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  <a:ea typeface="Times New Roman"/>
              </a:rPr>
              <a:t>Servizi in fase di attivazion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Assegnazione di fondi alle scuole per progetti specifici presentat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Facilitazione dei rapporti con gli EELL per l’acquisizione di finanziamenti a livello loca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33720" y="8380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Erogazione finanziament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4A2-62D2-4C53-BD93-0C3C4BBAEA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733920" y="388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20695200">
            <a:off x="1066680" y="1676520"/>
            <a:ext cx="3354480" cy="1836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Le fas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471600">
            <a:off x="4571640" y="1981080"/>
            <a:ext cx="3300480" cy="1747800"/>
          </a:xfrm>
          <a:prstGeom prst="roundRect">
            <a:avLst>
              <a:gd name="adj" fmla="val 16667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I perch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77200">
            <a:off x="1295280" y="4114440"/>
            <a:ext cx="3353040" cy="1828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Gli strument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 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1128400">
            <a:off x="4495320" y="3962160"/>
            <a:ext cx="3645000" cy="1844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Le evidenz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8380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Il progetto di ricer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C468-B0D3-4404-A438-57E3871099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33720" y="8380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Perché il progetto di ricer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523880"/>
            <a:ext cx="365760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0000"/>
                </a:solidFill>
                <a:latin typeface="Verdana"/>
                <a:ea typeface="Times New Roman"/>
              </a:rPr>
              <a:t>La domanda di servizi, sempre più qualificata e diversificata da parte dei cittadini, comporta un processo di cambiamento all’interno della Pubblica Amministrazione. 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3429000"/>
            <a:ext cx="4496040" cy="916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ale scenario di cambiamento il MIUR, con il progetto di ricerca, ha interpretato la necessità di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523880"/>
            <a:ext cx="36576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Verdana"/>
                <a:ea typeface="Times New Roman"/>
              </a:rPr>
              <a:t>La recente riforma della scuola, il cui fine è il miglioramento del servizio, richiede un controllo dell’efficienza e della qualità prestata e percepita dall’utente.</a:t>
            </a:r>
            <a:r>
              <a:rPr b="0" lang="en-US" sz="17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4648320"/>
            <a:ext cx="274320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40458c"/>
                </a:solidFill>
                <a:latin typeface="Verdana"/>
                <a:ea typeface="Times New Roman"/>
              </a:rPr>
              <a:t>rivedere le modalità di governo ed erogazione dei servizi relativi all’istruzione sia verso le scuole che verso le famiglie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4648320"/>
            <a:ext cx="25905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40458c"/>
                </a:solidFill>
                <a:latin typeface="Verdana"/>
                <a:ea typeface="Times New Roman"/>
              </a:rPr>
              <a:t>rilevare, in particolare, i punti di criticità da cui partire per il miglioramento del sistema</a:t>
            </a:r>
            <a:r>
              <a:rPr b="0" lang="en-US" sz="1700" spc="-1" strike="noStrike">
                <a:solidFill>
                  <a:srgbClr val="40458c"/>
                </a:solidFill>
                <a:latin typeface="Verdana"/>
                <a:ea typeface="Times New Roman"/>
              </a:rPr>
              <a:t>. 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371600" y="32004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7086600" y="3200400"/>
            <a:ext cx="990720" cy="914400"/>
          </a:xfrm>
          <a:custGeom>
            <a:avLst/>
            <a:gdLst>
              <a:gd name="textAreaLeft" fmla="*/ 360 w 990720"/>
              <a:gd name="textAreaRight" fmla="*/ 991440 w 99072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952880" y="449496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3276000" y="4494960"/>
            <a:ext cx="1143000" cy="1143000"/>
          </a:xfrm>
          <a:custGeom>
            <a:avLst/>
            <a:gdLst>
              <a:gd name="textAreaLeft" fmla="*/ -360 w 1143000"/>
              <a:gd name="textAreaRight" fmla="*/ 1143000 w 11430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4AE0-54EE-42C0-8552-E3720AF088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447920" y="7621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Le fasi della ricer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228600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523880"/>
            <a:ext cx="6248520" cy="2197080"/>
          </a:xfrm>
          <a:prstGeom prst="rect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Verdana"/>
                <a:ea typeface="Times New Roman"/>
              </a:rPr>
              <a:t>L’attività di ricerca si è sviluppata in tre fasi: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40458c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40458c"/>
                </a:solidFill>
                <a:latin typeface="Verdana"/>
                <a:ea typeface="Times New Roman"/>
              </a:rPr>
              <a:t>1ª</a:t>
            </a:r>
            <a:r>
              <a:rPr b="0" lang="it-IT" sz="1700" spc="-1" strike="noStrike">
                <a:solidFill>
                  <a:srgbClr val="40458c"/>
                </a:solidFill>
                <a:latin typeface="Verdana"/>
                <a:ea typeface="Times New Roman"/>
              </a:rPr>
              <a:t> - </a:t>
            </a:r>
            <a:r>
              <a:rPr b="0" i="1" lang="it-IT" sz="1700" spc="-1" strike="noStrike">
                <a:solidFill>
                  <a:srgbClr val="40458c"/>
                </a:solidFill>
                <a:latin typeface="Verdana"/>
                <a:ea typeface="Times New Roman"/>
              </a:rPr>
              <a:t>individuazione delle Regioni pilota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40458c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40458c"/>
                </a:solidFill>
                <a:latin typeface="Verdana"/>
                <a:ea typeface="Times New Roman"/>
              </a:rPr>
              <a:t>2ª</a:t>
            </a:r>
            <a:r>
              <a:rPr b="0" lang="it-IT" sz="1700" spc="-1" strike="noStrike">
                <a:solidFill>
                  <a:srgbClr val="40458c"/>
                </a:solidFill>
                <a:latin typeface="Verdana"/>
                <a:ea typeface="Times New Roman"/>
              </a:rPr>
              <a:t> - </a:t>
            </a:r>
            <a:r>
              <a:rPr b="0" i="1" lang="it-IT" sz="1700" spc="-1" strike="noStrike">
                <a:solidFill>
                  <a:srgbClr val="40458c"/>
                </a:solidFill>
                <a:latin typeface="Verdana"/>
                <a:ea typeface="Times New Roman"/>
              </a:rPr>
              <a:t>verifica dei livelli di servizio erogati sul territorio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0" i="1" lang="it-IT" sz="1500" spc="-1" strike="noStrike">
                <a:solidFill>
                  <a:srgbClr val="40458c"/>
                </a:solidFill>
                <a:latin typeface="Verdana"/>
                <a:ea typeface="Times New Roman"/>
              </a:rPr>
              <a:t>dal MIUR </a:t>
            </a:r>
            <a:r>
              <a:rPr b="1" i="1" lang="it-IT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(Analisi 1° flusso – </a:t>
            </a:r>
            <a:r>
              <a:rPr b="1" lang="it-IT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Report n. 1</a:t>
            </a:r>
            <a:r>
              <a:rPr b="1" i="1" lang="it-IT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)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0" i="1" lang="it-IT" sz="1500" spc="-1" strike="noStrike">
                <a:solidFill>
                  <a:srgbClr val="40458c"/>
                </a:solidFill>
                <a:latin typeface="Verdana"/>
                <a:ea typeface="Times New Roman"/>
              </a:rPr>
              <a:t>dalle Scuole </a:t>
            </a:r>
            <a:r>
              <a:rPr b="1" i="1" lang="it-IT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(Analisi 2° flusso - </a:t>
            </a:r>
            <a:r>
              <a:rPr b="1" lang="it-IT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Report n. 2</a:t>
            </a:r>
            <a:r>
              <a:rPr b="1" i="1" lang="it-IT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40458c"/>
                </a:solidFill>
                <a:latin typeface="Verdana"/>
                <a:ea typeface="Times New Roman"/>
              </a:rPr>
              <a:t>3ª</a:t>
            </a:r>
            <a:r>
              <a:rPr b="0" lang="it-IT" sz="1700" spc="-1" strike="noStrike">
                <a:solidFill>
                  <a:srgbClr val="40458c"/>
                </a:solidFill>
                <a:latin typeface="Verdana"/>
                <a:ea typeface="Times New Roman"/>
              </a:rPr>
              <a:t> -</a:t>
            </a:r>
            <a:r>
              <a:rPr b="0" i="1" lang="it-IT" sz="1700" spc="-1" strike="noStrike">
                <a:solidFill>
                  <a:srgbClr val="40458c"/>
                </a:solidFill>
                <a:latin typeface="Verdana"/>
                <a:ea typeface="Times New Roman"/>
              </a:rPr>
              <a:t> individuazione delle opportunità di miglioramento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3809880"/>
            <a:ext cx="6172200" cy="1844280"/>
          </a:xfrm>
          <a:prstGeom prst="rect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Verdana"/>
                <a:ea typeface="Arial Unicode MS"/>
              </a:rPr>
              <a:t>E’ stato costituito un gruppo di lavoro misto: 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58c"/>
                </a:solidFill>
                <a:latin typeface="Verdana"/>
                <a:ea typeface="Arial Unicode MS"/>
              </a:rPr>
              <a:t> </a:t>
            </a:r>
            <a:r>
              <a:rPr b="0" i="1" lang="en-US" sz="1500" spc="-1" strike="noStrike">
                <a:solidFill>
                  <a:srgbClr val="40458c"/>
                </a:solidFill>
                <a:latin typeface="Verdana"/>
                <a:ea typeface="Arial Unicode MS"/>
              </a:rPr>
              <a:t>Referenti del MIUR; 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58c"/>
                </a:solidFill>
                <a:latin typeface="Verdana"/>
                <a:ea typeface="Arial Unicode MS"/>
              </a:rPr>
              <a:t> </a:t>
            </a:r>
            <a:r>
              <a:rPr b="0" i="1" lang="en-US" sz="1500" spc="-1" strike="noStrike">
                <a:solidFill>
                  <a:srgbClr val="40458c"/>
                </a:solidFill>
                <a:latin typeface="Verdana"/>
                <a:ea typeface="Arial Unicode MS"/>
              </a:rPr>
              <a:t>Responsabile IRRE E. Romagna; 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58c"/>
                </a:solidFill>
                <a:latin typeface="Verdana"/>
                <a:ea typeface="Arial Unicode MS"/>
              </a:rPr>
              <a:t> </a:t>
            </a:r>
            <a:r>
              <a:rPr b="0" i="1" lang="en-US" sz="1500" spc="-1" strike="noStrike">
                <a:solidFill>
                  <a:srgbClr val="40458c"/>
                </a:solidFill>
                <a:latin typeface="Verdana"/>
                <a:ea typeface="Arial Unicode MS"/>
              </a:rPr>
              <a:t>Direttori Generali dei 7 USR delle Regioni pilota     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58c"/>
                </a:solidFill>
                <a:latin typeface="Verdana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40458c"/>
                </a:solidFill>
                <a:latin typeface="Verdana"/>
                <a:ea typeface="Arial Unicode MS"/>
              </a:rPr>
              <a:t>(E. Romagna, Campania, Liguria, Lombardia, Marche, Sardegna);</a:t>
            </a:r>
            <a:r>
              <a:rPr b="0" i="1" lang="en-US" sz="1500" spc="-1" strike="noStrike">
                <a:solidFill>
                  <a:srgbClr val="40458c"/>
                </a:solidFill>
                <a:latin typeface="Verdana"/>
                <a:ea typeface="Arial Unicode MS"/>
              </a:rPr>
              <a:t> 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58c"/>
                </a:solidFill>
                <a:latin typeface="Verdana"/>
                <a:ea typeface="Arial Unicode MS"/>
              </a:rPr>
              <a:t> </a:t>
            </a:r>
            <a:r>
              <a:rPr b="0" i="1" lang="en-US" sz="1500" spc="-1" strike="noStrike">
                <a:solidFill>
                  <a:srgbClr val="40458c"/>
                </a:solidFill>
                <a:latin typeface="Verdana"/>
                <a:ea typeface="Arial Unicode MS"/>
              </a:rPr>
              <a:t>Dirigenti e/o Presidenti degli IRRE coinvolti; 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58c"/>
                </a:solidFill>
                <a:latin typeface="Verdana"/>
                <a:ea typeface="Arial Unicode MS"/>
              </a:rPr>
              <a:t> </a:t>
            </a:r>
            <a:r>
              <a:rPr b="0" i="1" lang="en-US" sz="1500" spc="-1" strike="noStrike">
                <a:solidFill>
                  <a:srgbClr val="40458c"/>
                </a:solidFill>
                <a:latin typeface="Verdana"/>
                <a:ea typeface="Arial Unicode MS"/>
              </a:rPr>
              <a:t>Consulenti esterni.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638680"/>
            <a:ext cx="83822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Il coordinamento dei lavori è stato svolto dalla 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Direzione generale per le Risorse Umane del Ministero, Acquisti e Affari Generali del MIUR.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09F-0ACD-4CED-968D-C0D081A147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733920" y="388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567600">
            <a:off x="5105520" y="1752120"/>
            <a:ext cx="3200400" cy="20113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660066"/>
                </a:solidFill>
                <a:latin typeface="Verdana"/>
                <a:ea typeface="Arial"/>
              </a:rPr>
              <a:t>Focus group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0066"/>
                </a:solidFill>
                <a:latin typeface="Verdana"/>
                <a:ea typeface="Arial"/>
              </a:rPr>
              <a:t>Riunioni su specifici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0066"/>
                </a:solidFill>
                <a:latin typeface="Verdana"/>
                <a:ea typeface="Arial"/>
              </a:rPr>
              <a:t>argoment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21459600">
            <a:off x="762120" y="1676160"/>
            <a:ext cx="3276360" cy="21142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Analisi desk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Raccolt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della documentazion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268800">
            <a:off x="3580920" y="4114440"/>
            <a:ext cx="3811680" cy="2055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0066"/>
                </a:solidFill>
                <a:latin typeface="Verdana"/>
                <a:ea typeface="Arial"/>
              </a:rPr>
              <a:t>Attività di benchmarking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66"/>
                </a:solidFill>
                <a:latin typeface="Verdana"/>
                <a:ea typeface="Arial"/>
              </a:rPr>
              <a:t>Confronto con le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66"/>
                </a:solidFill>
                <a:latin typeface="Verdana"/>
                <a:ea typeface="Arial"/>
              </a:rPr>
              <a:t>realtà internazional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 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8380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Strumenti utilizzati per il report n. 1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168-F3DD-409C-A1CD-CD654B3B89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267080" y="4191120"/>
            <a:ext cx="4267440" cy="1620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Arial Unicode MS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Arial Unicode MS"/>
              </a:rPr>
              <a:t>Consulenza e assistenz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Arial Unicode MS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Arial Unicode MS"/>
              </a:rPr>
              <a:t>Aggiornamento professiona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Arial Unicode MS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Arial Unicode MS"/>
              </a:rPr>
              <a:t>Gestione del persona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Arial Unicode MS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Arial Unicode MS"/>
              </a:rPr>
              <a:t>Erogazione di finanziament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752480"/>
            <a:ext cx="7620120" cy="15685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L’analisi della documentazione ha consentito l’elaborazione di una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  <a:ea typeface="Times New Roman"/>
              </a:rPr>
              <a:t>Mappa dei servizi</a:t>
            </a: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attualmente erogati alle scuole dall’Amministrazione centrale e periferic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838080"/>
            <a:ext cx="8001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Analisi desk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raccolta e analisi della documentaz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4267080"/>
            <a:ext cx="3352680" cy="1447920"/>
          </a:xfrm>
          <a:custGeom>
            <a:avLst/>
            <a:gdLst>
              <a:gd name="textAreaLeft" fmla="*/ 0 w 3352680"/>
              <a:gd name="textAreaRight" fmla="*/ 3353040 w 33526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44197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Arial Unicode MS"/>
              </a:rPr>
              <a:t>I servizi erogati sono stati suddivisi in 4 ambit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804F-1D33-48AA-88DC-FDAD2EE429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438280" y="1371600"/>
            <a:ext cx="5867640" cy="1142640"/>
          </a:xfrm>
          <a:prstGeom prst="rect">
            <a:avLst/>
          </a:prstGeom>
          <a:solidFill>
            <a:srgbClr val="6f89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 Unicode MS"/>
              </a:rPr>
              <a:t>Sono stati realizzati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 Unicode MS"/>
              </a:rPr>
              <a:t>1 o 2 Focus Group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 Unicode MS"/>
              </a:rPr>
              <a:t>per Region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33720" y="8380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Focus grou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2971800"/>
            <a:ext cx="4496040" cy="23115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Verdana"/>
                <a:ea typeface="Arial Unicode MS"/>
              </a:rPr>
              <a:t>I partecipanti ai Focus Group sono stati così individuati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Verdana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Verdana"/>
                <a:ea typeface="Arial Unicode MS"/>
              </a:rPr>
              <a:t>responsabile USR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Verdana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Verdana"/>
                <a:ea typeface="Arial Unicode MS"/>
              </a:rPr>
              <a:t>altri dirigenti USR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re</a:t>
            </a:r>
            <a:r>
              <a:rPr b="0" lang="en-US" sz="1800" spc="-1" strike="noStrike">
                <a:solidFill>
                  <a:srgbClr val="660066"/>
                </a:solidFill>
                <a:latin typeface="Verdana"/>
                <a:ea typeface="Arial Unicode MS"/>
              </a:rPr>
              <a:t>sponsabili dei CSA della regione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Verdana"/>
                <a:ea typeface="Arial Unicode MS"/>
              </a:rPr>
              <a:t> </a:t>
            </a:r>
            <a:r>
              <a:rPr b="0" lang="it-IT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dirigenti scolastici </a:t>
            </a:r>
            <a:r>
              <a:rPr b="0" lang="en-US" sz="1800" spc="-1" strike="noStrike">
                <a:solidFill>
                  <a:srgbClr val="660066"/>
                </a:solidFill>
                <a:latin typeface="Verdana"/>
                <a:ea typeface="Arial Unicode MS"/>
              </a:rPr>
              <a:t>della regione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52880" y="3200400"/>
            <a:ext cx="3810240" cy="29916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Verdana"/>
                <a:ea typeface="Arial Unicode MS"/>
              </a:rPr>
              <a:t>Obiettivi degli incontri: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660066"/>
                </a:solidFill>
                <a:latin typeface="Verdana"/>
              </a:rPr>
              <a:t>una migliore comprensione dell’attuale offerta di servizi;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660066"/>
                </a:solidFill>
                <a:latin typeface="Verdana"/>
              </a:rPr>
              <a:t>l’esplicitazione di alcune criticità percepite come emergenti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l’individuazione di possibili suggerimenti per il miglioramento dei servizi offerti.</a:t>
            </a:r>
            <a:r>
              <a:rPr b="0" lang="it-IT" sz="1800" spc="-1" strike="noStrike">
                <a:solidFill>
                  <a:srgbClr val="40458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8424-D289-420E-86C3-C03472A400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0" y="1600200"/>
            <a:ext cx="4267080" cy="1664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la rilevanza del prodotto formativo interno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l’innovatività del modello di erogazione del servizio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la tradizionale importanza del sistema scolastico locale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914400"/>
            <a:ext cx="8610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Attività di benchmar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1676520"/>
            <a:ext cx="4191120" cy="137160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1676520"/>
            <a:ext cx="3505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0066"/>
                </a:solidFill>
                <a:latin typeface="Verdana"/>
                <a:ea typeface="Times New Roman"/>
              </a:rPr>
              <a:t>l’attività di</a:t>
            </a:r>
            <a:r>
              <a:rPr b="0" lang="ar-SA" sz="1600" spc="-1" strike="noStrike">
                <a:solidFill>
                  <a:srgbClr val="660066"/>
                </a:solidFill>
                <a:latin typeface="Verdana"/>
                <a:ea typeface="Arial Unicode MS"/>
              </a:rPr>
              <a:t> benchmarking è stata svolta </a:t>
            </a:r>
            <a:r>
              <a:rPr b="0" lang="it-IT" sz="1600" spc="-1" strike="noStrike">
                <a:solidFill>
                  <a:srgbClr val="660066"/>
                </a:solidFill>
                <a:latin typeface="Verdana"/>
                <a:ea typeface="Arial Unicode MS"/>
              </a:rPr>
              <a:t>sui sistemi di erogazione dei servizi scolastici di</a:t>
            </a:r>
            <a:r>
              <a:rPr b="0" lang="ar-SA" sz="1600" spc="-1" strike="noStrike">
                <a:solidFill>
                  <a:srgbClr val="660066"/>
                </a:solidFill>
                <a:latin typeface="Verdana"/>
                <a:ea typeface="Arial Unicode MS"/>
              </a:rPr>
              <a:t> </a:t>
            </a:r>
            <a:r>
              <a:rPr b="0" lang="ar-SA" sz="1600" spc="-1" strike="noStrike">
                <a:solidFill>
                  <a:srgbClr val="660066"/>
                </a:solidFill>
                <a:latin typeface="Verdana"/>
                <a:ea typeface="Arial Unicode MS"/>
              </a:rPr>
              <a:t>Francia, Regno Unito, Spagna, Finlandia</a:t>
            </a:r>
            <a:r>
              <a:rPr b="0" lang="it-IT" sz="1600" spc="-1" strike="noStrike">
                <a:solidFill>
                  <a:srgbClr val="660066"/>
                </a:solidFill>
                <a:latin typeface="Verdana"/>
                <a:ea typeface="Arial Unicode MS"/>
              </a:rPr>
              <a:t>, </a:t>
            </a:r>
            <a:r>
              <a:rPr b="0" lang="ar-SA" sz="1600" spc="-1" strike="noStrike">
                <a:solidFill>
                  <a:srgbClr val="660066"/>
                </a:solidFill>
                <a:latin typeface="Verdana"/>
                <a:ea typeface="Arial Unicode MS"/>
              </a:rPr>
              <a:t> scelt</a:t>
            </a:r>
            <a:r>
              <a:rPr b="0" lang="it-IT" sz="1600" spc="-1" strike="noStrike">
                <a:solidFill>
                  <a:srgbClr val="660066"/>
                </a:solidFill>
                <a:latin typeface="Verdana"/>
                <a:ea typeface="Arial Unicode MS"/>
              </a:rPr>
              <a:t>i p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3352680"/>
            <a:ext cx="3581280" cy="11761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L’indagine ha riguarda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i processi di erogazione dei servizi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le tipologie di servizio offerte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724280"/>
            <a:ext cx="8305920" cy="12510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0066"/>
                </a:solidFill>
                <a:latin typeface="Verdana"/>
                <a:ea typeface="Arial Unicode MS"/>
              </a:rPr>
              <a:t>Tali sistemi</a:t>
            </a:r>
            <a:r>
              <a:rPr b="0" lang="ar-SA" sz="1600" spc="-1" strike="noStrike">
                <a:solidFill>
                  <a:srgbClr val="660066"/>
                </a:solidFill>
                <a:latin typeface="Verdana"/>
                <a:ea typeface="Arial Unicode MS"/>
              </a:rPr>
              <a:t> sono stati messi a confronto</a:t>
            </a:r>
            <a:r>
              <a:rPr b="0" lang="it-IT" sz="1600" spc="-1" strike="noStrike">
                <a:solidFill>
                  <a:srgbClr val="660066"/>
                </a:solidFill>
                <a:latin typeface="Verdana"/>
                <a:ea typeface="Arial Unicode MS"/>
              </a:rPr>
              <a:t> col nostro </a:t>
            </a:r>
            <a:r>
              <a:rPr b="0" lang="ar-SA" sz="1600" spc="-1" strike="noStrike">
                <a:solidFill>
                  <a:srgbClr val="660066"/>
                </a:solidFill>
                <a:latin typeface="Verdana"/>
                <a:ea typeface="Arial Unicode MS"/>
              </a:rPr>
              <a:t> in termini di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Devolution</a:t>
            </a: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: 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decentramento amministrativo, decisionale, finanziario; tipologia del finanziamento</a:t>
            </a: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0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Innovatività interna</a:t>
            </a: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: 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servizi offerti; modello di gestione dell’offerta di servizi</a:t>
            </a: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31BC-6D6F-4848-B207-5617C9E38D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362320" y="5334120"/>
            <a:ext cx="3962160" cy="825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nformazione e comunicaz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3657600"/>
            <a:ext cx="3429000" cy="8254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Gestione</a:t>
            </a:r>
            <a:r>
              <a:rPr b="0" lang="en-US" sz="2400" spc="-1" strike="noStrike">
                <a:solidFill>
                  <a:srgbClr val="40458c"/>
                </a:solidFill>
                <a:latin typeface="Verdana"/>
                <a:ea typeface="Times New Roman"/>
              </a:rPr>
              <a:t> del persona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828800"/>
            <a:ext cx="35053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ulenza e assistenz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4114800"/>
            <a:ext cx="3352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rogazione finanziament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14800" y="2362320"/>
            <a:ext cx="3505320" cy="825480"/>
          </a:xfrm>
          <a:prstGeom prst="rect">
            <a:avLst/>
          </a:prstGeom>
          <a:solidFill>
            <a:srgbClr val="ecd882"/>
          </a:solidFill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  <a:ea typeface="Times New Roman"/>
              </a:rPr>
              <a:t>Aggiornament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rofessiona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 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33720" y="762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Prime evidenze rispetto 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89AE-4024-43C6-92EC-A9328D6FEE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0:27:17Z</dcterms:created>
  <dc:creator>Lucia Fattori</dc:creator>
  <dc:description/>
  <dc:language>en-US</dc:language>
  <cp:lastModifiedBy>giancarlo.mariani.an</cp:lastModifiedBy>
  <dcterms:modified xsi:type="dcterms:W3CDTF">2004-11-19T11:03:48Z</dcterms:modified>
  <cp:revision>119</cp:revision>
  <dc:subject/>
  <dc:title>Presentazione di PowerPoint</dc:title>
</cp:coreProperties>
</file>