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FFA-DD5B-4C96-927F-72305629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CB0-11A4-4C89-A601-3969ED15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132-5649-4CFF-A671-05FCFE6A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78B-CC6A-45CB-8488-2802D34F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F87E-E224-44FC-831F-768DBA23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BD76-EB39-4F03-90DA-1517BC21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25D-32E7-45BD-88AD-54E36BF4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1C7-2A43-4515-B259-5D2D841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BF4F-D1F0-471C-8F0E-93BF6844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2215-9364-478A-BE47-94C78C78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2430-7027-4E0C-AB56-6689247C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488-329A-4C0C-8E5A-025FEAC2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465B-0A5B-4316-AEB1-951982F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957E-4FF2-4502-86FB-3E8F4FA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8403-580F-4543-9025-811196A0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2518-6CA2-46B0-A390-E46C69F6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4B40-607D-4AED-BFBD-E9FB507F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9CF-144F-4E74-A76F-5EE0F65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0E7-6DDB-4B02-8A2E-5D7D0EDC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B38-8EBE-4B50-9454-FC973E79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479-E9A8-49CE-B49D-DD47FCDC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647-419C-4BDB-BD4D-AC7599C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968-7838-4E9D-B407-A25D557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A8F-B23B-4209-BDCC-2261D87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A3D8-20B6-41A1-B566-E41F0AFC350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0DB-22DE-4EB3-A1E5-A918FF7DF97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447920"/>
            <a:ext cx="7238880" cy="2803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00"/>
                </a:solidFill>
                <a:latin typeface="Verdana"/>
                <a:ea typeface="Arial"/>
              </a:rPr>
              <a:t>Servizi erogati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00"/>
                </a:solidFill>
                <a:latin typeface="Verdana"/>
                <a:ea typeface="Arial"/>
              </a:rPr>
              <a:t>dalle scuole</a:t>
            </a:r>
            <a:r>
              <a:rPr b="1" lang="ar-SA" sz="4400" spc="-1" strike="noStrike">
                <a:solidFill>
                  <a:srgbClr val="8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00"/>
                </a:solidFill>
                <a:latin typeface="Verdana"/>
                <a:ea typeface="Arial"/>
              </a:rPr>
              <a:t>alle famigli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1752480"/>
            <a:ext cx="24382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743200"/>
            <a:ext cx="167652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2743200"/>
            <a:ext cx="167652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09880"/>
            <a:ext cx="31240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343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Arial"/>
              </a:rPr>
              <a:t>Prime evidenze del report. n.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4876920"/>
            <a:ext cx="72388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6019920"/>
            <a:ext cx="739116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495288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7CE-31B3-4F17-9E07-FE7D7DD85C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14400" y="838080"/>
            <a:ext cx="7467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4191120"/>
            <a:ext cx="3657600" cy="18828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</a:rPr>
              <a:t>L’orientamento formati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econdo i genitori, l’Orientamento deve essere parte integrante alla Didattica e porsi in un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continuum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con l’Accoglienz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114800"/>
            <a:ext cx="4114800" cy="188280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</a:rPr>
              <a:t>La cultura del coinvolgimen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Richiesta di un maggiore coinvolgimento delle famiglie anche nel corso dell’anno con iniziative periodiche, in tutte le fasi e le attività della vita della scuol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1523880"/>
            <a:ext cx="3504960" cy="2157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esenze e assenze nel territo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carso supporto alle scuole da parte di altri soggetti a livello locale. Necessità di Individuare nuovi strumenti di interazione tra scuole e istituzioni loca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600200"/>
            <a:ext cx="4267440" cy="1882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’accoglienza attraverso i cic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areri complessivamente positivi sull’operato del 1° e 2° ciclo, con una migliore performance nel 1° ciclo, in cui l’accoglienza è parte integrante della didattic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Accoglienza e orienta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0A5-2753-45FC-9591-E87070E113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90720" y="1371600"/>
            <a:ext cx="4114800" cy="146556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’immagine della scuol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Alla scuola viene riconosciuta la titolarità di 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“operatore principale”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in termini di formazione curricolare e di educazione civile e socia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4267080"/>
            <a:ext cx="4419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Un modello tradizionale di attivit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Da segnalare che nel 2° ciclo le attività di recupero sono in prevalenza frontali, di tipo tradizionale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Offerta formativ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1752480"/>
            <a:ext cx="3886200" cy="338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Il POF: dalla forma alla sostanz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Il Piano dell’Offerta Formativa  è ancora considerato come un documento tipicamente formale e non come un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carta d’identità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degli impegni verso l’utenz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ertanto i genitori si sentono esclusi sia dal momento di definizione ex ante degli obiettivi sia dal controllo ex post dei risultati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B00-DFEE-4CD9-A0DB-64C73F62AC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495680"/>
            <a:ext cx="4800600" cy="13341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Nuovi strumenti didattic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a scuola appare aperta alle nuove tecnologie, ma non ha un adeguato livello di risorse finanziarie e strumenta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676520"/>
            <a:ext cx="4419720" cy="22885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Voglia di partecip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iene rilevato uno scarso coinvolgimento che genera demotivazione. La scuola non sembra sufficientemente interessata al contributo attivo delle famiglie nella programmazione della didattica e nella scelta dei libri di test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Organizzazione della didat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1828800"/>
            <a:ext cx="3733920" cy="381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Sicurezza e responsabilit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aumentare il livello di responsabilizzazione sulla sicurezza da parte  dei collaboratori scolastici e dei docen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i="1" lang="en-US" sz="1800" spc="-1" strike="noStrike">
                <a:solidFill>
                  <a:srgbClr val="000066"/>
                </a:solidFill>
                <a:latin typeface="Verdana"/>
              </a:rPr>
              <a:t>assicurare distribuzione di materiale informativo sulle norme di sicurezza e informazioni sull’andamento delle presenze- assenze degli alunn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154-32D4-4AF9-8809-4DBDD61E4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62120" y="1600200"/>
            <a:ext cx="449568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Informare per comunic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a scuola risulta essere aperta alle famiglie, ma non si mostra fattivamente impegnata a comprenderne i bisogni, le indicazioni e le lamentele (comunicazione unidirezionale e cartacea)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4495680"/>
            <a:ext cx="4495680" cy="146556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a disponibilità dei docen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E’ emerso un atteggiamento abbastanza collaborativo dei docenti verso le Famiglie che facilita il rapporto con la Scuol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Comunicazione e inform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2438280"/>
            <a:ext cx="4191120" cy="317232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’interesse particolare dei genitor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Il rapporto Scuola-Famiglia dipende da due fattori: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  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a  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motivazione a partecipare dei genitori  è influenzata da condizioni particolari e personali (poco tempo e disinteresse per ciò che non riguarda il  proprio figlio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a scuola non sembra avere una sufficiente cultura della condivisione e compartecipazion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FDE-FD19-4E77-948D-1E6AFA8D7D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1828800"/>
            <a:ext cx="716256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Verdana"/>
              </a:rPr>
              <a:t>Le competenze per l’integrazio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Riconoscimento del significativo impegno della scuola a sostegno degli studenti di fascia debol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Per i disabili viene richiesto un maggior impegno nella formazione del personale, per ridurre il fenomeno dell’emarginazione dei soggetti più deboli all’interno della class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4114800"/>
            <a:ext cx="7162920" cy="23000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’orizzonte multicultura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’inserimento degli extracomunitari non appare come causa di possibili disagi per la didattica, se vengono previste azioni di supporto “a monte”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 e famiglie auspicano che i disabili e gli studenti immigrati siano dotati degli strumenti necessari per vivere la scuola senza disagi e senza emarginazio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Integrazione delle fasce debo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6F3-1803-4070-BF38-8C8B47142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7339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268800">
            <a:off x="2820960" y="3963960"/>
            <a:ext cx="3960720" cy="2166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Analis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della doma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Obiettivi del docu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43400">
            <a:off x="4266720" y="1981080"/>
            <a:ext cx="4265640" cy="21463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Analisi Contest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evolut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21459600">
            <a:off x="533160" y="2057040"/>
            <a:ext cx="3811320" cy="19051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nalis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ell’offer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DD8-EAD9-4AC0-9349-70D30283C0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38080" y="1600200"/>
            <a:ext cx="7543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I processi</a:t>
            </a:r>
            <a:r>
              <a:rPr b="0" i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di </a:t>
            </a:r>
            <a:r>
              <a:rPr b="1" i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decentramento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amministrativo e scolastico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 hanno liberato risorse e spostato poteri e competenze. In particolare la riforma della scuola, insistendo sulla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centralità dell’alunno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 e sulla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flessibilità dell’offerta formativa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, ha messo in primo piano le esigenze dell’utenz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Uno scenario in movi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5257800"/>
            <a:ext cx="6629400" cy="91692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a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non sincronicità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dei percorsi riformatori ha evidenziato la necessità di una messa a punto e di un riallineamento dei processi di cambiamento in corso.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3429000"/>
            <a:ext cx="6095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’autonomia non è l’ obiettivo finale, ma lo strumento di raccordo tra </a:t>
            </a:r>
            <a:r>
              <a:rPr b="0" i="1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cuola-utenza-territorio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114800"/>
            <a:ext cx="71625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ullo sfondo di questo scenario emergono le crescenti aspettative delle famiglie, mentre il sociale sembra correre più forte, sulla scia del  </a:t>
            </a:r>
            <a:r>
              <a:rPr b="0" i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incipio di sussidiarietà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E6D-6F0C-476F-86F5-5520C832F3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La misura del cambia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5105520"/>
            <a:ext cx="7086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stato possibile così rilevare alcuni punti di criticità da cui partire per il miglioramento del sistema, anche alla luce delle potenzialità introdotte dalla Riform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3048120"/>
            <a:ext cx="22860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ervizi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verso le scuol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Report n. 1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2971800"/>
            <a:ext cx="221004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ervizi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verso le famigli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Report n. 2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572000" y="2666880"/>
            <a:ext cx="990720" cy="1067040"/>
          </a:xfrm>
          <a:custGeom>
            <a:avLst/>
            <a:gdLst>
              <a:gd name="textAreaLeft" fmla="*/ 0 w 990720"/>
              <a:gd name="textAreaRight" fmla="*/ 991080 w 99072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962520" y="2666880"/>
            <a:ext cx="914400" cy="1067040"/>
          </a:xfrm>
          <a:custGeom>
            <a:avLst/>
            <a:gdLst>
              <a:gd name="textAreaLeft" fmla="*/ 360 w 914400"/>
              <a:gd name="textAreaRight" fmla="*/ 915120 w 91440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752480"/>
            <a:ext cx="7696080" cy="9169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dare uno spessore scientifico a queste riflessioni, Il MIUR ha avviato u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etto di ricer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per misurare, valutare e rivedere, se necessario, le modalità di governo ed erogazione de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A0F-90CB-4E5C-9655-E243E30948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0988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1478800">
            <a:off x="5099040" y="1523520"/>
            <a:ext cx="3201840" cy="16099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L’approcci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metodolog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411600">
            <a:off x="1227240" y="1752480"/>
            <a:ext cx="3276360" cy="14479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Gli strument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utilizza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68800">
            <a:off x="4108320" y="2970360"/>
            <a:ext cx="3194280" cy="1523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La struttur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dei questionar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68800">
            <a:off x="839520" y="3503520"/>
            <a:ext cx="3584520" cy="1981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La rispost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delle famigl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1459600">
            <a:off x="4194000" y="4570200"/>
            <a:ext cx="3200400" cy="1676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La famigli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tip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Il progetto di ricerca – Report n.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261-F231-42DC-9B1F-E1B75D094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1752480"/>
            <a:ext cx="41911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Diffusi 30.000 questionari alle scuole. Distribuiti realmente alle famiglie 18.600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752480"/>
            <a:ext cx="3505320" cy="25743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Livello di partecipazione molto elevato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circa l’80% delle scuole ha restituito i questionari compilati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si attesta a valori pressochè uguali per ciascun ciclo e a livello di singola region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895480"/>
            <a:ext cx="419112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ipologia dei partecipanti alla ricerca: a maggioranza le madri (62%), con un leggero aumento dei padri nel 2° ciclo. Genitori abbastanza giovani (36-45 anni) con livello di scolarità medi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105520"/>
            <a:ext cx="78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Nel complesso i giudizi delle famiglie risultano maggiormente positivi nei confronti dell’operato delle scuole del 1° cicl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Rilevazione quantitativ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0CA-5305-4AD7-907A-57BAABA398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3809880"/>
            <a:ext cx="7543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Arial Unicode MS"/>
              </a:rPr>
              <a:t>Si nota una atteggiamento positivo nei confronti della scuola soprattutto quando ai genitori viene richiesto un parere sulla scuola in generale; il giudizio diventa più articolato e tendente a rilevare le criticità e a fare proposte di miglioramento, quando è espresso su specifiche questioni o elementi di dettagli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905120"/>
            <a:ext cx="716292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a scuola è considerata il principale soggetto istituzionale garante dei principi fondanti la società, oltre che capace di gestire un delicato equilibrio tra competenze necessarie per la crescita professionale e valori fondamentali per la convivenza civile.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Un buon indice di gradi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1D8-0B9C-4D1D-BA85-F569D9936D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2120" y="4724280"/>
            <a:ext cx="769608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e famiglie devono essere coinvolte in attività che le rendano maggiormente partecipi nella formazione dei loro figli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a maggiore possibilità di scelta offerta all’utenza dalla riforma può contribuire a ri-motivare la partecipazione e a  ristabilire un circolo virtuoso tra scuola e famigl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1981080"/>
            <a:ext cx="7162560" cy="1654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Le famiglie del 2° ciclo tendono a giudicare in generale l’operato della scuola meno positivo rispetto a quelle del 1° ciclo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In particolare la scuola primaria è un ordine di scuola che tende complessivamente a mostrare un’immagine più amichevole nei confronti dell’utenza.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114800"/>
            <a:ext cx="2857680" cy="642600"/>
          </a:xfrm>
          <a:prstGeom prst="rect">
            <a:avLst/>
          </a:prstGeom>
          <a:solidFill>
            <a:srgbClr val="3366cc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Verdana"/>
                <a:ea typeface="Times New Roman"/>
              </a:rPr>
              <a:t>L’autonomia </a:t>
            </a:r>
            <a:r>
              <a:rPr b="0" i="1" lang="en-US" sz="1800" spc="-1" strike="noStrike">
                <a:solidFill>
                  <a:srgbClr val="ccffff"/>
                </a:solidFill>
                <a:latin typeface="Verdana"/>
                <a:ea typeface="Times New Roman"/>
              </a:rPr>
              <a:t>non</a:t>
            </a:r>
            <a:r>
              <a:rPr b="0" lang="en-US" sz="1800" spc="-1" strike="noStrike">
                <a:solidFill>
                  <a:srgbClr val="ccffff"/>
                </a:solidFill>
                <a:latin typeface="Verdana"/>
                <a:ea typeface="Times New Roman"/>
              </a:rPr>
              <a:t> partecip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1371600"/>
            <a:ext cx="2819160" cy="642600"/>
          </a:xfrm>
          <a:prstGeom prst="rect">
            <a:avLst/>
          </a:prstGeom>
          <a:solidFill>
            <a:srgbClr val="3366cc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Verdana"/>
                <a:ea typeface="Times New Roman"/>
              </a:rPr>
              <a:t>Una scuola a 2 corsie: il I° e il II° cicl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Le criticità rilev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BC7-94FD-4076-AA32-170AF7F502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7339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1027000">
            <a:off x="4952520" y="1600200"/>
            <a:ext cx="3429000" cy="17431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Accoglienz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e orienta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1459600">
            <a:off x="1523520" y="1676160"/>
            <a:ext cx="3429000" cy="161604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Offert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formativ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268800">
            <a:off x="4723920" y="3502080"/>
            <a:ext cx="3353040" cy="1806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Organizz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della didat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UR-Direzione generale per le risorse umane del Ministero, acquisti e affari generali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RRE E. ROMAG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0000"/>
                </a:solidFill>
                <a:latin typeface="Verdana"/>
              </a:rPr>
              <a:t>Progetto di ricerca per la verifica dei livelli di servizio erogati sul territorio dal MIUR e dalle istituzioni scolastiche autonom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68800">
            <a:off x="912960" y="3211200"/>
            <a:ext cx="3203280" cy="177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Comunicazion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e inform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1459600">
            <a:off x="2589120" y="4789080"/>
            <a:ext cx="3351240" cy="1693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Integrazion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  <a:ea typeface="Arial"/>
              </a:rPr>
              <a:t>fasce debo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Aree di approfondi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07A-A781-4CCF-97E6-CE5DBE14CB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0:27:17Z</dcterms:created>
  <dc:creator>Lucia Fattori</dc:creator>
  <dc:description/>
  <dc:language>en-US</dc:language>
  <cp:lastModifiedBy>giancarlo.mariani.an</cp:lastModifiedBy>
  <dcterms:modified xsi:type="dcterms:W3CDTF">2004-11-19T11:04:02Z</dcterms:modified>
  <cp:revision>96</cp:revision>
  <dc:subject/>
  <dc:title>Presentazione di PowerPoint</dc:title>
</cp:coreProperties>
</file>