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DC07-BDD5-44ED-81E4-270184E0886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DA49-9C82-4214-B162-4EE08724FC4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6701-8884-4746-B486-04125575F5B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9C88-D524-4F2B-A7D5-12354B5D372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308C-6F4B-476D-93A4-3AAB225E320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1187-8ED9-4792-B1C3-00F4BAC406B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A4F2-B123-4166-BEB2-CD7C6B15523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BA4C-2394-4623-BCE6-5DDD66EC814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37A6-82DE-4903-8998-28BBC9BFB43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B003-6A74-4741-9A9B-D5B95C56F2A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D8DD-B9D5-42DA-8688-F2D886AB888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BF31-487E-4F4E-A1A6-A0A5B2C47C4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7884-7147-4F31-B940-64838CEB58A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ACAF-14B4-499B-A613-62EEB155D49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1EC3-FAD5-4961-A47E-151825EFD04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C5DF-52F5-4213-8CFE-AB973D7B55D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1E13-C571-4684-8156-52B02943A52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D636-EC4E-4033-865C-094EF879075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9A89-AFD7-44C6-ABEA-0429DEC74A8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AC74-0194-4FD2-A3F0-3B6943F4A1B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426B-DFBD-4082-95BC-E3979D5F722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F893-D09A-4559-A4BD-E94340C4088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4A26-D998-4284-B6AD-8A139D5E631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EF3C-B1DB-40E2-B113-7A13B78187F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1C1D-C9FD-4546-801B-E1AED34EB6F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97A6-5BE9-4695-B5C2-A4E8A67CE14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C9CC-E481-4C54-B7AA-37AAF51C738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0502-6BE8-4DE7-A7E4-A6343BA684C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6CAD-D93F-46B0-86C1-15A5A4187B9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040A-7B5B-4889-8EF4-7AC67A4677C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4F50-803E-435F-81AB-C2E3FB0EBF0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F90D-01CC-4E42-8FE7-D35EAB7D661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B6BF-12F6-44AE-A64F-D4DD3CFBC79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0703-1DCE-412F-A3AE-99CBA32A8DA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B858-093B-47AE-AD6C-4D0E6AB7B2D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1560-4230-4760-9C1A-985FFF365CC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B4A2-7E20-4462-8584-0D49A7AC1C2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FC31-3894-4F91-BE2A-C35FEBBE0BB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F630-CE8C-4E25-9798-8139157D6C9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ED6E-8CEB-4D62-B01E-1DEA8EDADF0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3E6B-0CE8-4799-A103-81B0027A38B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8A37-A84B-4CD5-A360-FE16D354882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65BA-3E9B-4BEF-BF6B-A72925D6F7F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D0307-C652-45A1-B8BD-3160831B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8FEBF-246E-4813-BED1-F1EBC328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C3E65-360C-4F25-948B-07241F01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55045-BBC2-4123-86B4-505C042A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6887A-87E9-40EC-B264-65E413A2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652B6-2BA2-4482-A0AA-68180D50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2EB43-7719-4254-8B63-9C65670B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48B48-EFDD-4179-A47C-A1574BD8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CCB52-1254-4FB8-93DD-58BA7CC4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99D4A-E3B8-4F24-B4D3-0CC91393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8A357-F0E5-4F8A-A36D-8B440365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D7FF-A813-4104-A31C-811B9BDF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AC960-A544-420A-BA85-A8B9B9C0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38F5-7753-4827-B854-650FBD06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3953-A6F8-4D3C-B434-97568021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8963-3977-44EB-B077-1638758C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27B6-5CD0-43D9-9F6A-3890E66E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74FA-7376-4EAC-9F09-ED3EBFFA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E82F-6339-4D18-81F3-4D01B391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5C56-608D-4B0D-81B9-06506CE1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7BF36-E2AD-4C27-99F3-1E4502E5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9F69-D16D-4AE5-B1DD-DA0AFC61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7D32-4B13-4DEF-9DA6-9296EDB0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EDD9-65B4-4AC0-B7E6-6930F166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AC8B-46F4-4B37-842B-8BFE7169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C876-47C2-418C-A92F-B762C426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2FF0A-A0B3-4C85-BD58-71811379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3D6B6-D6C8-4EF0-A2B6-5C8F80A4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F3453-E222-4D16-A665-DC0ABFA3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F06E6-CE51-415D-BA43-B00580DF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1B88C-A8DE-426C-BA92-96F596DC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D3704-4B66-4B15-A3D4-FDFCDF8B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88BED-04A6-4776-93BC-61309495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3CEA1-3FBE-4865-845B-CF67AB2E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AF055-84B9-4B37-8F5A-8CF4D2DC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61BB7-CADA-4439-8C06-B7EC26C5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A6D5F-D011-40F1-8A41-B8E867AB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9E560-55AC-46BD-85E2-3D183E4E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6E478-849B-42FF-9AF5-85B20003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F25E8-035A-4D85-99C8-08436BD4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EF305-6006-400A-90DE-4FA2092F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12413-39C8-4B6F-9545-5BC845A8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CF0D3-4F4B-48FF-8A33-D728EA7D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CB228-74C0-44C5-9138-E50EC8EB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369ED-BEA0-4D44-B17B-DB1B761A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D0FC4-3EDC-42EF-B46E-E86D4CFA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DEE90-D8B1-4F8F-8BD4-136D722C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C9C3E-5CDA-4D13-91E2-E8327CB0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61176-1E06-45D2-ADBC-53529278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9C6B7-ED92-43BF-8869-920226C2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439ED-E875-4CE8-9592-D9206716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A4953-4567-44AF-BD56-04A8B008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280AF-C4AE-4E10-8D42-A9A001B3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8A6D4-4ACE-42A9-A93C-16AFE044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19A1B-E8C2-4FC0-A41B-F1F36BF1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86152-0159-414B-8FC5-97612A9F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56E21-832D-4489-80B4-08907190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E799F-801A-489D-ADBD-1CD862E2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A2485-1207-4337-89EB-B0AFEE0E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8C107-0BEC-4B0E-B60D-E3B166BC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F17E2-E123-4B12-98FF-D32AECE0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FA140-6BC7-4BEF-AFB7-D18DCE88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38970-CF06-4CA3-9703-0F12FBC3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91A25-2E55-4550-9FAB-4F33724C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CB73-5503-408E-8571-2AB1DF5D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91D1A-9527-4302-898A-E920AC91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A2BD9-9ABE-43AE-8109-52BBF7FB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04C0A-B5BF-47D7-BB44-917B7FC6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210E6-9F0C-4C06-AEBC-BD6EC905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2670A-E1D9-4DA3-9506-7E8B5D34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A63AC-98CA-4D25-9812-785690E2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A5FEE-2B85-4E90-A5F6-0D1D8A39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D8DE0-175F-4711-9BE4-66FE404C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7ED6B-F6A0-4A2D-BC3A-C6C90BF0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B7111-F262-4B60-8009-9B32A77A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932E6-020B-4D78-B2D5-D72B22FD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AA00F-6B5F-4599-84B1-99A8134C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39DE0-E6F8-4496-8062-3D604CFF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9F90E-F62A-45BE-933D-7AD6E202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C325B-FB2D-4CDA-8408-876BDBAE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426FF-262A-49F1-8006-8BE3ED1C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49695-9DF9-46D8-8F68-7015410F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7BD2D-2ED1-424D-B3C3-861AB071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41212-9778-4292-8274-856C58FB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09476-495A-4428-8C37-6ADD2CD1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102BF-0F17-4477-BEAA-F84005F1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879D-6A00-4C72-A296-F3CB3B02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87614-154E-4DC3-9D77-7BBC02B6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46F84-1063-4C49-B08E-BCF4CFAE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A3BCE-794D-43F2-AE28-F2EDAABC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CD32D-3A74-4835-93DE-9F28D6F1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46D96-4A85-45EB-A86D-8E56FD13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9043F-E1C3-4444-B798-EEAF3F97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94A1C-A6EB-4EC8-B6EC-91D893C3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EE49D-546C-485B-BA2F-394BB46B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E203F-9E6F-464E-8357-6DBC3249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03065-B22E-4A13-8FF5-45AF4B16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BEB77-E4B0-492B-82DC-CCD30C9F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E9C30-EA76-4A5B-BA9F-84C11AE3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5DFCC-5524-47C8-9BE1-72FD750E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8ADA1-1F7C-4276-9926-C038CBCB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AC78B-80FE-4E85-A193-BFC6824E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A981E-20D4-478D-92D5-82CBCBA3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3F6C0-8B97-4A53-A147-A4FDD1AA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4CFDA-6E0E-45EA-864D-D7C52F9D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0D1F7-9894-4095-9455-74306B1D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FB335-245B-4ADD-B67B-A9FDBA57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75516-D35B-4C09-9C75-05B49DDD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D4EF-B64C-4AE2-B9C1-1E8FDBADBBEE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19A2-D676-46DE-B49E-6FC260DF44B2}" type="datetime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1C88-2084-441A-84CD-09AA8A5C989C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CD0F-87F4-4E80-BB50-DC66A9BFEB64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BC38-8823-44F0-8160-68443093968A}" type="datetime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7F48-75F3-420C-9AB0-5673747A5774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igura a mano libera 6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igura a mano libera 7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Triangolo rettangolo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0" name="Triangolo rettangolo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Connettore 1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3" name="Gallone 11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Gallone 12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5B9B-EA70-438D-BDF2-D99729EA382B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6E2B-668A-4DC4-87CC-9DC617FF7456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igura a mano libera 6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igura a mano libera 7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Triangolo rettangolo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9" name="Triangolo rettangolo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Connettore 1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6A1F-D1D8-4F4C-85B5-E6680C46E67A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949F-E493-4B05-8C16-FBB11C4533FA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C61A-C37F-4A31-BCAF-9D8108A2AA0C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872E-3CF8-454A-932F-5153E4218012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igura a mano libera 6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igura a mano libera 7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Triangolo rettangolo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7" name="Triangolo rettangolo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9" name="Connettore 1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C1BE-3842-42F0-B407-902A9E9FD5DB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9923-A283-4EB9-9494-58368E6B69B7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C530-3D0F-43F6-B80F-29B02659C157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DCE3-FC18-43B2-981C-43A45FA212A4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igura a mano libera 6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igura a mano libera 7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Triangolo rettangolo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5" name="Triangolo rettangolo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7" name="Connettore 1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8" name="Gallone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Gallone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95C8-D510-4D51-AABD-93E47D1CA8AD}" type="datetime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432A-4B3E-4A47-9ACD-D92CA7B35CCD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CasellaDiTesto 4"/>
          <p:cNvSpPr/>
          <p:nvPr/>
        </p:nvSpPr>
        <p:spPr>
          <a:xfrm>
            <a:off x="3065400" y="1727280"/>
            <a:ext cx="60786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Arial"/>
                <a:ea typeface="Calibri"/>
              </a:rPr>
              <a:t>I nuov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600" spc="-1" strike="noStrike">
                <a:solidFill>
                  <a:srgbClr val="ffffff"/>
                </a:solidFill>
                <a:latin typeface="Arial"/>
                <a:ea typeface="Calibri"/>
              </a:rPr>
              <a:t>Licei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3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CasellaDiTesto 5"/>
          <p:cNvSpPr/>
          <p:nvPr/>
        </p:nvSpPr>
        <p:spPr>
          <a:xfrm>
            <a:off x="581040" y="4572000"/>
            <a:ext cx="83455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Schema di regolamento*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recante </a:t>
            </a:r>
            <a:br>
              <a:rPr sz="1800"/>
            </a:b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“Revisione dell’assetto ordinamentale, organizzativo didattico dei licei ai sensi dell’articolo 64, comma 4, del decreto legge 25 giugno 2008, n. 112, convertito dalla legge 6 agosto 2008, n. 133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it-IT" sz="1400" spc="-1" strike="noStrike">
                <a:solidFill>
                  <a:srgbClr val="ff0000"/>
                </a:solidFill>
                <a:latin typeface="Calibri"/>
              </a:rPr>
              <a:t> licenziato in prima lettura dal Consiglio dei Mini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egnaposto numero diapositiva 2"/>
          <p:cNvSpPr/>
          <p:nvPr/>
        </p:nvSpPr>
        <p:spPr>
          <a:xfrm>
            <a:off x="7340760" y="758016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7715-0D5A-49E6-945D-4EAD998A5B84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ttangolo 4"/>
          <p:cNvSpPr/>
          <p:nvPr/>
        </p:nvSpPr>
        <p:spPr>
          <a:xfrm>
            <a:off x="216000" y="1425600"/>
            <a:ext cx="866592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clas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lingui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musicale e coreu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scientifico </a:t>
            </a:r>
            <a:br>
              <a:rPr sz="3200"/>
            </a:b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  <a:ea typeface="Calibri"/>
              </a:rPr>
              <a:t>opzione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scientifico-tecno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delle scienze umane </a:t>
            </a:r>
            <a:br>
              <a:rPr sz="3200"/>
            </a:b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  <a:ea typeface="Calibri"/>
              </a:rPr>
              <a:t>opzione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economico-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9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E914-1034-4C18-8CB6-B22203479FB0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sellaDiTesto 6"/>
          <p:cNvSpPr/>
          <p:nvPr/>
        </p:nvSpPr>
        <p:spPr>
          <a:xfrm>
            <a:off x="563400" y="428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secondo il Regol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2"/>
          <p:cNvSpPr/>
          <p:nvPr/>
        </p:nvSpPr>
        <p:spPr>
          <a:xfrm>
            <a:off x="771480" y="912960"/>
            <a:ext cx="72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0000"/>
                </a:solidFill>
                <a:uFillTx/>
                <a:latin typeface="Arial"/>
              </a:rPr>
              <a:t>Licei del nuovo ordin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9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Text Box 8"/>
          <p:cNvSpPr/>
          <p:nvPr/>
        </p:nvSpPr>
        <p:spPr>
          <a:xfrm>
            <a:off x="388800" y="1101600"/>
            <a:ext cx="7899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I Licei si diversificano in rapporto agli approfondimenti specifici che rientrano all’interno di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un’unica cultura liceale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I quadri orari dei singoli percorsi liceali presentano l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materie obbligatorie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per tutti gli studenti. Ciascuna istituzione scolastica può utilizzare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la quota di autonomia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per rafforzare alcune materie o per inserirne di ulteriori scelte dal Repertorio (</a:t>
            </a:r>
            <a:r>
              <a:rPr b="0" i="1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Allegato H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L’offerta formativa può essere ulteriormente arricchita attraverso gli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nsegnamenti facoltativi aggiuntivi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attivati dalle Istituzioni scolasti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6AE8-AAC0-47BB-8DBE-9DCFDA76335F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4140-6DB7-44DC-89FC-47FC31FDAAA9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sellaDiTesto 3"/>
          <p:cNvSpPr/>
          <p:nvPr/>
        </p:nvSpPr>
        <p:spPr>
          <a:xfrm>
            <a:off x="565200" y="398520"/>
            <a:ext cx="7824600" cy="61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Calibri"/>
              </a:rPr>
              <a:t>allegato H – Repertorio delle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Approfondimenti nelle discipline obbligatorie </a:t>
            </a:r>
            <a:r>
              <a:rPr b="1" lang="it-IT" sz="1400" spc="-1" strike="noStrike">
                <a:solidFill>
                  <a:srgbClr val="002060"/>
                </a:solidFill>
                <a:latin typeface="Arial"/>
                <a:ea typeface="Calibri"/>
              </a:rPr>
              <a:t>oppure ove non previste tra le Attività e insegnamenti obbligatori per tutti gli studenti nelle singole classi, attivazione tra le seguenti discipli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Diritto ed econo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Mu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Strumento musi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Lingua straniera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Lingua e cultura la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Lingua e cultura gre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Discipline audiovi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Tecnologia e diseg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Storia dell’ar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Pedag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Psicol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Sociol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Legislazione soc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Elementi di Psicologia, sociologia e stati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Informatica e sistemi automat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Scienze sociali e metodologia della rice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Fi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Scienz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Conversazione con docente di madrelin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Teoria e tecnica della comunic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8F67-0394-4EFC-A999-70135839B6AA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0" y="1407960"/>
            <a:ext cx="895824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Verdana"/>
                <a:ea typeface="Calibri"/>
              </a:rPr>
              <a:t>	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Per i percorsi liceali la quota oraria riservata alle singole istituzioni scolastiche, determinata nei limiti del contingente di organico ad esse assegnato, e tenuto conto delle richieste degli studenti e delle loro famiglie,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  <a:ea typeface="Calibri"/>
              </a:rPr>
              <a:t>non può essere superiore al 20% del monte ore complessivo</a:t>
            </a:r>
            <a:r>
              <a:rPr b="0" lang="it-IT" sz="2400" spc="-1" strike="noStrike">
                <a:solidFill>
                  <a:srgbClr val="ef033b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  <a:ea typeface="Calibri"/>
              </a:rPr>
              <a:t>nel primo biennio, al 30% nel secondo biennio e al 20% nel quinto anno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, fermo restando che l’orario previsto dal piano di studio di ciascuna disciplina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  <a:ea typeface="Calibri"/>
              </a:rPr>
              <a:t>non può essere ridotto in misura superiore a un terzo nell’arco dei cinque an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1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CasellaDiTesto 6"/>
          <p:cNvSpPr/>
          <p:nvPr/>
        </p:nvSpPr>
        <p:spPr>
          <a:xfrm>
            <a:off x="717480" y="425520"/>
            <a:ext cx="74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Quote di auto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0796-725D-4F31-831F-947CBC674933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sellaDiTesto 2"/>
          <p:cNvSpPr/>
          <p:nvPr/>
        </p:nvSpPr>
        <p:spPr>
          <a:xfrm>
            <a:off x="142920" y="598320"/>
            <a:ext cx="84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GESTIONE DELLA QUOTA DI AUTONOMIA ATTRAVERSO IL SISTEMA INFORMATIVO DEL MI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CasellaDiTesto 4"/>
          <p:cNvGrpSpPr/>
          <p:nvPr/>
        </p:nvGrpSpPr>
        <p:grpSpPr>
          <a:xfrm>
            <a:off x="237960" y="890640"/>
            <a:ext cx="8607600" cy="6028920"/>
            <a:chOff x="237960" y="890640"/>
            <a:chExt cx="8607600" cy="6028920"/>
          </a:xfrm>
        </p:grpSpPr>
        <p:pic>
          <p:nvPicPr>
            <p:cNvPr id="517" name="CasellaDiTesto 4" descr=""/>
            <p:cNvPicPr/>
            <p:nvPr/>
          </p:nvPicPr>
          <p:blipFill>
            <a:blip r:embed="rId1"/>
            <a:stretch/>
          </p:blipFill>
          <p:spPr>
            <a:xfrm>
              <a:off x="237960" y="890640"/>
              <a:ext cx="8607600" cy="60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260280" y="914400"/>
              <a:ext cx="8566200" cy="60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7d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Per rendere effettiva la possibilità di recepire in organico di diritto le variazioni determinate dall’impiego della quota del 20% e del 30% di autonomia riservata alle singole Istituzioni Scolastiche verrà assicurata la seguente procedura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7d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il Sistema Informativo</a:t>
              </a:r>
              <a:r>
                <a:rPr b="0" lang="it-IT" sz="2200" spc="-1" strike="noStrike">
                  <a:solidFill>
                    <a:srgbClr val="ef033b"/>
                  </a:solidFill>
                  <a:latin typeface="Arial"/>
                </a:rPr>
                <a:t> </a:t>
              </a: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del</a:t>
              </a:r>
              <a:r>
                <a:rPr b="0" lang="it-IT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it-IT" sz="2200" spc="-1" strike="noStrike">
                  <a:solidFill>
                    <a:srgbClr val="ef033b"/>
                  </a:solidFill>
                  <a:latin typeface="Arial"/>
                </a:rPr>
                <a:t>MIUR</a:t>
              </a:r>
              <a:r>
                <a:rPr b="0" lang="it-IT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fornirà l’elaborazione automatizzata degli organici sulla base dei piani orari nazionali standar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7d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le singole istituzioni scolastiche inseriranno le variazioni necessarie a corrispondere al Piano dell’offerta formativa, sia in termini di </a:t>
              </a:r>
              <a:r>
                <a:rPr b="0" lang="it-IT" sz="2200" spc="-1" strike="noStrike">
                  <a:solidFill>
                    <a:srgbClr val="ef033b"/>
                  </a:solidFill>
                  <a:latin typeface="Arial"/>
                </a:rPr>
                <a:t>compensazione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sia in termini di </a:t>
              </a:r>
              <a:r>
                <a:rPr b="0" lang="it-IT" sz="2200" spc="-1" strike="noStrike">
                  <a:solidFill>
                    <a:srgbClr val="ef033b"/>
                  </a:solidFill>
                  <a:latin typeface="Arial"/>
                </a:rPr>
                <a:t>inserimento di discipline</a:t>
              </a: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 (nell’ambito del repertorio di cui all’allegato H), fermi restando il numero delle ore previste dall’ordinamento, le quote di autonomia su richiamate, e il vincolo di non diminuire una disciplina  di più di un terzo nell’arco del quinquennio 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7"/>
          <p:cNvGrpSpPr/>
          <p:nvPr/>
        </p:nvGrpSpPr>
        <p:grpSpPr>
          <a:xfrm>
            <a:off x="8001000" y="142920"/>
            <a:ext cx="1011240" cy="955440"/>
            <a:chOff x="8001000" y="142920"/>
            <a:chExt cx="1011240" cy="955440"/>
          </a:xfrm>
        </p:grpSpPr>
        <p:pic>
          <p:nvPicPr>
            <p:cNvPr id="520" name="Picture 8" descr="miur_colorato_trasparente_piccolo"/>
            <p:cNvPicPr/>
            <p:nvPr/>
          </p:nvPicPr>
          <p:blipFill>
            <a:blip r:embed="rId2"/>
            <a:stretch/>
          </p:blipFill>
          <p:spPr>
            <a:xfrm>
              <a:off x="8169480" y="142920"/>
              <a:ext cx="594720" cy="5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Text Box 9"/>
            <p:cNvSpPr/>
            <p:nvPr/>
          </p:nvSpPr>
          <p:spPr>
            <a:xfrm>
              <a:off x="8001000" y="761040"/>
              <a:ext cx="101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C347-F4C1-4100-8337-1431788D798F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asellaDiTesto 2"/>
          <p:cNvSpPr/>
          <p:nvPr/>
        </p:nvSpPr>
        <p:spPr>
          <a:xfrm>
            <a:off x="142920" y="598320"/>
            <a:ext cx="84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ORGANICO AGGIUNT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CasellaDiTesto 4"/>
          <p:cNvGrpSpPr/>
          <p:nvPr/>
        </p:nvGrpSpPr>
        <p:grpSpPr>
          <a:xfrm>
            <a:off x="262080" y="1627200"/>
            <a:ext cx="8613720" cy="5462640"/>
            <a:chOff x="262080" y="1627200"/>
            <a:chExt cx="8613720" cy="5462640"/>
          </a:xfrm>
        </p:grpSpPr>
        <p:pic>
          <p:nvPicPr>
            <p:cNvPr id="526" name="CasellaDiTesto 4" descr=""/>
            <p:cNvPicPr/>
            <p:nvPr/>
          </p:nvPicPr>
          <p:blipFill>
            <a:blip r:embed="rId1"/>
            <a:stretch/>
          </p:blipFill>
          <p:spPr>
            <a:xfrm>
              <a:off x="262080" y="1627200"/>
              <a:ext cx="8613720" cy="54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89080" y="1652760"/>
              <a:ext cx="85658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buClr>
                  <a:srgbClr val="00007d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L’annuale Decreto Interministeriale metterà a disposizione delle scuole  e / o di reti di scuole un  contingente di organico aggiuntivo secondo modalità tecnico-giuridiche di ampliamento degli organici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7"/>
          <p:cNvGrpSpPr/>
          <p:nvPr/>
        </p:nvGrpSpPr>
        <p:grpSpPr>
          <a:xfrm>
            <a:off x="8001000" y="142920"/>
            <a:ext cx="1011240" cy="955440"/>
            <a:chOff x="8001000" y="142920"/>
            <a:chExt cx="1011240" cy="955440"/>
          </a:xfrm>
        </p:grpSpPr>
        <p:pic>
          <p:nvPicPr>
            <p:cNvPr id="529" name="Picture 8" descr="miur_colorato_trasparente_piccolo"/>
            <p:cNvPicPr/>
            <p:nvPr/>
          </p:nvPicPr>
          <p:blipFill>
            <a:blip r:embed="rId2"/>
            <a:stretch/>
          </p:blipFill>
          <p:spPr>
            <a:xfrm>
              <a:off x="8169480" y="142920"/>
              <a:ext cx="594720" cy="5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 Box 9"/>
            <p:cNvSpPr/>
            <p:nvPr/>
          </p:nvSpPr>
          <p:spPr>
            <a:xfrm>
              <a:off x="8001000" y="761040"/>
              <a:ext cx="101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34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CasellaDiTesto 6"/>
          <p:cNvSpPr/>
          <p:nvPr/>
        </p:nvSpPr>
        <p:spPr>
          <a:xfrm>
            <a:off x="384120" y="593640"/>
            <a:ext cx="74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Carico orario per gli stud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0" y="1335240"/>
            <a:ext cx="9144000" cy="53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Liceo </a:t>
            </a:r>
            <a:r>
              <a:rPr b="1" lang="it-IT" sz="3200" spc="-1" strike="noStrike" u="sng">
                <a:solidFill>
                  <a:srgbClr val="ef033b"/>
                </a:solidFill>
                <a:uFillTx/>
                <a:latin typeface="Arial"/>
                <a:ea typeface="Times New Roman"/>
              </a:rPr>
              <a:t>artistico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4 o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  <a:ea typeface="Times New Roman"/>
              </a:rPr>
              <a:t>nel bienni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5 o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  <a:ea typeface="Times New Roman"/>
              </a:rPr>
              <a:t>nel trienni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Liceo </a:t>
            </a:r>
            <a:r>
              <a:rPr b="1" lang="it-IT" sz="3200" spc="-1" strike="noStrike" u="sng">
                <a:solidFill>
                  <a:srgbClr val="ef033b"/>
                </a:solidFill>
                <a:uFillTx/>
                <a:latin typeface="Arial"/>
                <a:ea typeface="Times New Roman"/>
              </a:rPr>
              <a:t>musicale e coreutico</a:t>
            </a:r>
            <a:br>
              <a:rPr sz="3200"/>
            </a:br>
            <a:r>
              <a:rPr b="0" lang="it-IT" sz="1800" spc="-1" strike="noStrike">
                <a:solidFill>
                  <a:srgbClr val="00007d"/>
                </a:solidFill>
                <a:latin typeface="Arial"/>
                <a:ea typeface="Times New Roman"/>
              </a:rPr>
              <a:t>(dalla prima alla quinta cla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2 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Liceo </a:t>
            </a:r>
            <a:r>
              <a:rPr b="1" lang="it-IT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classico</a:t>
            </a:r>
            <a:br>
              <a:rPr sz="3200"/>
            </a:b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27 ore 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</a:rPr>
              <a:t>nel biennio, </a:t>
            </a: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1 ore 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</a:rPr>
              <a:t>nel trien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Licei </a:t>
            </a:r>
            <a:r>
              <a:rPr b="1" lang="it-IT" sz="2800" spc="-1" strike="noStrike" u="sng">
                <a:solidFill>
                  <a:srgbClr val="ef033b"/>
                </a:solidFill>
                <a:uFillTx/>
                <a:latin typeface="Arial"/>
              </a:rPr>
              <a:t>scientifico, linguistico, scienze um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27 ore 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</a:rPr>
              <a:t>nel biennio, </a:t>
            </a: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0 ore 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</a:rPr>
              <a:t>nel triennio</a:t>
            </a:r>
            <a:r>
              <a:rPr b="1" lang="it-IT" sz="1800" spc="-1" strike="noStrike">
                <a:solidFill>
                  <a:srgbClr val="ef033b"/>
                </a:solidFill>
                <a:latin typeface="Arial"/>
                <a:ea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16B3-0949-4241-BB52-C98F2943EEDD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"/>
          <p:cNvSpPr/>
          <p:nvPr/>
        </p:nvSpPr>
        <p:spPr>
          <a:xfrm>
            <a:off x="189000" y="1210680"/>
            <a:ext cx="85946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I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Calibri"/>
              </a:rPr>
              <a:t>tutti i Lice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viene studiat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obbligatoriamente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  <a:ea typeface="Calibri"/>
              </a:rPr>
              <a:t>almeno una lingua stran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  <a:ea typeface="Calibri"/>
              </a:rPr>
              <a:t>Nel Liceo linguistico, che diventa scuola di ordinamento, si studiano tre lingue strani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Calibri"/>
              </a:rPr>
              <a:t>È attivabile una seconda lingua straniera in tutti i licei usufruendo  della quota di 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4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CasellaDiTesto 6"/>
          <p:cNvSpPr/>
          <p:nvPr/>
        </p:nvSpPr>
        <p:spPr>
          <a:xfrm>
            <a:off x="417600" y="466560"/>
            <a:ext cx="74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ngue strani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1"/>
          <p:cNvSpPr/>
          <p:nvPr/>
        </p:nvSpPr>
        <p:spPr>
          <a:xfrm>
            <a:off x="428760" y="4270320"/>
            <a:ext cx="8092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Nel 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Liceo classico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fino ad ora lo studio della lingua straniera </a:t>
            </a:r>
            <a:br>
              <a:rPr sz="2000"/>
            </a:b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era previsto solo nel bienn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Nel 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Liceo artistico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quadriennale non era previsto </a:t>
            </a:r>
            <a:br>
              <a:rPr sz="2000"/>
            </a:b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lo studio della lingua strani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9B2C-38A2-4AE0-BF1E-DADCDA5370F9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4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Rectangle 7"/>
          <p:cNvSpPr/>
          <p:nvPr/>
        </p:nvSpPr>
        <p:spPr>
          <a:xfrm>
            <a:off x="584280" y="1373040"/>
            <a:ext cx="795168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In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tutti i percorsi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è previsto che, nel quinto anno di corso, una disciplina non linguistica sia studiata in lingua straniera secondo la modalità CL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Un decreto ministeriale fisserà i percorsi e i titoli per ottenere la specializzazione CL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CasellaDiTesto 6"/>
          <p:cNvSpPr/>
          <p:nvPr/>
        </p:nvSpPr>
        <p:spPr>
          <a:xfrm>
            <a:off x="822240" y="614520"/>
            <a:ext cx="74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7056-FEA0-4DAD-A66D-D81577689195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Obbligo di istr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e"/>
                </a:solidFill>
                <a:latin typeface="Arial"/>
                <a:ea typeface="Arial"/>
              </a:rPr>
              <a:t>Il primo biennio di ciascun percorso è finalizzato a una prima acquisizione delle conoscenze, abilità e competenze caratterizzanti le singole articolazioni del sistema liceale di cui all’articolo 3 e all’assolvimento dell’obbligo di istru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e"/>
                </a:solidFill>
                <a:latin typeface="Arial"/>
                <a:ea typeface="Arial"/>
              </a:rPr>
              <a:t>Ciò anche attraverso la verifica e l’eventuale integrazione delle conoscenze, abilità e competenze raggiunte al termine del primo ciclo di istruzione, attraverso gli strumenti di autonomia didattica previsti dall’articolo 4 del DPR 8 marzo 1999, n. 27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E50A-3112-4260-A9E6-E5F2446B70F5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5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3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Avver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5714-AB10-4276-916C-6127632A0D33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"/>
          <p:cNvSpPr/>
          <p:nvPr/>
        </p:nvSpPr>
        <p:spPr>
          <a:xfrm>
            <a:off x="552600" y="923040"/>
            <a:ext cx="831528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Le slide che seguono presentano lo schema di Regolamento approvato in prima lettura dal Consiglio dei Ministri (CDM) il 28 maggio 2009; esaminato dal CNP, dalla Conferenza unificata Stato Regioni il 29 ottobre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Questa fase di </a:t>
            </a:r>
            <a:r>
              <a:rPr b="0" i="1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“Dialogo con la scuola” </a:t>
            </a: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e i pareri obbligatori (Consiglio di Stato e Commissioni parlamenta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Calibri"/>
              </a:rPr>
              <a:t>contribuiranno a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Calibri"/>
              </a:rPr>
              <a:t>integrare e modificare</a:t>
            </a:r>
            <a:br>
              <a:rPr sz="1800"/>
            </a:b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il testo che andrà in approvazione defin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L’iter legislativo prevede successivamen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Approvazione definitiva da parte del C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Firma da parte del Capo dello Sta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Registrazione da parte della Corte dei Co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Pubblicazione sulla Gazzetta Ufficiale della Repubbl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Scuola, istruzione superiore,</a:t>
            </a:r>
            <a:br>
              <a:rPr sz="3200"/>
            </a:b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 mondo del lav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e"/>
                </a:solidFill>
                <a:latin typeface="Arial"/>
                <a:ea typeface="Arial"/>
              </a:rPr>
              <a:t>Le istituzioni scolastiche stabiliscono, a partire dal secondo biennio, anche d’intesa con le università, le istituzioni dell’alta formazione artistica, musicale e coreutica, gli IFTS e gli ITS modalità per l’approfondimento delle conoscenze, delle abilità e delle competenze richieste per l’accesso ai relativi percorsi o per l’inserimento nel mondo del lavo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e"/>
                </a:solidFill>
                <a:latin typeface="Arial"/>
                <a:ea typeface="Arial"/>
              </a:rPr>
              <a:t>L’approfondimento può essere realizzato anche nell’ambito dei percorsi di alternanza scuola-lavoro di cui al decreto legislativo 15 aprile 2005, n. 77, nonché attraverso l’attivazione di moduli e di iniziative di studio-lavoro per progetti, di esperienze pratiche e di </a:t>
            </a:r>
            <a:r>
              <a:rPr b="0" i="1" lang="it-IT" sz="2000" spc="-1" strike="noStrike">
                <a:solidFill>
                  <a:srgbClr val="00005e"/>
                </a:solidFill>
                <a:latin typeface="Arial"/>
                <a:ea typeface="Arial"/>
              </a:rPr>
              <a:t>stage</a:t>
            </a:r>
            <a:r>
              <a:rPr b="0" lang="it-IT" sz="2000" spc="-1" strike="noStrike">
                <a:solidFill>
                  <a:srgbClr val="00005e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5E88-C8D8-405A-9D47-92FDEB67BF15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7"/>
          <p:cNvGrpSpPr/>
          <p:nvPr/>
        </p:nvGrpSpPr>
        <p:grpSpPr>
          <a:xfrm>
            <a:off x="7705800" y="131760"/>
            <a:ext cx="1295280" cy="1129320"/>
            <a:chOff x="7705800" y="131760"/>
            <a:chExt cx="1295280" cy="1129320"/>
          </a:xfrm>
        </p:grpSpPr>
        <p:pic>
          <p:nvPicPr>
            <p:cNvPr id="567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3176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 Box 9"/>
            <p:cNvSpPr/>
            <p:nvPr/>
          </p:nvSpPr>
          <p:spPr>
            <a:xfrm>
              <a:off x="7705800" y="92376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1B05-A63C-4C98-A8AA-58601B4021EC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528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Monitoraggio e valutazione de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Costituzione del </a:t>
            </a: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COMITATO NAZIONALE PER L’ISTRUZIONE LICEALE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composto da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esponenti</a:t>
            </a:r>
            <a:r>
              <a:rPr b="0" lang="it-IT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del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mondo della cultura, dell’arte e della ricerca, dell’università e dell’alta formazione;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dirigenti scolastic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e </a:t>
            </a: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docent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un esperto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designato dal Ministero per la pubblica amministrazione e l’innovazioni, ANSAS e INVAL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Ha funzioni di proposta e consulenza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per l’aggiornamento periodico del Profilo educativo, culturale e professionale dello studente e delle Indicazioni nazional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7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Rectangle 9"/>
          <p:cNvSpPr/>
          <p:nvPr/>
        </p:nvSpPr>
        <p:spPr>
          <a:xfrm>
            <a:off x="684360" y="109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 nuovi Lic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Arial"/>
                <a:ea typeface="Arial"/>
              </a:rPr>
              <a:t>Liceo artisti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7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81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CasellaDiTesto 6"/>
          <p:cNvSpPr/>
          <p:nvPr/>
        </p:nvSpPr>
        <p:spPr>
          <a:xfrm>
            <a:off x="584280" y="500040"/>
            <a:ext cx="63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Il liceo arti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0" y="3270240"/>
            <a:ext cx="895356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Nel triennio, il Liceo artistico è articolato in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3 indirizzi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ef03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f033b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Arti figu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ef03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Architettura Design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ef03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Audiovisivo Multimedia Scen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f03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CasellaDiTesto 6"/>
          <p:cNvSpPr/>
          <p:nvPr/>
        </p:nvSpPr>
        <p:spPr>
          <a:xfrm>
            <a:off x="636480" y="33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228600" y="1589040"/>
            <a:ext cx="863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Approfondisce la cultura liceale attraver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la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</a:rPr>
              <a:t>componente estetica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, fornendo agli stude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gli strumenti per esprimere la propri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creatività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attraverso l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progettualità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7B88-733A-419B-A62E-BC542159938F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egnaposto numero diapositiva 2"/>
          <p:cNvSpPr/>
          <p:nvPr/>
        </p:nvSpPr>
        <p:spPr>
          <a:xfrm>
            <a:off x="70102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17D0-74D2-4666-9AB2-9E092FC35F1F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7"/>
          <p:cNvGrpSpPr/>
          <p:nvPr/>
        </p:nvGrpSpPr>
        <p:grpSpPr>
          <a:xfrm>
            <a:off x="7778880" y="71280"/>
            <a:ext cx="1222200" cy="888840"/>
            <a:chOff x="7778880" y="71280"/>
            <a:chExt cx="1222200" cy="888840"/>
          </a:xfrm>
        </p:grpSpPr>
        <p:pic>
          <p:nvPicPr>
            <p:cNvPr id="59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82640" y="71280"/>
              <a:ext cx="718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9"/>
            <p:cNvSpPr/>
            <p:nvPr/>
          </p:nvSpPr>
          <p:spPr>
            <a:xfrm>
              <a:off x="7778880" y="622800"/>
              <a:ext cx="122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CasellaDiTesto 6"/>
          <p:cNvSpPr/>
          <p:nvPr/>
        </p:nvSpPr>
        <p:spPr>
          <a:xfrm>
            <a:off x="579600" y="426960"/>
            <a:ext cx="6883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it-IT" sz="1800" spc="-1" strike="noStrike">
                <a:solidFill>
                  <a:srgbClr val="993300"/>
                </a:solidFill>
                <a:latin typeface="Arial"/>
                <a:ea typeface="Calibri"/>
              </a:rPr>
              <a:t>Arti figu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318960" y="1025640"/>
          <a:ext cx="8475840" cy="5692680"/>
        </p:xfrm>
        <a:graphic>
          <a:graphicData uri="http://schemas.openxmlformats.org/drawingml/2006/table">
            <a:tbl>
              <a:tblPr/>
              <a:tblGrid>
                <a:gridCol w="4307040"/>
                <a:gridCol w="598320"/>
                <a:gridCol w="209520"/>
                <a:gridCol w="487440"/>
                <a:gridCol w="320760"/>
                <a:gridCol w="390600"/>
                <a:gridCol w="417600"/>
                <a:gridCol w="323640"/>
                <a:gridCol w="486000"/>
                <a:gridCol w="225360"/>
                <a:gridCol w="70956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e Geogra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, con Informa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rafiche e pittor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eometr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plas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audiovis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artis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CasellaDiTesto 6"/>
          <p:cNvSpPr/>
          <p:nvPr/>
        </p:nvSpPr>
        <p:spPr>
          <a:xfrm>
            <a:off x="636480" y="33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7802-3FF7-47E0-A72E-162464107CC3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9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CasellaDiTesto 6"/>
          <p:cNvSpPr/>
          <p:nvPr/>
        </p:nvSpPr>
        <p:spPr>
          <a:xfrm>
            <a:off x="565200" y="398520"/>
            <a:ext cx="688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it-IT" sz="40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it-IT" sz="1800" spc="-1" strike="noStrike">
                <a:solidFill>
                  <a:srgbClr val="993300"/>
                </a:solidFill>
                <a:latin typeface="Arial"/>
                <a:ea typeface="Calibri"/>
              </a:rPr>
              <a:t>Arti figu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5"/>
          <p:cNvSpPr/>
          <p:nvPr/>
        </p:nvSpPr>
        <p:spPr>
          <a:xfrm>
            <a:off x="0" y="5691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333360" y="1260360"/>
          <a:ext cx="8475840" cy="3048120"/>
        </p:xfrm>
        <a:graphic>
          <a:graphicData uri="http://schemas.openxmlformats.org/drawingml/2006/table">
            <a:tbl>
              <a:tblPr/>
              <a:tblGrid>
                <a:gridCol w="4307040"/>
                <a:gridCol w="807840"/>
                <a:gridCol w="808200"/>
                <a:gridCol w="807840"/>
                <a:gridCol w="809640"/>
                <a:gridCol w="93528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di indirizzo – Orario medio settima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della figur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rafiche e pittor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plast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complessivo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7"/>
          <p:cNvGrpSpPr/>
          <p:nvPr/>
        </p:nvGrpSpPr>
        <p:grpSpPr>
          <a:xfrm>
            <a:off x="8124840" y="60480"/>
            <a:ext cx="752400" cy="807120"/>
            <a:chOff x="8124840" y="60480"/>
            <a:chExt cx="752400" cy="807120"/>
          </a:xfrm>
        </p:grpSpPr>
        <p:pic>
          <p:nvPicPr>
            <p:cNvPr id="60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250120" y="60480"/>
              <a:ext cx="442440" cy="45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Text Box 9"/>
            <p:cNvSpPr/>
            <p:nvPr/>
          </p:nvSpPr>
          <p:spPr>
            <a:xfrm>
              <a:off x="8124840" y="530280"/>
              <a:ext cx="75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CasellaDiTesto 6"/>
          <p:cNvSpPr/>
          <p:nvPr/>
        </p:nvSpPr>
        <p:spPr>
          <a:xfrm>
            <a:off x="550800" y="301680"/>
            <a:ext cx="68835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br>
              <a:rPr sz="4000"/>
            </a:br>
            <a:r>
              <a:rPr b="0" lang="it-IT" sz="40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993300"/>
                </a:solidFill>
                <a:latin typeface="Arial"/>
                <a:ea typeface="Calibri"/>
              </a:rPr>
              <a:t>Architettura Design 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393840" y="816120"/>
          <a:ext cx="8404200" cy="6095880"/>
        </p:xfrm>
        <a:graphic>
          <a:graphicData uri="http://schemas.openxmlformats.org/drawingml/2006/table">
            <a:tbl>
              <a:tblPr/>
              <a:tblGrid>
                <a:gridCol w="4209840"/>
                <a:gridCol w="835200"/>
                <a:gridCol w="757080"/>
                <a:gridCol w="642960"/>
                <a:gridCol w="182520"/>
                <a:gridCol w="469800"/>
                <a:gridCol w="301680"/>
                <a:gridCol w="338400"/>
                <a:gridCol w="6667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e Geograf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, con Informa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rafiche e pittor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eometr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plast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audiovi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artis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B9C8-17B1-4505-8977-880CA9523F64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1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CasellaDiTesto 6"/>
          <p:cNvSpPr/>
          <p:nvPr/>
        </p:nvSpPr>
        <p:spPr>
          <a:xfrm>
            <a:off x="593640" y="498600"/>
            <a:ext cx="68835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br>
              <a:rPr sz="4000"/>
            </a:br>
            <a:r>
              <a:rPr b="0" lang="it-IT" sz="40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993300"/>
                </a:solidFill>
                <a:latin typeface="Arial"/>
                <a:ea typeface="Calibri"/>
              </a:rPr>
              <a:t>Architettura Design 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361800" y="1192320"/>
          <a:ext cx="8420400" cy="3166920"/>
        </p:xfrm>
        <a:graphic>
          <a:graphicData uri="http://schemas.openxmlformats.org/drawingml/2006/table">
            <a:tbl>
              <a:tblPr/>
              <a:tblGrid>
                <a:gridCol w="4218120"/>
                <a:gridCol w="797040"/>
                <a:gridCol w="798480"/>
                <a:gridCol w="801720"/>
                <a:gridCol w="798480"/>
                <a:gridCol w="1006560"/>
              </a:tblGrid>
              <a:tr h="322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Bienn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an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di indirizzo – Orario medio settima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della progett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progettu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Architettura/design/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plast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complessivo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7"/>
          <p:cNvGrpSpPr/>
          <p:nvPr/>
        </p:nvGrpSpPr>
        <p:grpSpPr>
          <a:xfrm>
            <a:off x="7778880" y="25560"/>
            <a:ext cx="995400" cy="945360"/>
            <a:chOff x="7778880" y="25560"/>
            <a:chExt cx="995400" cy="945360"/>
          </a:xfrm>
        </p:grpSpPr>
        <p:pic>
          <p:nvPicPr>
            <p:cNvPr id="62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44840" y="25560"/>
              <a:ext cx="585360" cy="5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Text Box 9"/>
            <p:cNvSpPr/>
            <p:nvPr/>
          </p:nvSpPr>
          <p:spPr>
            <a:xfrm>
              <a:off x="7778880" y="633600"/>
              <a:ext cx="99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CasellaDiTesto 6"/>
          <p:cNvSpPr/>
          <p:nvPr/>
        </p:nvSpPr>
        <p:spPr>
          <a:xfrm>
            <a:off x="450720" y="189000"/>
            <a:ext cx="688356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3300"/>
                </a:solidFill>
                <a:latin typeface="Arial"/>
                <a:ea typeface="Calibri"/>
              </a:rPr>
              <a:t>Audiovisivo Multimedia Scen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439560" y="787320"/>
          <a:ext cx="8264880" cy="6096240"/>
        </p:xfrm>
        <a:graphic>
          <a:graphicData uri="http://schemas.openxmlformats.org/drawingml/2006/table">
            <a:tbl>
              <a:tblPr/>
              <a:tblGrid>
                <a:gridCol w="4253040"/>
                <a:gridCol w="630360"/>
                <a:gridCol w="315720"/>
                <a:gridCol w="515880"/>
                <a:gridCol w="182880"/>
                <a:gridCol w="506160"/>
                <a:gridCol w="182520"/>
                <a:gridCol w="441360"/>
                <a:gridCol w="206640"/>
                <a:gridCol w="403200"/>
                <a:gridCol w="627120"/>
              </a:tblGrid>
              <a:tr h="297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 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e Geogra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to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, con Informa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rafiche e pittor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eometr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plas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audiovis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artis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egnaposto numero diapositiva 2"/>
          <p:cNvSpPr/>
          <p:nvPr/>
        </p:nvSpPr>
        <p:spPr>
          <a:xfrm>
            <a:off x="6824520" y="6319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4BE6-C874-463E-A89C-358178D4AB55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2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CasellaDiTesto 6"/>
          <p:cNvSpPr/>
          <p:nvPr/>
        </p:nvSpPr>
        <p:spPr>
          <a:xfrm>
            <a:off x="493560" y="398520"/>
            <a:ext cx="688356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1800" spc="-1" strike="noStrike">
                <a:solidFill>
                  <a:srgbClr val="993300"/>
                </a:solidFill>
                <a:latin typeface="Arial"/>
                <a:ea typeface="Calibri"/>
              </a:rPr>
              <a:t>Audiovisivo Multimedia Scen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442800" y="1379520"/>
          <a:ext cx="8580600" cy="3006720"/>
        </p:xfrm>
        <a:graphic>
          <a:graphicData uri="http://schemas.openxmlformats.org/drawingml/2006/table">
            <a:tbl>
              <a:tblPr/>
              <a:tblGrid>
                <a:gridCol w="4241880"/>
                <a:gridCol w="814320"/>
                <a:gridCol w="816120"/>
                <a:gridCol w="815760"/>
                <a:gridCol w="817560"/>
                <a:gridCol w="10749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di indirizzo – Orario medio settima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audiovi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eometr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audiovi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complessivo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4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Rectangle 1"/>
          <p:cNvSpPr/>
          <p:nvPr/>
        </p:nvSpPr>
        <p:spPr>
          <a:xfrm>
            <a:off x="334800" y="894960"/>
            <a:ext cx="84027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Arial"/>
              </a:rPr>
              <a:t>La Cabina di Regia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, istituita con Decreto ministeriale del MIUR </a:t>
            </a:r>
            <a:br>
              <a:rPr sz="2000"/>
            </a:b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n.75 del 2009, ha il compito d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coordinare e orientare i diversi provvedimenti collegati al nuovo ordinamento dei licei, anche alla luce dei pareri previsti dall’iter normativo vigente.” (Art. 1). Svolge inoltre la funzione di “coordinamento e indirizzo relativo alle finalità di cui al Decreto Dipartimentale del 17 febbraio 2009, n. 14, avvalendosi dei materiali sin qui sviluppati dal Gruppo tecnico e della collaborazione dei gruppi di lavoro individuati dal medesimo provvedimento.” (Art. 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Arial"/>
              </a:rPr>
              <a:t>La Cabina di Regia,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 finché il Regolamento non sarà proposto in seconda lettura al Consiglio dei Ministri per l'approvazione definitiva, </a:t>
            </a:r>
            <a:r>
              <a:rPr b="1" lang="it-IT" sz="2000" spc="-1" strike="noStrike">
                <a:solidFill>
                  <a:srgbClr val="002060"/>
                </a:solidFill>
                <a:latin typeface="Arial"/>
              </a:rPr>
              <a:t>si occuperà di raccogliere 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i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pareri istituzionali 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(Consiglio Nazionale della Pubblica Istruzione, Consiglio di Stato, Conferenza Unificata, Commissioni Parlamentari)  e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i suggerimenti che verranno dal mondo della scuola e dall'opinione pub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– Cabina di R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AA39-D00B-4E0B-95C2-DF9429976CAB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Liceo </a:t>
            </a:r>
            <a:br>
              <a:rPr sz="4400"/>
            </a:b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musicale e coreu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36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149F-2A40-4799-8655-1EBF110F884E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4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CasellaDiTesto 6"/>
          <p:cNvSpPr/>
          <p:nvPr/>
        </p:nvSpPr>
        <p:spPr>
          <a:xfrm>
            <a:off x="584280" y="500040"/>
            <a:ext cx="63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Il Liceo musicale e coreu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8"/>
          <p:cNvSpPr/>
          <p:nvPr/>
        </p:nvSpPr>
        <p:spPr>
          <a:xfrm>
            <a:off x="492120" y="1771560"/>
            <a:ext cx="81662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Nel liceo musicale e coreutico è stata introdotta una </a:t>
            </a:r>
            <a:r>
              <a:rPr b="1" lang="it-IT" sz="2800" spc="-1" strike="noStrike">
                <a:solidFill>
                  <a:srgbClr val="a50021"/>
                </a:solidFill>
                <a:latin typeface="Arial"/>
              </a:rPr>
              <a:t>sezione musicale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che prevede, tra l’altro, esecuzione e interpretazione strument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e il laboratorio di musica di insieme. 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Nella sezione coreutica si prevede non solo lo studio ma anche l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a50021"/>
                </a:solidFill>
                <a:latin typeface="Arial"/>
              </a:rPr>
              <a:t>pratica delle diverse tecniche della danza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CasellaDiTesto 6"/>
          <p:cNvSpPr/>
          <p:nvPr/>
        </p:nvSpPr>
        <p:spPr>
          <a:xfrm>
            <a:off x="636480" y="3348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musicale e coreu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7E6B-55EE-40C9-9F94-777BE3C22D27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47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CasellaDiTesto 6"/>
          <p:cNvSpPr/>
          <p:nvPr/>
        </p:nvSpPr>
        <p:spPr>
          <a:xfrm>
            <a:off x="650880" y="3348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musicale e coreu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4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538200" y="1320840"/>
          <a:ext cx="8153280" cy="4324320"/>
        </p:xfrm>
        <a:graphic>
          <a:graphicData uri="http://schemas.openxmlformats.org/drawingml/2006/table">
            <a:tbl>
              <a:tblPr/>
              <a:tblGrid>
                <a:gridCol w="4243320"/>
                <a:gridCol w="747720"/>
                <a:gridCol w="216000"/>
                <a:gridCol w="521640"/>
                <a:gridCol w="181800"/>
                <a:gridCol w="381240"/>
                <a:gridCol w="227880"/>
                <a:gridCol w="393840"/>
                <a:gridCol w="353880"/>
                <a:gridCol w="283320"/>
                <a:gridCol w="60264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e Geograf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, con informa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2E97-4D24-44B3-AED5-212F1C238896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7"/>
          <p:cNvGrpSpPr/>
          <p:nvPr/>
        </p:nvGrpSpPr>
        <p:grpSpPr>
          <a:xfrm>
            <a:off x="7851600" y="142920"/>
            <a:ext cx="873360" cy="833400"/>
            <a:chOff x="7851600" y="142920"/>
            <a:chExt cx="873360" cy="833400"/>
          </a:xfrm>
        </p:grpSpPr>
        <p:pic>
          <p:nvPicPr>
            <p:cNvPr id="65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97040" y="142920"/>
              <a:ext cx="513720" cy="47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Text Box 9"/>
            <p:cNvSpPr/>
            <p:nvPr/>
          </p:nvSpPr>
          <p:spPr>
            <a:xfrm>
              <a:off x="7851600" y="639000"/>
              <a:ext cx="8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CasellaDiTesto 6"/>
          <p:cNvSpPr/>
          <p:nvPr/>
        </p:nvSpPr>
        <p:spPr>
          <a:xfrm>
            <a:off x="650880" y="33480"/>
            <a:ext cx="76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musicale e coreu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171360" y="1967040"/>
          <a:ext cx="8121600" cy="4724280"/>
        </p:xfrm>
        <a:graphic>
          <a:graphicData uri="http://schemas.openxmlformats.org/drawingml/2006/table">
            <a:tbl>
              <a:tblPr/>
              <a:tblGrid>
                <a:gridCol w="4245120"/>
                <a:gridCol w="747720"/>
                <a:gridCol w="747720"/>
                <a:gridCol w="747720"/>
                <a:gridCol w="745920"/>
                <a:gridCol w="887400"/>
              </a:tblGrid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ezione music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cienze Motorie e spor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Esecuzione e interpret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Teoria e composi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a mu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di musica d’insie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Nuove Tecnolo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ezione coreu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a d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Tecniche della d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coreu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aboratorio music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208080" y="833400"/>
          <a:ext cx="8124840" cy="1127160"/>
        </p:xfrm>
        <a:graphic>
          <a:graphicData uri="http://schemas.openxmlformats.org/drawingml/2006/table">
            <a:tbl>
              <a:tblPr/>
              <a:tblGrid>
                <a:gridCol w="4246560"/>
                <a:gridCol w="747720"/>
                <a:gridCol w="747720"/>
                <a:gridCol w="747720"/>
                <a:gridCol w="747720"/>
                <a:gridCol w="88740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Liceo delle scienze um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64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580F-E6DD-4975-8338-8CF8C8AE6BC5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6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CasellaDiTesto 6"/>
          <p:cNvSpPr/>
          <p:nvPr/>
        </p:nvSpPr>
        <p:spPr>
          <a:xfrm>
            <a:off x="665280" y="33480"/>
            <a:ext cx="77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delle scienze 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egnaposto contenuto 2"/>
          <p:cNvSpPr/>
          <p:nvPr/>
        </p:nvSpPr>
        <p:spPr>
          <a:xfrm>
            <a:off x="345960" y="1860480"/>
            <a:ext cx="84502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Approfondisce la cultura liceale dal punto di vista della conoscenza dei fenomeni collegati all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costruzione dell’identità personale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 e delle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relazioni umane e sociali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826920" y="685800"/>
            <a:ext cx="64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l Liceo delle scienze um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0E81-168E-4FDF-ABAD-6CCF286C55D1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7"/>
          <p:cNvGrpSpPr/>
          <p:nvPr/>
        </p:nvGrpSpPr>
        <p:grpSpPr>
          <a:xfrm>
            <a:off x="7870680" y="0"/>
            <a:ext cx="1041480" cy="1047960"/>
            <a:chOff x="7870680" y="0"/>
            <a:chExt cx="1041480" cy="1047960"/>
          </a:xfrm>
        </p:grpSpPr>
        <p:pic>
          <p:nvPicPr>
            <p:cNvPr id="67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044200" y="0"/>
              <a:ext cx="6123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Text Box 9"/>
            <p:cNvSpPr/>
            <p:nvPr/>
          </p:nvSpPr>
          <p:spPr>
            <a:xfrm>
              <a:off x="7870680" y="710640"/>
              <a:ext cx="104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CasellaDiTesto 6"/>
          <p:cNvSpPr/>
          <p:nvPr/>
        </p:nvSpPr>
        <p:spPr>
          <a:xfrm>
            <a:off x="650880" y="47520"/>
            <a:ext cx="75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delle scienze 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228600" y="1135080"/>
          <a:ext cx="8756640" cy="5187960"/>
        </p:xfrm>
        <a:graphic>
          <a:graphicData uri="http://schemas.openxmlformats.org/drawingml/2006/table">
            <a:tbl>
              <a:tblPr/>
              <a:tblGrid>
                <a:gridCol w="3137040"/>
                <a:gridCol w="1238040"/>
                <a:gridCol w="1038240"/>
                <a:gridCol w="1457280"/>
                <a:gridCol w="944640"/>
                <a:gridCol w="94140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cultura lati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Geograf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um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u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F923-D897-4DB9-A8A1-357C990F6EE3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8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CasellaDiTesto 6"/>
          <p:cNvSpPr/>
          <p:nvPr/>
        </p:nvSpPr>
        <p:spPr>
          <a:xfrm>
            <a:off x="665280" y="33480"/>
            <a:ext cx="77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delle scienze 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egnaposto contenuto 2"/>
          <p:cNvSpPr/>
          <p:nvPr/>
        </p:nvSpPr>
        <p:spPr>
          <a:xfrm>
            <a:off x="345960" y="1860480"/>
            <a:ext cx="84502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br>
              <a:rPr sz="2800"/>
            </a:br>
            <a:r>
              <a:rPr b="0" lang="it-IT" sz="3000" spc="-1" strike="noStrike">
                <a:solidFill>
                  <a:srgbClr val="000072"/>
                </a:solidFill>
                <a:latin typeface="Arial"/>
              </a:rPr>
              <a:t>Al fine di assecondare le vocazioni degli studenti interessati ad acquisire competenze particolarmente avanzate negli studi afferenti alle</a:t>
            </a:r>
            <a:r>
              <a:rPr b="0" lang="it-IT" sz="3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scienze giuridiche, economiche e sociali</a:t>
            </a:r>
            <a:r>
              <a:rPr b="0" lang="it-IT" sz="30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it-IT" sz="3000" spc="-1" strike="noStrike">
                <a:solidFill>
                  <a:srgbClr val="000072"/>
                </a:solidFill>
                <a:latin typeface="Arial"/>
              </a:rPr>
              <a:t>le istituzioni scolastiche possono attivare, nell’ambito del liceo delle scienze umane, una o più sezione a </a:t>
            </a: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opzione economico-sociale</a:t>
            </a:r>
            <a:r>
              <a:rPr b="0" lang="it-IT" sz="3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757080" y="512640"/>
            <a:ext cx="6459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l Liceo delle scienze um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Opzione economico-so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ECE9-6004-4BC2-AD03-C3B605A43679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7"/>
          <p:cNvGrpSpPr/>
          <p:nvPr/>
        </p:nvGrpSpPr>
        <p:grpSpPr>
          <a:xfrm>
            <a:off x="7870680" y="0"/>
            <a:ext cx="1041480" cy="1047960"/>
            <a:chOff x="7870680" y="0"/>
            <a:chExt cx="1041480" cy="1047960"/>
          </a:xfrm>
        </p:grpSpPr>
        <p:pic>
          <p:nvPicPr>
            <p:cNvPr id="69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044200" y="0"/>
              <a:ext cx="6123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Text Box 9"/>
            <p:cNvSpPr/>
            <p:nvPr/>
          </p:nvSpPr>
          <p:spPr>
            <a:xfrm>
              <a:off x="7870680" y="710640"/>
              <a:ext cx="104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CasellaDiTesto 6"/>
          <p:cNvSpPr/>
          <p:nvPr/>
        </p:nvSpPr>
        <p:spPr>
          <a:xfrm>
            <a:off x="650880" y="47520"/>
            <a:ext cx="75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–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Opzione economico-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228600" y="1135080"/>
          <a:ext cx="8756640" cy="5110200"/>
        </p:xfrm>
        <a:graphic>
          <a:graphicData uri="http://schemas.openxmlformats.org/drawingml/2006/table">
            <a:tbl>
              <a:tblPr/>
              <a:tblGrid>
                <a:gridCol w="3137040"/>
                <a:gridCol w="771480"/>
                <a:gridCol w="466560"/>
                <a:gridCol w="346320"/>
                <a:gridCol w="691920"/>
                <a:gridCol w="411120"/>
                <a:gridCol w="1046160"/>
                <a:gridCol w="944640"/>
                <a:gridCol w="94140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° 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ngua straniera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ngua straniera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Geograf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ritto ed econom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sociali e metodologia della ricer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, con informa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Liceo clas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9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4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Rectangle 1"/>
          <p:cNvSpPr/>
          <p:nvPr/>
        </p:nvSpPr>
        <p:spPr>
          <a:xfrm>
            <a:off x="552600" y="643320"/>
            <a:ext cx="811368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L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legge 14/2009*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 ha previ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dal settembre 2010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 l’avvio del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sistema dei Licei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2060"/>
                </a:solidFill>
                <a:latin typeface="Arial"/>
                <a:ea typeface="Calibri"/>
              </a:rPr>
              <a:t>l'articolo 64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  <a:ea typeface="Calibri"/>
              </a:rPr>
              <a:t>, comma 4, del decreto legge 25 giugno 2008, n. 112,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Calibri"/>
              </a:rPr>
              <a:t>convertito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  <a:ea typeface="Calibri"/>
              </a:rPr>
              <a:t> con modificazioni dalla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Calibri"/>
              </a:rPr>
              <a:t>Legge 6 agosto 2008, n. 133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  <a:ea typeface="Calibri"/>
              </a:rPr>
              <a:t>ha previsto la revisione degli ordinamenti attraverso regol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*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  <a:ea typeface="Calibri"/>
              </a:rPr>
              <a:t>Decreto legge 30 Dicembre 2008, n. 207, convertito, con modificazioni, dalla legge 27 Febbraio 2009, n. 14, articolo 37, com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CasellaDiTesto 6"/>
          <p:cNvSpPr/>
          <p:nvPr/>
        </p:nvSpPr>
        <p:spPr>
          <a:xfrm>
            <a:off x="650880" y="60480"/>
            <a:ext cx="64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– i riferimenti legisla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9981-09B6-47C9-A1C6-EB4274559701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2F35-200F-4A2C-A23C-AF5F495C279F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0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CasellaDiTesto 6"/>
          <p:cNvSpPr/>
          <p:nvPr/>
        </p:nvSpPr>
        <p:spPr>
          <a:xfrm>
            <a:off x="650880" y="33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clas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9"/>
          <p:cNvSpPr/>
          <p:nvPr/>
        </p:nvSpPr>
        <p:spPr>
          <a:xfrm>
            <a:off x="0" y="5821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62"/>
          <p:cNvSpPr/>
          <p:nvPr/>
        </p:nvSpPr>
        <p:spPr>
          <a:xfrm>
            <a:off x="189000" y="1994040"/>
            <a:ext cx="877392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Approfondisce la cultura liceale dal punto di vista dello  studio dell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civiltà classica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. 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Il nuovo liceo classico propone l’insegna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di una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Arial"/>
              </a:rPr>
              <a:t>lingua straniera dal primo al quinto anno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e della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Arial"/>
              </a:rPr>
              <a:t>storia dell’arte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 nel secondo biennio e nel quinto anno per due ore medie settimana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Potenzia inoltre l’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Arial"/>
              </a:rPr>
              <a:t>asse matematico-scientifico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15"/>
          <p:cNvSpPr/>
          <p:nvPr/>
        </p:nvSpPr>
        <p:spPr>
          <a:xfrm>
            <a:off x="733320" y="428760"/>
            <a:ext cx="32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l Liceo clas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5DDD-60A3-40C0-8BE7-85D2B50E4F94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1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clas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306360" y="1314360"/>
          <a:ext cx="8582040" cy="4762440"/>
        </p:xfrm>
        <a:graphic>
          <a:graphicData uri="http://schemas.openxmlformats.org/drawingml/2006/table">
            <a:tbl>
              <a:tblPr/>
              <a:tblGrid>
                <a:gridCol w="4037040"/>
                <a:gridCol w="1257480"/>
                <a:gridCol w="1091880"/>
                <a:gridCol w="677880"/>
                <a:gridCol w="674640"/>
                <a:gridCol w="843120"/>
              </a:tblGrid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ann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ann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 ann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 ann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cultura la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cultura gre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Geograf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 con informa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16" name="Text Box 136"/>
          <p:cNvSpPr/>
          <p:nvPr/>
        </p:nvSpPr>
        <p:spPr>
          <a:xfrm>
            <a:off x="304920" y="6060960"/>
            <a:ext cx="8521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Liceo scienti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1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B237-D24D-4FDE-89B0-4AAE85662435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2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Rectangle 7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67"/>
          <p:cNvSpPr/>
          <p:nvPr/>
        </p:nvSpPr>
        <p:spPr>
          <a:xfrm>
            <a:off x="399960" y="16588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Approfondisce la cultura liceale nella prospettiva del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Arial"/>
              </a:rPr>
              <a:t>rapporto fra la tradizione umanis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Arial"/>
              </a:rPr>
              <a:t>	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Arial"/>
              </a:rPr>
              <a:t>e i saperi scientifici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.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È stat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rafforzata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l’area matematico-scienti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8"/>
          <p:cNvSpPr/>
          <p:nvPr/>
        </p:nvSpPr>
        <p:spPr>
          <a:xfrm>
            <a:off x="869040" y="704880"/>
            <a:ext cx="37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l Liceo scienti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CasellaDiTesto 6"/>
          <p:cNvSpPr/>
          <p:nvPr/>
        </p:nvSpPr>
        <p:spPr>
          <a:xfrm>
            <a:off x="650880" y="33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scienti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3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CasellaDiTesto 6"/>
          <p:cNvSpPr/>
          <p:nvPr/>
        </p:nvSpPr>
        <p:spPr>
          <a:xfrm>
            <a:off x="650880" y="33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scienti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290520" y="1208160"/>
          <a:ext cx="8586720" cy="4968720"/>
        </p:xfrm>
        <a:graphic>
          <a:graphicData uri="http://schemas.openxmlformats.org/drawingml/2006/table">
            <a:tbl>
              <a:tblPr/>
              <a:tblGrid>
                <a:gridCol w="3849840"/>
                <a:gridCol w="519120"/>
                <a:gridCol w="928440"/>
                <a:gridCol w="968400"/>
                <a:gridCol w="630360"/>
                <a:gridCol w="630000"/>
                <a:gridCol w="10605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ttivit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e insegnamenti obbligatori per tutti gli studenti 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Times New Roman"/>
                        </a:rPr>
                        <a:t>–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Orario annu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cultura lati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e Geogra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 con informa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Arte e tecniche della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6" name="Text Box 129"/>
          <p:cNvSpPr/>
          <p:nvPr/>
        </p:nvSpPr>
        <p:spPr>
          <a:xfrm>
            <a:off x="279360" y="6184800"/>
            <a:ext cx="8547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C331-A125-4A3D-9CED-C06AA67C982E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3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CasellaDiTesto 6"/>
          <p:cNvSpPr/>
          <p:nvPr/>
        </p:nvSpPr>
        <p:spPr>
          <a:xfrm>
            <a:off x="665280" y="33480"/>
            <a:ext cx="77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delle scienze 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egnaposto contenuto 2"/>
          <p:cNvSpPr/>
          <p:nvPr/>
        </p:nvSpPr>
        <p:spPr>
          <a:xfrm>
            <a:off x="360360" y="1860480"/>
            <a:ext cx="84502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Al fine di assecondare le vocazioni degli studenti interessati ad acquisire competenze molto avanzate negli studi afferenti alla cultura scientifico-tecnologica, con particolare riferimento alle scienze matematiche, fisiche, chimiche e biologiche e all’informatica, le istituzioni scolastiche possono attivare, nell’ambito del liceo scientifico, una o più sezioni a opzione scientifico-tecnolog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757080" y="512640"/>
            <a:ext cx="6459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l Liceo scienti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Opzione scientifico-tecnolo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4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CasellaDiTesto 6"/>
          <p:cNvSpPr/>
          <p:nvPr/>
        </p:nvSpPr>
        <p:spPr>
          <a:xfrm>
            <a:off x="650880" y="33480"/>
            <a:ext cx="68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opzione scientifico-tecnolo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290520" y="1208160"/>
          <a:ext cx="8586720" cy="5516640"/>
        </p:xfrm>
        <a:graphic>
          <a:graphicData uri="http://schemas.openxmlformats.org/drawingml/2006/table">
            <a:tbl>
              <a:tblPr/>
              <a:tblGrid>
                <a:gridCol w="3849840"/>
                <a:gridCol w="519120"/>
                <a:gridCol w="928440"/>
                <a:gridCol w="968400"/>
                <a:gridCol w="630360"/>
                <a:gridCol w="630000"/>
                <a:gridCol w="10605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ttivit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e insegnamenti obbligatori per tutti gli studenti 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Times New Roman"/>
                        </a:rPr>
                        <a:t>–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Orario annu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e Geogra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 con informa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formatica e sistemi automat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della Ter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i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Tecnologia e diseg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51" name="Text Box 129"/>
          <p:cNvSpPr/>
          <p:nvPr/>
        </p:nvSpPr>
        <p:spPr>
          <a:xfrm>
            <a:off x="279360" y="6184800"/>
            <a:ext cx="8547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Liceo lingui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54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553C-74D8-441D-9926-F0DE729EA61B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5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CasellaDiTesto 6"/>
          <p:cNvSpPr/>
          <p:nvPr/>
        </p:nvSpPr>
        <p:spPr>
          <a:xfrm>
            <a:off x="536400" y="595440"/>
            <a:ext cx="63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Il liceo lingui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725400" y="1793880"/>
            <a:ext cx="7691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Approfondisce la cultura liceale dal punto di vista della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</a:rPr>
              <a:t>conoscenza coordinata di più sistemi linguistici e culturali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Nel Liceo Linguistico vie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</a:rPr>
              <a:t>rafforzato l’insegnamento delle lingue stranie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con particolare riferimento all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</a:rPr>
              <a:t>terza lin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CasellaDiTesto 6"/>
          <p:cNvSpPr/>
          <p:nvPr/>
        </p:nvSpPr>
        <p:spPr>
          <a:xfrm>
            <a:off x="650880" y="190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lingu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B296-B910-4026-BCE8-81D4E313FE09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6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CasellaDiTesto 6"/>
          <p:cNvSpPr/>
          <p:nvPr/>
        </p:nvSpPr>
        <p:spPr>
          <a:xfrm>
            <a:off x="801720" y="641520"/>
            <a:ext cx="638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Il liceo linguistic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CLI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7"/>
          <p:cNvSpPr/>
          <p:nvPr/>
        </p:nvSpPr>
        <p:spPr>
          <a:xfrm>
            <a:off x="725400" y="2090880"/>
            <a:ext cx="769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Arial"/>
              </a:rPr>
              <a:t>Dal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  <a:ea typeface="Arial"/>
              </a:rPr>
              <a:t>primo anno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Arial"/>
              </a:rPr>
              <a:t>del secondo biennio è previsto l’insegnamento in lingua straniera di una disciplina non lingui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Arial"/>
              </a:rPr>
              <a:t>Dal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  <a:ea typeface="Arial"/>
              </a:rPr>
              <a:t>secondo anno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Arial"/>
              </a:rPr>
              <a:t>del secondo biennio è previsto inoltre l’insegnamento, in una diversa lingua straniera, di una disciplina non lingui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CasellaDiTesto 6"/>
          <p:cNvSpPr/>
          <p:nvPr/>
        </p:nvSpPr>
        <p:spPr>
          <a:xfrm>
            <a:off x="650880" y="190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lingu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56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Rectangle 1"/>
          <p:cNvSpPr/>
          <p:nvPr/>
        </p:nvSpPr>
        <p:spPr>
          <a:xfrm>
            <a:off x="552600" y="537480"/>
            <a:ext cx="8113680" cy="34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Per effetto della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egge 40/2007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(Fioroni)</a:t>
            </a:r>
            <a:br>
              <a:rPr sz="24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NON sono più contemplati</a:t>
            </a:r>
            <a:br>
              <a:rPr sz="24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il Liceo econom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e il Liceo tecnologico</a:t>
            </a:r>
            <a:br>
              <a:rPr sz="24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mentre è ricostituita l’Istruzione Tecnica e Professio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CasellaDiTesto 6"/>
          <p:cNvSpPr/>
          <p:nvPr/>
        </p:nvSpPr>
        <p:spPr>
          <a:xfrm>
            <a:off x="650880" y="60480"/>
            <a:ext cx="64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– i riferimenti legisla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0F91-A2F9-42AE-B899-BF494ECB79B6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egnaposto numero diapositiva 2"/>
          <p:cNvSpPr/>
          <p:nvPr/>
        </p:nvSpPr>
        <p:spPr>
          <a:xfrm>
            <a:off x="70102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C649-F618-4F3C-A770-6C11F99772AE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7"/>
          <p:cNvGrpSpPr/>
          <p:nvPr/>
        </p:nvGrpSpPr>
        <p:grpSpPr>
          <a:xfrm>
            <a:off x="7705800" y="119160"/>
            <a:ext cx="1295280" cy="1129320"/>
            <a:chOff x="7705800" y="119160"/>
            <a:chExt cx="1295280" cy="1129320"/>
          </a:xfrm>
        </p:grpSpPr>
        <p:pic>
          <p:nvPicPr>
            <p:cNvPr id="77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1916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Text Box 9"/>
            <p:cNvSpPr/>
            <p:nvPr/>
          </p:nvSpPr>
          <p:spPr>
            <a:xfrm>
              <a:off x="7705800" y="91116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lingu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4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100080" y="1185840"/>
          <a:ext cx="8701200" cy="5621400"/>
        </p:xfrm>
        <a:graphic>
          <a:graphicData uri="http://schemas.openxmlformats.org/drawingml/2006/table">
            <a:tbl>
              <a:tblPr/>
              <a:tblGrid>
                <a:gridCol w="3773520"/>
                <a:gridCol w="568080"/>
                <a:gridCol w="787680"/>
                <a:gridCol w="1333440"/>
                <a:gridCol w="620640"/>
                <a:gridCol w="620640"/>
                <a:gridCol w="99720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 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cultura la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Geogra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 con informa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c4b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lvl="1" marL="743040" indent="-285840" algn="just">
                        <a:lnSpc>
                          <a:spcPct val="100000"/>
                        </a:lnSpc>
                        <a:buClr>
                          <a:srgbClr val="00007d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3A94-FAE5-4C77-9835-D43D8BE17E64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8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CasellaDiTesto 6"/>
          <p:cNvSpPr/>
          <p:nvPr/>
        </p:nvSpPr>
        <p:spPr>
          <a:xfrm>
            <a:off x="665280" y="33480"/>
            <a:ext cx="77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egnaposto contenuto 2"/>
          <p:cNvSpPr/>
          <p:nvPr/>
        </p:nvSpPr>
        <p:spPr>
          <a:xfrm>
            <a:off x="360360" y="1860480"/>
            <a:ext cx="84502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I percorsi liceali di ogni tipo e indirizzo con le relative sperimentazioni confluiscono nei nuovi licei secondo quanto previsto dalla tabella contenuta nell’allegato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In rapporto alla specificità dei percorsi di origine sperimentale effettivamente attuati, le istituzioni scolastiche, statali e paritarie, possono presentare ai competenti Uffici scolastici regionali motivate proposte finalizzate alla individuazione di una confluenza diversa da quella indicata nella tab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2"/>
          <p:cNvSpPr/>
          <p:nvPr/>
        </p:nvSpPr>
        <p:spPr>
          <a:xfrm>
            <a:off x="757080" y="512640"/>
            <a:ext cx="6459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l passaggio dal vecch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al nuovo ordi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2BA4-30C4-49E1-8082-EDB53905C5F6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CasellaDiTesto 2"/>
          <p:cNvSpPr/>
          <p:nvPr/>
        </p:nvSpPr>
        <p:spPr>
          <a:xfrm>
            <a:off x="950760" y="290520"/>
            <a:ext cx="60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277920" y="741240"/>
          <a:ext cx="8577000" cy="6172200"/>
        </p:xfrm>
        <a:graphic>
          <a:graphicData uri="http://schemas.openxmlformats.org/drawingml/2006/table">
            <a:tbl>
              <a:tblPr/>
              <a:tblGrid>
                <a:gridCol w="5994360"/>
                <a:gridCol w="2582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I DI NUOVO ORDINAMEN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64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Artistic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ima sezione (Accademi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3006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D’AR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zione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i grafich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ecorazione pittori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ecorazione Pla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mosa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la stamp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l’alabast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le pietre d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ecorazione plastica arredo chi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ecorazione pittorica arredo chi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3006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ERIMENTALE MICHELANGE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ittura e decorazione pittores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le opere pittores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cultura e decorazione pla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le opere lapide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ilievo e catalogazio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 mosai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l’alabas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3006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AZIOMNE SPERIMENTALE LEONAR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atalogazione e conservazione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ei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eni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ulturali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igurativi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3006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ERIMENTALE LICEO D’ARTE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BROC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eni culturali e della conserv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CORSI SPERIMENTALI AUTONOMIA COERENTI CON L’INDIRIZZ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Percorsi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LICEO ARTIS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20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ARTI FIGURATIV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>
                        <a:alpha val="54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788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789" name="Picture 8" descr="miur_colorato_trasparente_piccolo"/>
            <p:cNvPicPr/>
            <p:nvPr/>
          </p:nvPicPr>
          <p:blipFill>
            <a:blip r:embed="rId5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Rettangolo 8"/>
          <p:cNvSpPr/>
          <p:nvPr/>
        </p:nvSpPr>
        <p:spPr>
          <a:xfrm>
            <a:off x="588240" y="4608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3133-29C6-455E-87B7-67605AF579C7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CasellaDiTesto 2"/>
          <p:cNvSpPr/>
          <p:nvPr/>
        </p:nvSpPr>
        <p:spPr>
          <a:xfrm>
            <a:off x="950760" y="290520"/>
            <a:ext cx="60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324000" y="1295280"/>
          <a:ext cx="8496000" cy="3611520"/>
        </p:xfrm>
        <a:graphic>
          <a:graphicData uri="http://schemas.openxmlformats.org/drawingml/2006/table">
            <a:tbl>
              <a:tblPr/>
              <a:tblGrid>
                <a:gridCol w="4930560"/>
                <a:gridCol w="3565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I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2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ARTISTI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conda sezione (Architettur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D’A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zione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segnatore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chitettur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segnatore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chitettura e arredamento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redamento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RIMENTALE MICHELANGE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chitettura e arre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ERIMENTALE LICEO D’ART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Brocc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mposizione e progett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CORSI SPERIMENTALI AUTONOMI COERENTI CON LA SEZIO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Percorsi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LICEO ARTIS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ARCHITETTURA DESIGN AMBIEN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SEZIONE ARCHITETTURA E AMBIEN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grpSp>
        <p:nvGrpSpPr>
          <p:cNvPr id="795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796" name="Picture 8" descr="miur_colorato_trasparente_piccolo"/>
            <p:cNvPicPr/>
            <p:nvPr/>
          </p:nvPicPr>
          <p:blipFill>
            <a:blip r:embed="rId5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DAB1-25C2-4D80-93AB-BED3B6901315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CasellaDiTesto 2"/>
          <p:cNvSpPr/>
          <p:nvPr/>
        </p:nvSpPr>
        <p:spPr>
          <a:xfrm>
            <a:off x="950760" y="290520"/>
            <a:ext cx="60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324000" y="785880"/>
          <a:ext cx="8496000" cy="5927760"/>
        </p:xfrm>
        <a:graphic>
          <a:graphicData uri="http://schemas.openxmlformats.org/drawingml/2006/table">
            <a:tbl>
              <a:tblPr/>
              <a:tblGrid>
                <a:gridCol w="4930560"/>
                <a:gridCol w="3565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I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7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D’A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zion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mobi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la cera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cnologia cerami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Orefic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i metalli e orefice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oda e costu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i metall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cora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leg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tessu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vet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la porcell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metallo e oreficeria arredo chie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tessuto, decorazione e arredo della chi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merletto e del ricam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ERIMENTALE MICHELANGE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segno industri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oda e costu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la cera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l’oro e metalli prezios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i metal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cora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le opere ling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 vet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 li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Grafi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Percorsi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LICEO ARTIS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ARCHITETTURA DESIGN AMBIEN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SEZIONE De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grpSp>
        <p:nvGrpSpPr>
          <p:cNvPr id="801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802" name="Picture 8" descr="miur_colorato_trasparente_piccolo"/>
            <p:cNvPicPr/>
            <p:nvPr/>
          </p:nvPicPr>
          <p:blipFill>
            <a:blip r:embed="rId3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Rettangolo 8"/>
          <p:cNvSpPr/>
          <p:nvPr/>
        </p:nvSpPr>
        <p:spPr>
          <a:xfrm>
            <a:off x="564480" y="4608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46FB-87B0-4D16-BFFF-BD9C9303226E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CasellaDiTesto 2"/>
          <p:cNvSpPr/>
          <p:nvPr/>
        </p:nvSpPr>
        <p:spPr>
          <a:xfrm>
            <a:off x="950760" y="290520"/>
            <a:ext cx="60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324000" y="958680"/>
          <a:ext cx="8496000" cy="5195880"/>
        </p:xfrm>
        <a:graphic>
          <a:graphicData uri="http://schemas.openxmlformats.org/drawingml/2006/table">
            <a:tbl>
              <a:tblPr/>
              <a:tblGrid>
                <a:gridCol w="5035320"/>
                <a:gridCol w="3460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I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CORSI SPERIMENTALI LEONAR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chitettura e desig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Grafica vi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ERIMENTALE LICEO D’ARTE (BROCCA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i e comunicazione vi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CORSI SPERIMENTALI AUTONOMI COERENTI CON LA SE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Percorsi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LICEO ARTIS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ARCHITETTURA DESIGN AMBIEN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SEZIONE De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24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D’AR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zion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segno anima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cenotec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pubblicit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la grafica pubblicitaria e fotograf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otografia arti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ERIMENTALE MICHELANG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mmagine fotografica, filmica, televi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CORSI SPERIMENTALI AUTONOMI COERENTI CON L’INDIRIZZ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Percorsi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LICEO ARTIS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0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AUDIOVISIVO MULTIMEDIALE SCENOGRAFIC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grpSp>
        <p:nvGrpSpPr>
          <p:cNvPr id="808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809" name="Picture 8" descr="miur_colorato_trasparente_piccolo"/>
            <p:cNvPicPr/>
            <p:nvPr/>
          </p:nvPicPr>
          <p:blipFill>
            <a:blip r:embed="rId5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ttangolo 8"/>
          <p:cNvSpPr/>
          <p:nvPr/>
        </p:nvSpPr>
        <p:spPr>
          <a:xfrm>
            <a:off x="588240" y="3492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FBCC-8B3E-42C9-A989-9F9B8317B0A5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CasellaDiTesto 2"/>
          <p:cNvSpPr/>
          <p:nvPr/>
        </p:nvSpPr>
        <p:spPr>
          <a:xfrm>
            <a:off x="950760" y="290520"/>
            <a:ext cx="60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324000" y="958680"/>
          <a:ext cx="8496000" cy="3611880"/>
        </p:xfrm>
        <a:graphic>
          <a:graphicData uri="http://schemas.openxmlformats.org/drawingml/2006/table">
            <a:tbl>
              <a:tblPr/>
              <a:tblGrid>
                <a:gridCol w="5035320"/>
                <a:gridCol w="3460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I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CLASSI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RELATIVE SPERIMENTAZION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CEO CLASS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LINGUISTIC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RELATIVE SPERIMENTAZIONE INDIRIZZI LINGUISTICI SPERIMENTAL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CEO LINGUIS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E MUSICALE, COREUTICHE, MUSICALI E COREUTICHE, ARTISTICO MUSICALI AUTO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CEO MUSICALE E COREU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SCIENTIFI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RELATIVE SPERIMENTAZIONI*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CEO SCIENTIFIC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CORSI SPERIMENTALI QUINQUENNALI A INDIRIZZI MAGISTRALE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CEO DELLA SCIENZE UM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grpSp>
        <p:nvGrpSpPr>
          <p:cNvPr id="815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816" name="Picture 8" descr="miur_colorato_trasparente_piccolo"/>
            <p:cNvPicPr/>
            <p:nvPr/>
          </p:nvPicPr>
          <p:blipFill>
            <a:blip r:embed="rId6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Rettangolo 8"/>
          <p:cNvSpPr/>
          <p:nvPr/>
        </p:nvSpPr>
        <p:spPr>
          <a:xfrm>
            <a:off x="243000" y="5254560"/>
            <a:ext cx="8646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7d"/>
                </a:solidFill>
                <a:latin typeface="Arial"/>
              </a:rPr>
              <a:t>* </a:t>
            </a: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Gli indirizzi sperimentali che non prevedono lo studio del latino confluiscono, di norma, nella opzione scientifico-tecnologi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7d"/>
                </a:solidFill>
                <a:latin typeface="Arial"/>
              </a:rPr>
              <a:t>**</a:t>
            </a: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 Gli indirizzi sperimentali che non prevedono lo studio del latino confluiscono, di norma, nella opzione economico-socia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ttangolo 8"/>
          <p:cNvSpPr/>
          <p:nvPr/>
        </p:nvSpPr>
        <p:spPr>
          <a:xfrm>
            <a:off x="461160" y="4608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D198-112D-4A86-A7FA-3E9366E06A47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46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Rettangolo 9"/>
          <p:cNvSpPr/>
          <p:nvPr/>
        </p:nvSpPr>
        <p:spPr>
          <a:xfrm>
            <a:off x="357120" y="1071720"/>
            <a:ext cx="82155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I livelli di responsabilità  per prepa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l’a.s.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2010-201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Dove</a:t>
            </a: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 attivare gli indiriz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Quali</a:t>
            </a: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 indirizzi è possibile attivare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ttangolo 7"/>
          <p:cNvSpPr/>
          <p:nvPr/>
        </p:nvSpPr>
        <p:spPr>
          <a:xfrm>
            <a:off x="595440" y="6984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EB6B-6BC2-4CA3-9C32-DBE4FAABCF03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46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ttangolo 9"/>
          <p:cNvSpPr/>
          <p:nvPr/>
        </p:nvSpPr>
        <p:spPr>
          <a:xfrm>
            <a:off x="428760" y="2428920"/>
            <a:ext cx="828648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La Regione attribuisce alla Provincia i compiti e le funzioni concernenti l’istituzione, l’aggregazione, la fusione e la soppressione delle s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L’Ufficio Scolastico regionale promuove la ricognizione delle esigenze formative e lo sviluppo della relativa offerta su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La Giunta regionale delibera entro il 31 dicembre 2009 il piano di dimensionamento della rete scolastica e la programmazione dell’offerta form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457200" y="571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DOVE</a:t>
            </a:r>
            <a:r>
              <a:rPr b="1" lang="it-IT" sz="3200" spc="-1" strike="noStrike">
                <a:solidFill>
                  <a:srgbClr val="00005e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attivare gli indirizzi </a:t>
            </a:r>
            <a:br>
              <a:rPr sz="2800"/>
            </a:b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(dimensionamento della rete scolastica e programmazione dell’offerta formativa)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ttangolo 9"/>
          <p:cNvSpPr/>
          <p:nvPr/>
        </p:nvSpPr>
        <p:spPr>
          <a:xfrm>
            <a:off x="595440" y="5724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DE13-CC06-45F4-97A5-6ACE5E5628C4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476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2"/>
          <p:cNvSpPr/>
          <p:nvPr/>
        </p:nvSpPr>
        <p:spPr>
          <a:xfrm>
            <a:off x="45720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ttangolo 7"/>
          <p:cNvSpPr/>
          <p:nvPr/>
        </p:nvSpPr>
        <p:spPr>
          <a:xfrm>
            <a:off x="571680" y="571680"/>
            <a:ext cx="7286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QUALI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indirizzi è possibile attivare </a:t>
            </a:r>
            <a:br>
              <a:rPr sz="2800"/>
            </a:b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(ordinamenti scolasti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142920" y="2000160"/>
            <a:ext cx="84726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La scuola costruisce la sua identità, valorizzando le professionalità presenti in organico in Istitu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La scuola legge la tabella di confluenza allegata allo schema di regolamento e conferma o modifica la proposta di offerta formativa della scuola alla luce dei piani di studio e dei quadri orario previsti dal regol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ttangolo 10"/>
          <p:cNvSpPr/>
          <p:nvPr/>
        </p:nvSpPr>
        <p:spPr>
          <a:xfrm>
            <a:off x="588240" y="8100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0646-8E57-4583-9948-6FE7DE716751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747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NUOVI MODELLI ORGANIZZA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8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7" name=""/>
          <p:cNvGraphicFramePr/>
          <p:nvPr/>
        </p:nvGraphicFramePr>
        <p:xfrm>
          <a:off x="250920" y="1700280"/>
          <a:ext cx="8642160" cy="3322440"/>
        </p:xfrm>
        <a:graphic>
          <a:graphicData uri="http://schemas.openxmlformats.org/drawingml/2006/table">
            <a:tbl>
              <a:tblPr/>
              <a:tblGrid>
                <a:gridCol w="3457440"/>
                <a:gridCol w="51847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PARTIM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vorire la progettazione didatt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 la progettazione formativa</a:t>
                      </a:r>
                      <a:r>
                        <a:rPr b="1" lang="it-IT" sz="2000" spc="-1" strike="noStrike">
                          <a:solidFill>
                            <a:srgbClr val="c10311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ITATO TECNICO SCIENTIF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mposti da docenti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di esperti del mondo del lavoro, delle professioni, della ricerca scientifica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tecnologica, delle università, delle istituzioni di alta formazione artistica, musicale e coreutica. H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unzioni consultive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i propost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 l’ utilizzazione degli spazi di autonomia e flessibilità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8" name="Rectangle 21"/>
          <p:cNvSpPr/>
          <p:nvPr/>
        </p:nvSpPr>
        <p:spPr>
          <a:xfrm>
            <a:off x="684360" y="109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 nuovi Lic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3:42:10Z</dcterms:created>
  <dc:creator>win</dc:creator>
  <dc:description/>
  <dc:language>en-US</dc:language>
  <cp:lastModifiedBy>Elisabetta</cp:lastModifiedBy>
  <dcterms:modified xsi:type="dcterms:W3CDTF">2009-11-10T11:53:59Z</dcterms:modified>
  <cp:revision>228</cp:revision>
  <dc:subject/>
  <dc:title>Diapositiva 1</dc:title>
</cp:coreProperties>
</file>