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06AA-D54C-4657-B59D-BF7F7CD359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D246-60A6-4A9E-A002-B9EDF1DBED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6440-9578-4F41-B481-0D5049CE21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6A41-0A2E-4B72-87B7-894A0FCD20C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8FA-E35F-4EEE-A8D1-0706BC06478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8E91-CA97-4746-AF53-606C2A171B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E0FB-F615-4B5B-B438-B365DA28C40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AA5D-B9ED-417E-A26A-78DDC87BFA4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A915-B23C-4F3D-A1C2-6F1488F86C8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982-59E0-4128-9D66-25618AA6A7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A625-FE39-4222-9B27-89FD81B9E3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A519-A03F-4826-9DBC-BDA6063EFC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3D8-E604-4D67-BE4A-7731DF0882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83F5-C3A8-430D-A5F7-99100C8903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A5C-35FF-477B-8A7E-5DCC0302D8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F87D-B346-4150-AB12-F53110B6B6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9CC8-5762-42D8-A210-695A1C7F82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90F8-3E40-42FA-8394-69F8951D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8A09-6F91-40BC-9329-801DFBD1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0CD6-93D5-458D-BB77-B45FD0AE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3291-141E-4A63-A72D-EBDAFF52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79DA-AA1D-45E4-AFF5-7969E08F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0B9D-FBAE-416D-9338-2F4324CB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6819-0156-4F1A-A7CE-D86A3A95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2672-4CA1-4721-B635-82097236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4B72-E14A-4737-BD20-747EE707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B1DE-B2BD-424F-9600-4A583898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1583-2C8C-4412-80A9-AA50E2C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39CD-4E65-4653-B56D-1478484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6066-D85D-47A4-9793-403B5A81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5106-64B9-455B-A9D6-BAC4A1CB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379-6D3F-4A65-B6B8-2660631D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BF40-DC48-4E81-88E6-5858D98C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DD18-37C9-4842-A3F3-837C4F1E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182D-ABEE-4C05-AC19-C9F4A542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6BB5-875A-47AE-8613-57D7712E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BDF6-1EA4-4252-A795-0D10026B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134B-7CAD-443D-99C7-C3ABB5DC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E6BD-3786-4C59-BC86-F326CBE7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5D9D-A7FB-4850-A6D8-39D9BD79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FFA6-44EF-45BE-8789-2FBDC5DC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7241-C679-4639-9E21-D2A5FFAB226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77AA-ABAA-4558-BDC7-AE5B4818309A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44B5-8204-4E3D-AAD8-0F2B4B2782D5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7962-ED2C-4B19-B096-FD5CA18D6F9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indire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I nuovi </a:t>
            </a:r>
            <a:br>
              <a:rPr sz="3000"/>
            </a:br>
            <a:r>
              <a:rPr b="0" lang="it-IT" sz="6800" spc="-1" strike="noStrike">
                <a:solidFill>
                  <a:srgbClr val="ffffff"/>
                </a:solidFill>
                <a:latin typeface="Arial"/>
              </a:rPr>
              <a:t>Istituti Tecnici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1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CasellaDiTesto 5"/>
          <p:cNvSpPr/>
          <p:nvPr/>
        </p:nvSpPr>
        <p:spPr>
          <a:xfrm>
            <a:off x="324000" y="4365720"/>
            <a:ext cx="8632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Schema di regolamento recante norme concernenti il riordino degli Istituti Tecnici ai sensi dell’articolo 64, comma 4, del decreto legge 25 giugno 2008, n. 112, convertito dalla legge 6 agosto 2008, n. 133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Berlin Sans FB"/>
              </a:rPr>
              <a:t>deliberato in prima lettura dal Consiglio dei Ministri il 28/5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8855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ORE DI INSE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7812000" y="333360"/>
            <a:ext cx="1295640" cy="1129320"/>
            <a:chOff x="7812000" y="333360"/>
            <a:chExt cx="1295640" cy="1129320"/>
          </a:xfrm>
        </p:grpSpPr>
        <p:pic>
          <p:nvPicPr>
            <p:cNvPr id="18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28000" y="33336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9"/>
            <p:cNvSpPr/>
            <p:nvPr/>
          </p:nvSpPr>
          <p:spPr>
            <a:xfrm>
              <a:off x="7812000" y="112536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0"/>
          <p:cNvSpPr/>
          <p:nvPr/>
        </p:nvSpPr>
        <p:spPr>
          <a:xfrm>
            <a:off x="395280" y="13413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Aumento prev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4000" y="2421000"/>
          <a:ext cx="8497800" cy="3792600"/>
        </p:xfrm>
        <a:graphic>
          <a:graphicData uri="http://schemas.openxmlformats.org/drawingml/2006/table">
            <a:tbl>
              <a:tblPr/>
              <a:tblGrid>
                <a:gridCol w="4251240"/>
                <a:gridCol w="42465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rio attua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lla maggior parte delle scuole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isto dalla Rifor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9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 ore settimanali di 50 minuti</a:t>
                      </a:r>
                      <a:br>
                        <a:rPr sz="3200"/>
                      </a:br>
                      <a:br>
                        <a:rPr sz="32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</a:t>
                      </a:r>
                      <a:r>
                        <a:rPr b="1" lang="it-IT" sz="3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0</a:t>
                      </a: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ore annue effetti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 ore settimanali di 60 minuti</a:t>
                      </a:r>
                      <a:br>
                        <a:rPr sz="3200"/>
                      </a:br>
                      <a:br>
                        <a:rPr sz="32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</a:t>
                      </a:r>
                      <a:r>
                        <a:rPr b="1" lang="it-IT" sz="3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.056</a:t>
                      </a: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ore annuali di lezi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2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8360" y="2276640"/>
          <a:ext cx="8136000" cy="3587760"/>
        </p:xfrm>
        <a:graphic>
          <a:graphicData uri="http://schemas.openxmlformats.org/drawingml/2006/table">
            <a:tbl>
              <a:tblPr/>
              <a:tblGrid>
                <a:gridCol w="2663640"/>
                <a:gridCol w="2733840"/>
                <a:gridCol w="27385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 GENER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RI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91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imo bien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60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6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condo biennio e quinto an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95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1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0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9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ttangolo 10"/>
          <p:cNvSpPr/>
          <p:nvPr/>
        </p:nvSpPr>
        <p:spPr>
          <a:xfrm>
            <a:off x="395280" y="5619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A STRUTTURA DEL PERCORSO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QUINQUEN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CARATTERISTICHE INNO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37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Fort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tegrazione tra saperi teorici e saperi operativ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Risultati di apprendimento declinati in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mpetenze, abilità e conoscenze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anche con riferimento al Quadro europeo dei titoli e delle qualifiche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QF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),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per favorire la mobilità delle persone nell’Unione europea (da definire con apposito regola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Centralità de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laborator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tage, tirocini e alternanza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scuola-lavoro per apprendere in contesti operati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Possibile collaborazione con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sperti estern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per arricchire l’offerta formativa 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e sviluppar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mpetenze specialist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7"/>
          <p:cNvGrpSpPr/>
          <p:nvPr/>
        </p:nvGrpSpPr>
        <p:grpSpPr>
          <a:xfrm>
            <a:off x="7715160" y="142920"/>
            <a:ext cx="1295640" cy="1129320"/>
            <a:chOff x="7715160" y="142920"/>
            <a:chExt cx="1295640" cy="1129320"/>
          </a:xfrm>
        </p:grpSpPr>
        <p:pic>
          <p:nvPicPr>
            <p:cNvPr id="19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1429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9"/>
            <p:cNvSpPr/>
            <p:nvPr/>
          </p:nvSpPr>
          <p:spPr>
            <a:xfrm>
              <a:off x="7715160" y="9349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604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VALUTAZIONE E ESAMI DI S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Per la valutazione periodica e finale 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degli studenti e per gli esami di St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sono previste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prove finalizzate anche all’accertamento delle competenze in contesti applicativi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le Commissioni degli esami di Stato possono avvalersi anche di qualificati esperti del mondo economico e produt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0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747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CRITERI DI CONFLUENZA NEL NUOVO ORDI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07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Il sistema è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RIORDINATO</a:t>
            </a:r>
            <a:r>
              <a:rPr b="0" lang="it-IT" sz="28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INNOVA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per valorizzare le vocazion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degli istituti tecni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Tutti i corsi di ordinamento e le relative sperimentazion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degli attuali istituti tecn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confluiscono nel nuovo ordinamen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1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STITUTO TECNICO DEL SETTORE TECNOLOGICO E LICEO SCIENTIFICO AD OPZIONE SCIENTIFICO-TECNOLOGICA: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FILI CULTURALI E RISULTATI di APPREND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533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TITUTO TECNIC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TTORE TECNOLOGIC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CEO SCIENTIF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PZIONE SCIENTIFICO –TECNO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800600" y="1488600"/>
            <a:ext cx="4038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gli istituti tecnici del settore tecnologico  lo studio della scienza e della tecnologia ha una valenza culturale generale, che garantisce il proseguimento degli studi, ma fornisce anche specifiche competenze professionali correlate  ai processi produttivi reali, collegati all’economia e al lavoro. In quanto rispondono alle esigenze del mondo produttivo, tali competenze offrono anche immediate opportunità di occupaz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 opzione scientifico-tecnologica del Liceo scientifico è finalizzata a un approfondimento culturale della  scienza e alla padronanza dei suoi metodi, con particolare riferimento alle scienze sperimentali. La disciplina Informatica e Sistemi completa il quadro di cultura generale. Questa opzione è, quindi, prevalentemente orientata alla prosecuzione degli studi a livello universit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ccia circolare in su 4"/>
          <p:cNvSpPr/>
          <p:nvPr/>
        </p:nvSpPr>
        <p:spPr>
          <a:xfrm>
            <a:off x="2484360" y="2781360"/>
            <a:ext cx="2357640" cy="571320"/>
          </a:xfrm>
          <a:custGeom>
            <a:avLst/>
            <a:gdLst>
              <a:gd name="textAreaLeft" fmla="*/ 535680 w 2357640"/>
              <a:gd name="textAreaRight" fmla="*/ 1750680 w 235764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18" hR="21600" stAng="10800000" swAng="-5400000"/>
                <a:lnTo>
                  <a:pt x="11128" y="21600"/>
                </a:lnTo>
                <a:arcTo wR="9818" hR="21600" stAng="5400000" swAng="-3624081"/>
                <a:lnTo>
                  <a:pt x="21288" y="5400"/>
                </a:lnTo>
                <a:lnTo>
                  <a:pt x="20291" y="0"/>
                </a:lnTo>
                <a:lnTo>
                  <a:pt x="18670" y="5400"/>
                </a:lnTo>
                <a:lnTo>
                  <a:pt x="19324" y="5400"/>
                </a:lnTo>
                <a:arcTo wR="9818" hR="21600" stAng="1775919" swAng="3519633"/>
                <a:lnTo>
                  <a:pt x="10473" y="21552"/>
                </a:lnTo>
                <a:arcTo wR="9818" hR="21600" stAng="5504447" swAng="5295553"/>
                <a:close/>
              </a:path>
              <a:path fill="darkenLess" w="21600" h="21600">
                <a:moveTo>
                  <a:pt x="0" y="0"/>
                </a:moveTo>
                <a:arcTo wR="9818" hR="21600" stAng="10800000" swAng="-5400000"/>
                <a:lnTo>
                  <a:pt x="11128" y="21600"/>
                </a:lnTo>
                <a:arcTo wR="9818" hR="21600" stAng="5400000" swAng="104447"/>
                <a:lnTo>
                  <a:pt x="10473" y="21552"/>
                </a:lnTo>
                <a:arcTo wR="9818" hR="21600" stAng="5504447" swAng="5295553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ccia circolare in su 5"/>
          <p:cNvSpPr/>
          <p:nvPr/>
        </p:nvSpPr>
        <p:spPr>
          <a:xfrm>
            <a:off x="2627280" y="5516640"/>
            <a:ext cx="2286000" cy="571320"/>
          </a:xfrm>
          <a:custGeom>
            <a:avLst/>
            <a:gdLst>
              <a:gd name="textAreaLeft" fmla="*/ 517680 w 2286000"/>
              <a:gd name="textAreaRight" fmla="*/ 1696680 w 228600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-3619483"/>
                <a:lnTo>
                  <a:pt x="21289" y="5400"/>
                </a:lnTo>
                <a:lnTo>
                  <a:pt x="20250" y="0"/>
                </a:lnTo>
                <a:lnTo>
                  <a:pt x="18589" y="5400"/>
                </a:lnTo>
                <a:lnTo>
                  <a:pt x="19264" y="5400"/>
                </a:lnTo>
                <a:arcTo wR="9788" hR="21600" stAng="1780517" swAng="3511832"/>
                <a:lnTo>
                  <a:pt x="10462" y="21549"/>
                </a:lnTo>
                <a:arcTo wR="9788" hR="21600" stAng="5507651" swAng="5292349"/>
                <a:close/>
              </a:path>
              <a:path fill="darkenLess"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107651"/>
                <a:lnTo>
                  <a:pt x="10462" y="21549"/>
                </a:lnTo>
                <a:arcTo wR="9788" hR="21600" stAng="5507651" swAng="5292349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8001000" y="71280"/>
            <a:ext cx="1000080" cy="948960"/>
            <a:chOff x="8001000" y="71280"/>
            <a:chExt cx="1000080" cy="948960"/>
          </a:xfrm>
        </p:grpSpPr>
        <p:pic>
          <p:nvPicPr>
            <p:cNvPr id="22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67680" y="71280"/>
              <a:ext cx="588240" cy="5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9"/>
            <p:cNvSpPr/>
            <p:nvPr/>
          </p:nvSpPr>
          <p:spPr>
            <a:xfrm>
              <a:off x="8001000" y="6829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60480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ICEO DELLE SCIENZE UMANE AD OPZIONE ECONOMICO-SOCIALE E ISTITUTO TECNICO DEL SETTORE ECONOMICO “AMMINISTRAZIONE, FINANZA E MARKETING”: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PARAZIONE DEI PROFILI CULTURALI E DEI RISULTATI di APPREND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1680" y="17859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PZIONE ECONOMICO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STITUTO TE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TTORE ECONOM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AMMINISTRAZIONE, FINANZA E MARKETING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800600" y="1533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gliere  nessi ed interazioni tra le diverse scienze sociali (storia, diritto, economia, sociologia, antropologia, psicologia, ecc.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Individuare e utilizzare le categorie utili per la comprensione  dei fenomeni culturali e sociali contemporane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Operare nel governo dei sistemi aziendali con riferimento a previsione, organizzazione, conduzione, gestione e contr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Operare nel sistema informativo dell’azienda  e contribuire sia alla sua innovazione  sia al suo adeguamento organizzativo e tecnolog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ccia circolare in su 9"/>
          <p:cNvSpPr/>
          <p:nvPr/>
        </p:nvSpPr>
        <p:spPr>
          <a:xfrm>
            <a:off x="3643200" y="5643720"/>
            <a:ext cx="1500480" cy="500040"/>
          </a:xfrm>
          <a:custGeom>
            <a:avLst/>
            <a:gdLst>
              <a:gd name="textAreaLeft" fmla="*/ 327960 w 1500480"/>
              <a:gd name="textAreaRight" fmla="*/ 1109880 w 15004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8215200" y="0"/>
            <a:ext cx="785880" cy="817560"/>
            <a:chOff x="8215200" y="0"/>
            <a:chExt cx="785880" cy="817560"/>
          </a:xfrm>
        </p:grpSpPr>
        <p:pic>
          <p:nvPicPr>
            <p:cNvPr id="23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46240" y="0"/>
              <a:ext cx="46224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9"/>
            <p:cNvSpPr/>
            <p:nvPr/>
          </p:nvSpPr>
          <p:spPr>
            <a:xfrm>
              <a:off x="8215200" y="480240"/>
              <a:ext cx="78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Freccia circolare in su 12"/>
          <p:cNvSpPr/>
          <p:nvPr/>
        </p:nvSpPr>
        <p:spPr>
          <a:xfrm>
            <a:off x="3643200" y="3429000"/>
            <a:ext cx="1500480" cy="500040"/>
          </a:xfrm>
          <a:custGeom>
            <a:avLst/>
            <a:gdLst>
              <a:gd name="textAreaLeft" fmla="*/ 327960 w 1500480"/>
              <a:gd name="textAreaRight" fmla="*/ 1109880 w 15004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4760" y="419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E FASI DI ATTU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Con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uccessivi decreti ministerial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sono definiti i seguenti aspetti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descrizione de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isultati d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pprendiment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7d"/>
                </a:solidFill>
                <a:latin typeface="Arial"/>
              </a:rPr>
              <a:t>(competenze, abilità e conoscenze)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in relazione agli insegnamenti previsti negli Allegati B e C del Regolamento (</a:t>
            </a:r>
            <a:r>
              <a:rPr b="0" i="1" lang="it-IT" sz="2000" spc="-1" strike="noStrike">
                <a:solidFill>
                  <a:srgbClr val="00007d"/>
                </a:solidFill>
                <a:latin typeface="Arial"/>
              </a:rPr>
              <a:t>profili professionali e quadri orar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criteri e modalità  per definire le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</a:rPr>
              <a:t>opzion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ui è possibile articolare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aree di indirizz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predisposizione dell’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</a:rPr>
              <a:t>elenco nazional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delle opzioni, con indicazione delle discipline di riferimento, il relativo monte ore, la descrizione dei risultati di apprendi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definizione delle</a:t>
            </a:r>
            <a:r>
              <a:rPr b="1" lang="it-IT" sz="20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lassi di concors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e articolazione delle cattedre del personale docente, compreso quello da destinare all’Ufficio tec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definizione degl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ndicatori per la valutazione e l’autovalutazion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di sistema degli istituti tecnici con riferimento al Quadro europeo per la qualità dei sistemi di istruzione e for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3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2"/>
          <p:cNvSpPr/>
          <p:nvPr/>
        </p:nvSpPr>
        <p:spPr>
          <a:xfrm>
            <a:off x="6553080" y="6138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50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MISURE DI ACCOMPA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7705800" y="33480"/>
            <a:ext cx="1295280" cy="1129320"/>
            <a:chOff x="7705800" y="33480"/>
            <a:chExt cx="1295280" cy="1129320"/>
          </a:xfrm>
        </p:grpSpPr>
        <p:pic>
          <p:nvPicPr>
            <p:cNvPr id="24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3348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9"/>
            <p:cNvSpPr/>
            <p:nvPr/>
          </p:nvSpPr>
          <p:spPr>
            <a:xfrm>
              <a:off x="7705800" y="8254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181080" y="1488960"/>
          <a:ext cx="8820000" cy="4869000"/>
        </p:xfrm>
        <a:graphic>
          <a:graphicData uri="http://schemas.openxmlformats.org/drawingml/2006/table">
            <a:tbl>
              <a:tblPr/>
              <a:tblGrid>
                <a:gridCol w="3529080"/>
                <a:gridCol w="529092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INAT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I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e scolas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ovani e famig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nformazione/formazione</a:t>
                      </a:r>
                      <a:r>
                        <a:rPr b="0" lang="it-IT" sz="21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del personale scolastico sui contenuti della riforma;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ampagna di informazione</a:t>
                      </a:r>
                      <a:r>
                        <a:rPr b="0" lang="it-IT" sz="21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in relazione alle scelte per l’anno scolastico 2010/2011;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erventi da attuare in collaborazione con l’ANS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7" name="Rectangle 51"/>
          <p:cNvSpPr/>
          <p:nvPr/>
        </p:nvSpPr>
        <p:spPr>
          <a:xfrm>
            <a:off x="4106520" y="2998080"/>
            <a:ext cx="9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686520" y="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MONITORAGGIO E VALUTAZIONE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DI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Costituzione del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COMITATO NAZIONALE PER L’ISTRUZIONE TECNICA E PROFESSIONALE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articolato in Commissioni di settore, composto da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esperti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del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mondo del lavor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delle profession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ell’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università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de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ricerca;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irigenti scolastic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ocen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esper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designati da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Conferenza dei Presiden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delle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Region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dall’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UP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al Ministero del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lavor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e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salute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delle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politiche social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al Ministero dello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sviluppo economic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al Ministero de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gioventù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con funzioni di proposta e consulenza per l’aggiornamento periodico dei percorsi degli istituti tecnici e per la definizione degli indicatori per la valutazione e l’autovalutazione del servizio degli istitu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5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1"/>
          <p:cNvSpPr/>
          <p:nvPr/>
        </p:nvSpPr>
        <p:spPr>
          <a:xfrm>
            <a:off x="684360" y="109440"/>
            <a:ext cx="50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 nuovi Istituti Tecnici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Calibri"/>
              </a:rPr>
              <a:t>- Avvert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7715160" y="0"/>
            <a:ext cx="1295640" cy="1129320"/>
            <a:chOff x="7715160" y="0"/>
            <a:chExt cx="1295640" cy="1129320"/>
          </a:xfrm>
        </p:grpSpPr>
        <p:pic>
          <p:nvPicPr>
            <p:cNvPr id="12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7715160" y="792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"/>
          <p:cNvSpPr/>
          <p:nvPr/>
        </p:nvSpPr>
        <p:spPr>
          <a:xfrm>
            <a:off x="214200" y="954000"/>
            <a:ext cx="89298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Le slide che seguono presentano lo schema di Regolamento approvato in prima lettura dal Consiglio dei Ministri (CDM) il 28 maggio 2009; esaminato dal CNP il 22 luglio 2009, dalla Conferenza unificata Stato Regioni il 29 ottobre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Questa fase di </a:t>
            </a:r>
            <a:r>
              <a:rPr b="0" i="1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“Dialogo con la scuola” </a:t>
            </a: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e i pareri obbligatori (Consiglio di Stato e Commissioni parlament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contribuiranno 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integrare e modificare</a:t>
            </a:r>
            <a:br>
              <a:rPr sz="1800"/>
            </a:b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il testo che andrà in approvazione defi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L’iter legislativo prevede successivam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Approvazione definitiva da parte del C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Firma da parte del Capo dello St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Registrazione da parte della Corte dei Co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Pubblicazione sulla Gazzetta Ufficiale della Repubbl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ETTORE ECONOMIC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GENERALI COMUNI AGLI INDIRIZZI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9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0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1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2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3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4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5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6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269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63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65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74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57120" y="1736640"/>
          <a:ext cx="8344080" cy="4978440"/>
        </p:xfrm>
        <a:graphic>
          <a:graphicData uri="http://schemas.openxmlformats.org/drawingml/2006/table">
            <a:tbl>
              <a:tblPr/>
              <a:tblGrid>
                <a:gridCol w="3238560"/>
                <a:gridCol w="1008000"/>
                <a:gridCol w="936720"/>
                <a:gridCol w="954000"/>
                <a:gridCol w="1100160"/>
                <a:gridCol w="110664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e letteratura italiana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inglese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toria, Cittadinanza e Costituzione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atematica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d economia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Scienze della Terra e Biologia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motorie e sportive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RC o attivit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alterna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gener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MMINISTRAZIONE, FINANZA E MARKETING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 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286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35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37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5054760" y="97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5070600" y="129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513396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250920" y="1700280"/>
            <a:ext cx="8686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Amministrazione, Finanza e Market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ha competenze specifiche nel campo dei macro-fenomeni economici nazionali ed internazionali, della normativa civilistica e fiscale, dei sistemi aziendali (organizzazione, pianificazione, programmazione, amministrazione, finanza e controllo) degli strumenti di marketing, dei prodotti assicurativo-finanziari e dell’economia sociale.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ntegra  le competenze dell’ambito professionale specifico con quelle linguistiche e informatiche per operare  nel sistema informativo dell’azienda e contribuire sia all’innovazione sia al miglioramento organizzativo e tecnologico dell’impresa.</a:t>
            </a:r>
            <a:br>
              <a:rPr sz="1200"/>
            </a:br>
            <a:br>
              <a:rPr sz="8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E’ in grado di:</a:t>
            </a:r>
            <a:br>
              <a:rPr sz="12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 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partecipare al lavoro organizzato e di gruppo con responsabilità e contributo person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operare con flessibilità in vari contesti affrontando il cambiamen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operare per obiettivi e per progett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documentare opportunamente il proprio lavor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individuare, selezionare e gestire le fonti di informa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elaborare, interpretare e rappresentare dati con il ricorso a strumenti informat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operare con una visione trasversale e sistemica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comunicare con linguaggi appropriati e con codici divers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comunicare in due lingue straniere anche su argomenti tecnici.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n particolare, è in grado di assumere ruoli e funzioni relative a: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rilevazione dei fenomeni gestionali utilizzando metodi, strumenti, tecniche contabili ed extracontabi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trattamenti contabili in linea con i principi nazionali ed internazion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adempimenti di natura fiscale (imposte dirette ed indirette, contributi)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trattative contrattuali riferite alle diverse aree funzionali dell’aziend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lettura, redazione e interpretazione dei documenti contabili e finanziari aziend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controllo della gestione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reporting di analisi e di sintesi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utilizzo di tecnologie e programmi informatici dedicati alla gestione amministrativo/finanzi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MMINISTRAZIONE, FINANZA E MARKETING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1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35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37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2"/>
          <p:cNvSpPr/>
          <p:nvPr/>
        </p:nvSpPr>
        <p:spPr>
          <a:xfrm>
            <a:off x="5054760" y="97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5070600" y="129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513396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68360" y="1557360"/>
          <a:ext cx="8136000" cy="4649760"/>
        </p:xfrm>
        <a:graphic>
          <a:graphicData uri="http://schemas.openxmlformats.org/drawingml/2006/table">
            <a:tbl>
              <a:tblPr/>
              <a:tblGrid>
                <a:gridCol w="3206880"/>
                <a:gridCol w="1066680"/>
                <a:gridCol w="982440"/>
                <a:gridCol w="901800"/>
                <a:gridCol w="682560"/>
                <a:gridCol w="398520"/>
                <a:gridCol w="8971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Chim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a lingua comunitaria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ografia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aziendale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politica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à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à e insegnamenti facoltativi nel settore econo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33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77920" y="333360"/>
            <a:ext cx="8866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URISM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73"/>
          <p:cNvSpPr/>
          <p:nvPr/>
        </p:nvSpPr>
        <p:spPr>
          <a:xfrm>
            <a:off x="6059520" y="1440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75"/>
          <p:cNvSpPr/>
          <p:nvPr/>
        </p:nvSpPr>
        <p:spPr>
          <a:xfrm>
            <a:off x="6075360" y="16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5297400" y="38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5313240" y="36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6"/>
          <p:cNvSpPr/>
          <p:nvPr/>
        </p:nvSpPr>
        <p:spPr>
          <a:xfrm>
            <a:off x="5297400" y="20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7"/>
          <p:cNvSpPr/>
          <p:nvPr/>
        </p:nvSpPr>
        <p:spPr>
          <a:xfrm>
            <a:off x="5313240" y="52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250920" y="1052640"/>
            <a:ext cx="8713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nel Turismo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ha competenze specifiche nel campo dei macrofenomeni economici nazionali ed internazionali, della normativa civilistica e fiscale, oltre a competenze specifiche nel comparto delle aziende del settore turist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Opera nel sistema produttivo con particolare attenzione alla valorizzazione e fruizione del patrimonio paesaggistico, artistico, culturale, artigianale, enogastronomi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ntegra le competenze dell’ambito gestionale e della produzione di servizi/prodotti turistici con quelle linguistiche e informatiche per operare nel sistema informativo dell’azienda e contribuire sia all’innovazione sia al miglioramento organizzativo e tecnologico dell’i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Opera con competenza ed autonomia  nelle diverse tipologie di imprese turisti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E’ in grado d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collaborare nella gestione organizzativa dei servizi secondo parametri di efficienza, efficacia e qualità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re le proprie competenze nel lavoro organizzato e di gruppo con responsabilità e propositivo contributo persona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re con flessibilità in vari contesti sapendo affrontare il cambia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re per obiettivi e per proget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documentare opportunamente il proprio lavor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dividuare, selezionare e gestire le fonti di informa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laborare, interpretare e rappresentare efficacemente dati con il ricorso a strumenti informatici  e software gestional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re con visione non settoriale e sistem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municare con linguaggi appropriati e con codici divers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comunicare in tre lingue stranie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operare nella produzione e gestione di servizi e/o prodotti turistici, con particolare attenzione alla valorizzazione del territori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definire con soggetti pubblici e privati l’immagine turistica del territorio e i piani di qualificazione per lo sviluppo dell’offerta integr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analizzare le tendenze del mercato e proporre opportune politiche di marketing, rispetto a specifiche tipologie di imprese turistic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avvalersi di tecniche di comunicazione multimediale per la proozione del turismo integr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6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243000" y="476280"/>
            <a:ext cx="8866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URISM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73"/>
          <p:cNvSpPr/>
          <p:nvPr/>
        </p:nvSpPr>
        <p:spPr>
          <a:xfrm>
            <a:off x="6059520" y="1440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75"/>
          <p:cNvSpPr/>
          <p:nvPr/>
        </p:nvSpPr>
        <p:spPr>
          <a:xfrm>
            <a:off x="6075360" y="16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>
            <a:off x="5297400" y="38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>
            <a:off x="5313240" y="36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>
            <a:off x="5297400" y="20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7"/>
          <p:cNvSpPr/>
          <p:nvPr/>
        </p:nvSpPr>
        <p:spPr>
          <a:xfrm>
            <a:off x="5313240" y="52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24000" y="1268280"/>
          <a:ext cx="8351640" cy="5160960"/>
        </p:xfrm>
        <a:graphic>
          <a:graphicData uri="http://schemas.openxmlformats.org/drawingml/2006/table">
            <a:tbl>
              <a:tblPr/>
              <a:tblGrid>
                <a:gridCol w="3801960"/>
                <a:gridCol w="877680"/>
                <a:gridCol w="871560"/>
                <a:gridCol w="928800"/>
                <a:gridCol w="936720"/>
                <a:gridCol w="9349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Chim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ografia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aziendale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a lingua comunitaria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rza lingua straniera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turistiche aziend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ografia turistica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 Legislazione turistica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e e 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econo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ETTORE TECNOLOGICO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GENERALI COMUNI AGLI INDIRIZZI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8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9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40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24000" y="1916280"/>
          <a:ext cx="8397720" cy="3873240"/>
        </p:xfrm>
        <a:graphic>
          <a:graphicData uri="http://schemas.openxmlformats.org/drawingml/2006/table">
            <a:tbl>
              <a:tblPr/>
              <a:tblGrid>
                <a:gridCol w="4051080"/>
                <a:gridCol w="839880"/>
                <a:gridCol w="839880"/>
                <a:gridCol w="836640"/>
                <a:gridCol w="849240"/>
                <a:gridCol w="98100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e letteratura italiana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inglese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toria, Cittadinanza e Costituzione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atematica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d economia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Scienze della Terra e Biologia)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motorie e sportive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RC o attivit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alterna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gener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CCANICA, MECCATRONICA ED ENERGIA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0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0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89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00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501480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3"/>
          <p:cNvSpPr/>
          <p:nvPr/>
        </p:nvSpPr>
        <p:spPr>
          <a:xfrm>
            <a:off x="652464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>
            <a:off x="501480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652464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179280" y="1413000"/>
            <a:ext cx="878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1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Meccanica, Meccatronica ed Energia:</a:t>
            </a:r>
            <a:br>
              <a:rPr sz="1200"/>
            </a:br>
            <a:br>
              <a:rPr sz="1200"/>
            </a:b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ha competenze specifiche nel campo dei materiali, nella loro scelta, nei loro trattamenti e  lavorazioni;  inoltre, h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competenze sulle macchine e sui dispositivi utilizzati nelle industrie manifatturiere, agrarie, dei trasporti e dei servizi ne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iversi contesti econom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e attività produttive d’interesse, esprime le proprie competenze nella progettazione, costruzione e collaudo dei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ispositivi e dei prodotti e nella realizzazione dei processi produttiv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nella manutenzione preventiva e ordinaria e nell’esercizio di sistemi meccanici ed elettromeccanici compless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dimensionare, installare e gestire semplici impianti industri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 campo dei trasporti, può approfondire e specializzare le sue competenze in ordine alla costruzione e manutenzion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ordinaria e straordinaria, dei mezzi terrestri, navali e aere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le conoscenze di meccanica, di elettrotecnica, elettronica e dei sistemi informatici dedicati con le nozioni di base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fisica e chimica, economia e organizzazione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rviene nell’automazione industriale e nel controllo e conduzione dei processi, rispetto ai quali è in grado di contribuir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’innovazione, all’adeguamento tecnologico e organizzativo delle imprese, per il miglioramento della qualità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economicità dei prodotti; elabora cicli di lavorazione, analizzandone e valutandone i cost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relativamente alle tipologie di produzione, interviene nei processi di conversione, gestione ed utilizzo dell’energia e del loro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controllo, per ottimizzare il consumo energetico nel rispetto delle normative sulla tutela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operare autonomamente, nell’ambito delle normative vigenti, ai fini della sicurezza sul lavoro e della tute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mbient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pianificare la produzione e la certificazione dei sistemi progettati, descrivendo e documentando il lavor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volto, valutando i risultati conseguiti, redigendo istruzioni tecniche e manuali d’us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</a:t>
            </a:r>
            <a:r>
              <a:rPr b="0" i="1" lang="it-IT" sz="1200" spc="-1" strike="noStrike">
                <a:solidFill>
                  <a:srgbClr val="00007d"/>
                </a:solidFill>
                <a:latin typeface="Arial"/>
              </a:rPr>
              <a:t>team work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egnaposto numero diapositiva 2"/>
          <p:cNvSpPr/>
          <p:nvPr/>
        </p:nvSpPr>
        <p:spPr>
          <a:xfrm>
            <a:off x="6588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CCANICA, MECCATRONICA ED ENERGIA  (1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324000" y="5734080"/>
            <a:ext cx="820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32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89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00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4"/>
          <p:cNvSpPr/>
          <p:nvPr/>
        </p:nvSpPr>
        <p:spPr>
          <a:xfrm>
            <a:off x="501480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5"/>
          <p:cNvSpPr/>
          <p:nvPr/>
        </p:nvSpPr>
        <p:spPr>
          <a:xfrm>
            <a:off x="652464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6"/>
          <p:cNvSpPr/>
          <p:nvPr/>
        </p:nvSpPr>
        <p:spPr>
          <a:xfrm>
            <a:off x="501480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7"/>
          <p:cNvSpPr/>
          <p:nvPr/>
        </p:nvSpPr>
        <p:spPr>
          <a:xfrm>
            <a:off x="652464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07"/>
          <p:cNvSpPr/>
          <p:nvPr/>
        </p:nvSpPr>
        <p:spPr>
          <a:xfrm>
            <a:off x="4675320" y="604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24000" y="1484280"/>
          <a:ext cx="8353440" cy="399276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5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25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436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324000" y="18900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CCANICA, MECCATRONICA ED ENERGIA  (2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5"/>
          <p:cNvSpPr/>
          <p:nvPr/>
        </p:nvSpPr>
        <p:spPr>
          <a:xfrm>
            <a:off x="4397400" y="31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6"/>
          <p:cNvSpPr/>
          <p:nvPr/>
        </p:nvSpPr>
        <p:spPr>
          <a:xfrm>
            <a:off x="439740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95280" y="1197000"/>
          <a:ext cx="8352000" cy="5181480"/>
        </p:xfrm>
        <a:graphic>
          <a:graphicData uri="http://schemas.openxmlformats.org/drawingml/2006/table">
            <a:tbl>
              <a:tblPr/>
              <a:tblGrid>
                <a:gridCol w="3456000"/>
                <a:gridCol w="1008000"/>
                <a:gridCol w="936720"/>
                <a:gridCol w="1008000"/>
                <a:gridCol w="936720"/>
                <a:gridCol w="10065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 E MECCATRO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, macchine ed energia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e automazione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meccaniche di processo e prodotto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egno, progettazione e organizzazione industriale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NERGI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, macchine ed energia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e automazione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meccaniche di processo e prodotto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mpianti energetici, disegno e progettazione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RASPORTI E LOGISTICA</a:t>
            </a:r>
            <a:br>
              <a:rPr sz="28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8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07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18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15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0"/>
          <p:cNvSpPr/>
          <p:nvPr/>
        </p:nvSpPr>
        <p:spPr>
          <a:xfrm>
            <a:off x="501480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1"/>
          <p:cNvSpPr/>
          <p:nvPr/>
        </p:nvSpPr>
        <p:spPr>
          <a:xfrm>
            <a:off x="652464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324000" y="1268280"/>
            <a:ext cx="84452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dei Trasporti e della Logistica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tecniche specifiche e metodi di lavoro funzionali allo svolgimento delle attività inerenti la progettazion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la realizzazione, il mantenimento in efficienza dei mezzi e degli impianti relativi e l’organizzazione di servizi logist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e conoscenze che, a seconda delle declinazioni di settore scelte dai singoli istituti, riguardano 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iversificate articolazioni del traspor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ossiede una cultura sistemica ed è in grado di attivarsi in ciascuno dei segmenti operativi del settore in cui si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pecializza e di quelli collater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le conoscenze fondamentali relative alle tipologie, strutture e componenti dei mezzi, allo scopo di  garantire i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mantenimento delle condizioni di esercizio richieste dalle norme vigenti in materia di traspor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 in grado di operare autonomamente nel controllo, nelle regolazioni e riparazioni dei sistemi di bord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e nell’organizzazione dei serviz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applica le tecnologie per l’ammodernamento dei processi produttivi, rispetto ai quali è in grado di contribuir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’innovazione e all’adeguamento tecnologico e organizzativo dell’impres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’ambito dell’area Logistica, è in grado di operare nel campo delle infrastrutture, delle modalità di gestione de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traffico e relativa assistenza, delle procedure di spostamento e trasporto, della conduzione del mezzo in rapporto a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tipologia d’interesse, della gestione dell’impresa di trasporti e della logistica nelle sue diverse componenti: corrieri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vettori, operatori di nodo e intermediari logist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relativamente alle tipologie di intervento, agisce nell’applicazione delle normative nazionali, comunitarie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internazionali per la sicurezza dei mezzi, dei servizi e del lavoro nonché del trasporto di merci pericolos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esprimere le proprie competenze nella valutazione di impatto ambientale, nella salvaguardi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ell’ambiente e nell’utilizzazione razionale dell’energi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descrive e documenta il lavoro svolto, conosce ed utilizza strumenti di comunicazione efficace e team working per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operare in contesti organizzati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4760" y="5281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NUOVO IMPIANTO ORGANIZZA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7715160" y="142920"/>
            <a:ext cx="1295640" cy="1129320"/>
            <a:chOff x="7715160" y="142920"/>
            <a:chExt cx="1295640" cy="1129320"/>
          </a:xfrm>
        </p:grpSpPr>
        <p:pic>
          <p:nvPicPr>
            <p:cNvPr id="12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1429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9"/>
            <p:cNvSpPr/>
            <p:nvPr/>
          </p:nvSpPr>
          <p:spPr>
            <a:xfrm>
              <a:off x="7715160" y="9349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250920" y="1844640"/>
          <a:ext cx="8642160" cy="4608720"/>
        </p:xfrm>
        <a:graphic>
          <a:graphicData uri="http://schemas.openxmlformats.org/drawingml/2006/table">
            <a:tbl>
              <a:tblPr/>
              <a:tblGrid>
                <a:gridCol w="4105080"/>
                <a:gridCol w="45370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ECONO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TECNOLO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05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312"/>
                        </a:spcBef>
                        <a:spcAft>
                          <a:spcPts val="312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mministrazione, Finanza 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u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312"/>
                        </a:spcBef>
                        <a:spcAft>
                          <a:spcPts val="312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ccanica, Meccatronica ed Ene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rasporti  e Log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ed Elettrotecn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 e Telecomunic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e Comunic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a, Materiali e Biotecnolog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stema M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graria e Agroind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, Ambiente e 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0"/>
          <p:cNvSpPr/>
          <p:nvPr/>
        </p:nvSpPr>
        <p:spPr>
          <a:xfrm>
            <a:off x="468360" y="1197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 Black"/>
              </a:rPr>
              <a:t>2 SETTORI - 11 INDIRIZ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4571-C116-4E32-93DD-70C55D844CB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RASPORTI E LOGISTICA  (1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4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51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07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18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15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0"/>
          <p:cNvSpPr/>
          <p:nvPr/>
        </p:nvSpPr>
        <p:spPr>
          <a:xfrm>
            <a:off x="501480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1"/>
          <p:cNvSpPr/>
          <p:nvPr/>
        </p:nvSpPr>
        <p:spPr>
          <a:xfrm>
            <a:off x="652464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80"/>
          <p:cNvSpPr/>
          <p:nvPr/>
        </p:nvSpPr>
        <p:spPr>
          <a:xfrm>
            <a:off x="4873680" y="19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95280" y="1125360"/>
          <a:ext cx="8136000" cy="4846680"/>
        </p:xfrm>
        <a:graphic>
          <a:graphicData uri="http://schemas.openxmlformats.org/drawingml/2006/table">
            <a:tbl>
              <a:tblPr/>
              <a:tblGrid>
                <a:gridCol w="3429000"/>
                <a:gridCol w="771480"/>
                <a:gridCol w="893880"/>
                <a:gridCol w="954000"/>
                <a:gridCol w="738360"/>
                <a:gridCol w="280800"/>
                <a:gridCol w="10684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Chimica)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 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PORT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tecnica, Elettronica e Automazione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d econom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Rectangle 9"/>
          <p:cNvSpPr/>
          <p:nvPr/>
        </p:nvSpPr>
        <p:spPr>
          <a:xfrm>
            <a:off x="395280" y="6308640"/>
            <a:ext cx="820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RASPORTI E LOGISTICA  (2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324000" y="6210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*)  Se l’articolazione “Trasporti” è riferita agli insegnamenti relativi agli apparati e impianti marittimi, il monte ore previsto per “Scienza della navigazione, struttura e costruzione del mezzo” è di 99 ore nel secondo biennio e 132 nell’ultimo anno; il monte ore per “Meccanica e Macchine” è di 165 ore nel secondo biennio e 264 nell’ultimo ann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54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7"/>
          <p:cNvSpPr/>
          <p:nvPr/>
        </p:nvSpPr>
        <p:spPr>
          <a:xfrm>
            <a:off x="5014800" y="79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8"/>
          <p:cNvSpPr/>
          <p:nvPr/>
        </p:nvSpPr>
        <p:spPr>
          <a:xfrm>
            <a:off x="6524640" y="79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9"/>
          <p:cNvSpPr/>
          <p:nvPr/>
        </p:nvSpPr>
        <p:spPr>
          <a:xfrm>
            <a:off x="4898880" y="-258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0"/>
          <p:cNvSpPr/>
          <p:nvPr/>
        </p:nvSpPr>
        <p:spPr>
          <a:xfrm>
            <a:off x="4898880" y="-2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1"/>
          <p:cNvSpPr/>
          <p:nvPr/>
        </p:nvSpPr>
        <p:spPr>
          <a:xfrm>
            <a:off x="4898880" y="11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2"/>
          <p:cNvSpPr/>
          <p:nvPr/>
        </p:nvSpPr>
        <p:spPr>
          <a:xfrm>
            <a:off x="4898880" y="24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50920" y="1285920"/>
          <a:ext cx="8642160" cy="4962600"/>
        </p:xfrm>
        <a:graphic>
          <a:graphicData uri="http://schemas.openxmlformats.org/drawingml/2006/table">
            <a:tbl>
              <a:tblPr/>
              <a:tblGrid>
                <a:gridCol w="3889440"/>
                <a:gridCol w="1008000"/>
                <a:gridCol w="1008000"/>
                <a:gridCol w="863640"/>
                <a:gridCol w="865080"/>
                <a:gridCol w="365040"/>
                <a:gridCol w="642960"/>
              </a:tblGrid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PORT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della Navigazione, struttura e costruzione del mezzo *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 e Macchine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della Navigazione e struttura dei mezzi di trasporto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 e Macch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ELETTRONICA ED ELETTROTECNICA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58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395280" y="1052640"/>
            <a:ext cx="82296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Elettronica ed Elettrotecnica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ha competenze specifiche nel campo dei materiali e della tecnologia costruttiva dei sistemi elettronici e d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macchine elettriche, della generazione, elaborazione e trasmissione dei segnali elettrici ed elettronici, dei sistem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er la generazione, conversione e trasporto dell’energia elettrica e dei relativi impianti di distribu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nei contesti produttivi d’interesse, esprime le proprie competenze nella progettazione, costruzione e collaudo de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istemi elettronici e degli impianti elettr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è  in grado di programmare controllori e microprocessor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opera nell’organizzazione dei servizi e nell’esercizio di sistemi elettrici ed elettronici compless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è in grado di sviluppare e utilizzare sistemi di acquisizione dati, dispositivi, circuiti, apparecchi e apparati elettronic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conosce le tecniche di controllo e interfaccia  mediante software dedica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integra conoscenze di elettrotecnica, di elettronica e di informatica per intervenire nell’automazione industriale e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 controllo dei processi produttivi, rispetto ai quali è in grado di contribuire all’innovazione e all’adeguament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tecnologico delle imprese, relativamente alle tipologie di produ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interviene nei processi di conversione dell’energia elettrica, anche di fonte alternativa, e del loro controllo, per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ttimizzare il consumo energetico e adeguare gli impianti e i dispositivi alle normative sulla sicurezz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è in grado di esprimere le proprie competenze, nell’ambito delle normative vigenti, nel mantenimento d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icurezza sul lavoro e nella tutela ambientale, nonché di intervenire nel miglioramento della qualità dei prodotti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l’organizzazione produttiva delle aziende;</a:t>
            </a:r>
            <a:br>
              <a:rPr sz="12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è in grado di pianificare la produzione dei sistemi progettati; descrive e documenta i progetti esecutivi ed il lavor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volto, utilizza e redige manuali d’uso; conosce ed utilizza strumenti di comunicazione efficace e team working per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LETTRONICA ED ELETTROTECNICA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(1/2)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616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638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LETTRONICA ED ELETTROTECNICA  (2/2)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65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482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83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84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99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704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73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1"/>
          <p:cNvSpPr/>
          <p:nvPr/>
        </p:nvSpPr>
        <p:spPr>
          <a:xfrm>
            <a:off x="3098880" y="46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2"/>
          <p:cNvSpPr/>
          <p:nvPr/>
        </p:nvSpPr>
        <p:spPr>
          <a:xfrm>
            <a:off x="6597720" y="18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3"/>
          <p:cNvSpPr/>
          <p:nvPr/>
        </p:nvSpPr>
        <p:spPr>
          <a:xfrm>
            <a:off x="6597720" y="265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4"/>
          <p:cNvSpPr/>
          <p:nvPr/>
        </p:nvSpPr>
        <p:spPr>
          <a:xfrm>
            <a:off x="3506760" y="-30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5"/>
          <p:cNvSpPr/>
          <p:nvPr/>
        </p:nvSpPr>
        <p:spPr>
          <a:xfrm>
            <a:off x="6821640" y="10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46"/>
          <p:cNvSpPr/>
          <p:nvPr/>
        </p:nvSpPr>
        <p:spPr>
          <a:xfrm>
            <a:off x="6821640" y="1887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47"/>
          <p:cNvSpPr/>
          <p:nvPr/>
        </p:nvSpPr>
        <p:spPr>
          <a:xfrm>
            <a:off x="4486320" y="-3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8"/>
          <p:cNvSpPr/>
          <p:nvPr/>
        </p:nvSpPr>
        <p:spPr>
          <a:xfrm>
            <a:off x="4486320" y="57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62680" y="-3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24000" y="1413000"/>
          <a:ext cx="8353440" cy="4754520"/>
        </p:xfrm>
        <a:graphic>
          <a:graphicData uri="http://schemas.openxmlformats.org/drawingml/2006/table">
            <a:tbl>
              <a:tblPr/>
              <a:tblGrid>
                <a:gridCol w="4209840"/>
                <a:gridCol w="758880"/>
                <a:gridCol w="830160"/>
                <a:gridCol w="365400"/>
                <a:gridCol w="509400"/>
                <a:gridCol w="743040"/>
                <a:gridCol w="9367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A COMUNE ALLE ARTICOLAZIONI: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,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TEC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UTOMAZION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progettazione di sistemi elettrici ed elettro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I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D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TEC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  ed  Elettrotecnica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automatici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UTOMAZION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  ed  Elettrotecnica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automatici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delle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'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NFORMATICA E TELECOMUNICAZIONI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70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3240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Informatica e Telecomunicazioni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i sistemi informatici, dell’elaborazione dell’informazione, delle applicazioni 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tecnologie Web, delle reti e degli apparati di comunica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e conoscenze che, a seconda delle declinazioni che le singole scuole vorranno approfondire, s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ivolgono all’analisi, progettazione, installazione e gestione di sistemi informatici, basi di dati,  reti di sistemi di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elaborazione, sistemi multimediali  e apparati di trasmissione dei segn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orientate alla gestione del ciclo di vita delle applicazioni che, sempre a seconda della declinazion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he le singole scuole vorranno approfondire, possono rivolgersi al software: gestionale – orientato ai servizi – per 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istemi dedicati “incorporati”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gestione di progetti, operando nel quadro di normative nazionali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internazionali, concernenti la sicurezza in tutte le sue accezioni e la protezione delle informazioni (“privacy”)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esprimere le proprie competenze, nell’ambito delle normative vigenti, ai fini della sicurezza sul lavoro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la tutela ambientale e di intervenire nel miglioramento della qualità dei prodotti  e nell’organizzazione produttiv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le impres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di produzione dei sistemi, dove applica capacità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municare e interagire efficacemente, sia nella forma scritta che or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’analisi e realizzazione delle soluzioni ha un approccio razionale, concettuale e analitico,  orientato a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aggiungimento dell’obiettivo, che esercita in contesti di lavoro caratterizzati prevalentemente da una gestione in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team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ossiede un’elevata conoscenza dell’inglese tecnico specifico del settore per interloquire in un ambito professional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aratterizzato da forte internazionalizzazione; utilizza e redige manuali d’u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FORMATICA E TELECOMUNICAZIONI  (1/2)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73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39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540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541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556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761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768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78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539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540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541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56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761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468360" y="-171360"/>
            <a:ext cx="82296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FORMATICA E TELECOMUNICAZIONI  (2/2)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6"/>
          <p:cNvSpPr/>
          <p:nvPr/>
        </p:nvSpPr>
        <p:spPr>
          <a:xfrm>
            <a:off x="493560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47"/>
          <p:cNvSpPr/>
          <p:nvPr/>
        </p:nvSpPr>
        <p:spPr>
          <a:xfrm>
            <a:off x="4951440" y="-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48"/>
          <p:cNvSpPr/>
          <p:nvPr/>
        </p:nvSpPr>
        <p:spPr>
          <a:xfrm>
            <a:off x="675792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49"/>
          <p:cNvSpPr/>
          <p:nvPr/>
        </p:nvSpPr>
        <p:spPr>
          <a:xfrm>
            <a:off x="493560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50"/>
          <p:cNvSpPr/>
          <p:nvPr/>
        </p:nvSpPr>
        <p:spPr>
          <a:xfrm>
            <a:off x="4951440" y="-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51"/>
          <p:cNvSpPr/>
          <p:nvPr/>
        </p:nvSpPr>
        <p:spPr>
          <a:xfrm>
            <a:off x="675792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24000" y="1052640"/>
          <a:ext cx="8642160" cy="5313240"/>
        </p:xfrm>
        <a:graphic>
          <a:graphicData uri="http://schemas.openxmlformats.org/drawingml/2006/table">
            <a:tbl>
              <a:tblPr/>
              <a:tblGrid>
                <a:gridCol w="4465440"/>
                <a:gridCol w="907920"/>
                <a:gridCol w="930600"/>
                <a:gridCol w="753840"/>
                <a:gridCol w="666720"/>
                <a:gridCol w="196920"/>
                <a:gridCol w="7207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e reti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progettazione di sistemi informatici e di telecomunicazioni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progetto, organizzazione d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mpres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GRAFICA E COMUNICAZIONE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832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"/>
          <p:cNvSpPr/>
          <p:nvPr/>
        </p:nvSpPr>
        <p:spPr>
          <a:xfrm>
            <a:off x="395280" y="1916280"/>
            <a:ext cx="82296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Grafica e Comunicazione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lla comunicazione interpersonale e di massa , con particolare riferimento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all’uso di tecnologie per produrl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conoscenze di informatica di base e di strumenti hardware e software grafici e multimediali, di sistemi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municazione in rete, di sistemi audiovisivi, fotografici e di stamp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tecniche e sistemistiche che, a seconda delle esigenze del mercato del lavoro e d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rrispondenti declinazioni, possono rivolgersi: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1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programmazione ed esecuzione delle operazioni di prestampa e alla gestione e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   all’organizzazione delle operazioni di stampa e post-stamp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2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realizzazione di ipertesti e presentazioni multimedi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3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realizzazione fotografica e audiovisiv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4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realizzazione e gestione di sistemi software di comunicazione in re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sa gestire progetti, inserirsi in attività di azienda, operare nell’ambito delle norme di sicurezz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team working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GRAFICA E COMUNICAZIONE  (1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86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04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505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506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521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395280" y="1857240"/>
          <a:ext cx="8353440" cy="3992760"/>
        </p:xfrm>
        <a:graphic>
          <a:graphicData uri="http://schemas.openxmlformats.org/drawingml/2006/table">
            <a:tbl>
              <a:tblPr/>
              <a:tblGrid>
                <a:gridCol w="3254400"/>
                <a:gridCol w="1100160"/>
                <a:gridCol w="1006560"/>
                <a:gridCol w="1022400"/>
                <a:gridCol w="93312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907" name="Rectangle 9"/>
          <p:cNvSpPr/>
          <p:nvPr/>
        </p:nvSpPr>
        <p:spPr>
          <a:xfrm>
            <a:off x="395280" y="5929200"/>
            <a:ext cx="835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476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IDENTITÀ ISTITUTI TEC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21844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Rafforzare l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ultura scientifica e tecnic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attravers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7715160" y="142920"/>
            <a:ext cx="1295640" cy="1129320"/>
            <a:chOff x="7715160" y="142920"/>
            <a:chExt cx="1295640" cy="1129320"/>
          </a:xfrm>
        </p:grpSpPr>
        <p:pic>
          <p:nvPicPr>
            <p:cNvPr id="13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1429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"/>
            <p:cNvSpPr/>
            <p:nvPr/>
          </p:nvSpPr>
          <p:spPr>
            <a:xfrm>
              <a:off x="7715160" y="9349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ttangolo 7"/>
          <p:cNvSpPr/>
          <p:nvPr/>
        </p:nvSpPr>
        <p:spPr>
          <a:xfrm>
            <a:off x="42782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52560" y="2637000"/>
          <a:ext cx="7237440" cy="3538440"/>
        </p:xfrm>
        <a:graphic>
          <a:graphicData uri="http://schemas.openxmlformats.org/drawingml/2006/table">
            <a:tbl>
              <a:tblPr/>
              <a:tblGrid>
                <a:gridCol w="1035000"/>
                <a:gridCol w="6202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EMA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IENZE E TECNOLO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INGLESE</a:t>
                      </a:r>
                      <a:br>
                        <a:rPr sz="2800"/>
                      </a:b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con possibilità di introdurre insegnamento</a:t>
                      </a:r>
                      <a:br>
                        <a:rPr sz="2000"/>
                      </a:b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1 disciplina tecnica in lingua ingle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22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91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89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90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91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506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"/>
          <p:cNvSpPr/>
          <p:nvPr/>
        </p:nvSpPr>
        <p:spPr>
          <a:xfrm>
            <a:off x="179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GRAFICA E COMUNICAZIONE  (2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58"/>
          <p:cNvSpPr/>
          <p:nvPr/>
        </p:nvSpPr>
        <p:spPr>
          <a:xfrm>
            <a:off x="4935600" y="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59"/>
          <p:cNvSpPr/>
          <p:nvPr/>
        </p:nvSpPr>
        <p:spPr>
          <a:xfrm>
            <a:off x="4951440" y="47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60"/>
          <p:cNvSpPr/>
          <p:nvPr/>
        </p:nvSpPr>
        <p:spPr>
          <a:xfrm>
            <a:off x="6757920" y="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250920" y="1773360"/>
          <a:ext cx="8353440" cy="3889080"/>
        </p:xfrm>
        <a:graphic>
          <a:graphicData uri="http://schemas.openxmlformats.org/drawingml/2006/table">
            <a:tbl>
              <a:tblPr/>
              <a:tblGrid>
                <a:gridCol w="3673440"/>
                <a:gridCol w="1058760"/>
                <a:gridCol w="957240"/>
                <a:gridCol w="936720"/>
                <a:gridCol w="839880"/>
                <a:gridCol w="182520"/>
                <a:gridCol w="704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oria della comunicazione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gettazione multimed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dei processi di produzione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Organizzazione e gestione dei processi produttivi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 tecnici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HIMICA, MATERIALI E BIOTECNOLOGIE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98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"/>
          <p:cNvSpPr/>
          <p:nvPr/>
        </p:nvSpPr>
        <p:spPr>
          <a:xfrm>
            <a:off x="395280" y="1197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Chimica, Materiali e Biotecnologie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i materiali, delle analisi chimico-biologiche, nei processi di produzione, in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elazione alle esigenze delle realtà territoriali, negli ambiti chimico, merceologico, biologico, farmaceutico, tintorio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nciario, cartario, materie plastiche, metallurgico, minerario, ambientale, biotecnologico e microbiologico, n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analisi chimico-biologiche e ambientali, relative al controllo igienico-sanitario e al controllo e monitoraggi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nel settore della prevenzione e della gestione di situazioni a rischio sanitario, all’interno del sistema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ociale e/o ambient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- nei contesti produttivi d’interesse, esprime le proprie competenze nella gestione e nel controllo dei processi, n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gestione e manutenzione di impianti chimici, tecnologici e biotecnologici, partecipando alla risoluzione d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roblematiche relative agli stessi; ha competenze per l’analisi e il controllo dei reflui, nel rispetto delle normativ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er la tutela ambient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competenze di chimica, di biologia e microbiologia, di impianti e di processi chimici e biotecnologici,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rganizzazione e automazione industriale, per contribuire all’innovazione dei processi e delle relative procedure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gestione e di controllo, per il sistematico adeguamento tecnologico e organizzativo delle impres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noscenze specifiche in merito alla gestione della sicurezza degli ambienti di lavoro, del miglioramento d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qualità dei prodotti, dei processi e dei serviz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per la pianificazione, gestione e controllo delle attività di laboratorio di analisi e, nello sviluppo de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rocesso e del prodotto, è in grado di verificare la corrispondenza del prodotto alle specifiche dichiarat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applicando le procedure e i protocolli dell’area di competenza, controllarne il ciclo di produzione utilizzand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oftware dedicati sia alle tecniche di analisi di laboratorio sia al controllo e gestione degli impiant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esprime le proprie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</a:t>
            </a:r>
            <a:r>
              <a:rPr b="0" i="1" lang="it-IT" sz="1200" spc="-1" strike="noStrike">
                <a:solidFill>
                  <a:srgbClr val="00007d"/>
                </a:solidFill>
                <a:latin typeface="Arial"/>
              </a:rPr>
              <a:t>team work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HIMICA, MATERIALI E BIOTECNOLOGIE  (1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01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493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504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063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07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493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504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"/>
          <p:cNvSpPr/>
          <p:nvPr/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HIMICA, MATERIALI E BIOTECNOLOGIE  (2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61"/>
          <p:cNvSpPr/>
          <p:nvPr/>
        </p:nvSpPr>
        <p:spPr>
          <a:xfrm>
            <a:off x="4913280" y="123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62"/>
          <p:cNvSpPr/>
          <p:nvPr/>
        </p:nvSpPr>
        <p:spPr>
          <a:xfrm>
            <a:off x="4929120" y="552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63"/>
          <p:cNvSpPr/>
          <p:nvPr/>
        </p:nvSpPr>
        <p:spPr>
          <a:xfrm>
            <a:off x="6632640" y="123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64"/>
          <p:cNvSpPr/>
          <p:nvPr/>
        </p:nvSpPr>
        <p:spPr>
          <a:xfrm>
            <a:off x="6632640" y="105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65"/>
          <p:cNvSpPr/>
          <p:nvPr/>
        </p:nvSpPr>
        <p:spPr>
          <a:xfrm>
            <a:off x="6632640" y="121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66"/>
          <p:cNvSpPr/>
          <p:nvPr/>
        </p:nvSpPr>
        <p:spPr>
          <a:xfrm>
            <a:off x="6632640" y="1819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67"/>
          <p:cNvSpPr/>
          <p:nvPr/>
        </p:nvSpPr>
        <p:spPr>
          <a:xfrm>
            <a:off x="6632640" y="2095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324000" y="1557360"/>
          <a:ext cx="8137440" cy="4192560"/>
        </p:xfrm>
        <a:graphic>
          <a:graphicData uri="http://schemas.openxmlformats.org/drawingml/2006/table">
            <a:tbl>
              <a:tblPr/>
              <a:tblGrid>
                <a:gridCol w="3244680"/>
                <a:gridCol w="1076400"/>
                <a:gridCol w="1012680"/>
                <a:gridCol w="866880"/>
                <a:gridCol w="928800"/>
                <a:gridCol w="1008000"/>
              </a:tblGrid>
              <a:tr h="27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E MATERIAL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nalitica e strumentale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organica e bio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chimiche e biotecnologi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E BIOTECNOLOGIE AMBIENTAL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nalitica e stru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organica e bio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chimiche e biotecnologi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Fisica ambientale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13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493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04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"/>
          <p:cNvSpPr/>
          <p:nvPr/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HIMICA, MATERIALI E BIOTECNOLOGIE  (3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7"/>
          <p:cNvSpPr/>
          <p:nvPr/>
        </p:nvSpPr>
        <p:spPr>
          <a:xfrm>
            <a:off x="4821120" y="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8"/>
          <p:cNvSpPr/>
          <p:nvPr/>
        </p:nvSpPr>
        <p:spPr>
          <a:xfrm>
            <a:off x="4836960" y="68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9"/>
          <p:cNvSpPr/>
          <p:nvPr/>
        </p:nvSpPr>
        <p:spPr>
          <a:xfrm>
            <a:off x="6540480" y="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60"/>
          <p:cNvSpPr/>
          <p:nvPr/>
        </p:nvSpPr>
        <p:spPr>
          <a:xfrm>
            <a:off x="6540480" y="1193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1"/>
          <p:cNvSpPr/>
          <p:nvPr/>
        </p:nvSpPr>
        <p:spPr>
          <a:xfrm>
            <a:off x="6540480" y="1355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2"/>
          <p:cNvSpPr/>
          <p:nvPr/>
        </p:nvSpPr>
        <p:spPr>
          <a:xfrm>
            <a:off x="4695840" y="47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3"/>
          <p:cNvSpPr/>
          <p:nvPr/>
        </p:nvSpPr>
        <p:spPr>
          <a:xfrm>
            <a:off x="4711680" y="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324000" y="1557360"/>
          <a:ext cx="8440560" cy="4986360"/>
        </p:xfrm>
        <a:graphic>
          <a:graphicData uri="http://schemas.openxmlformats.org/drawingml/2006/table">
            <a:tbl>
              <a:tblPr/>
              <a:tblGrid>
                <a:gridCol w="3182760"/>
                <a:gridCol w="1073160"/>
                <a:gridCol w="995400"/>
                <a:gridCol w="1058760"/>
                <a:gridCol w="901800"/>
                <a:gridCol w="12286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E BIOTECNOLOGIE SANITARI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nalitica e stru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organica e bio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chimiche e biotecnologi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giene, Anatomia, Fisiologia, Pat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egislazione sani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ISTEMA MODA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20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2"/>
          <p:cNvSpPr/>
          <p:nvPr/>
        </p:nvSpPr>
        <p:spPr>
          <a:xfrm>
            <a:off x="428760" y="1557360"/>
            <a:ext cx="8358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400" spc="-1" strike="noStrike">
                <a:solidFill>
                  <a:srgbClr val="00007d"/>
                </a:solidFill>
                <a:latin typeface="Arial"/>
              </a:rPr>
              <a:t>Perito nell’Indirizzo Sistema Moda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ha competenze specifiche nell’ambito delle diverse realtà ideativo-creative, progettuali, produttive e di marketing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   del settore tessile, abbigliamento, calzatura, accessori e moda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nei diversi contesti d’impiego, con riferimento alle specifiche esigenze, è in grado di assumere ruoli e funzioni di ideazione, progettazione e produzione di filati, tessuti, confezioni, calzature e accessori, di organizzazione, gestione e controllo della qualità delle materie prime e dei prodotti finiti; 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relativamente alle diverse tipologie di processi produttivi, interviene nella gestione e nel controllo degli stessi per migliorare qualità e sicurezza dei prodotti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applica le normative sulla tutela dell’ambiente, sulla sicurezza dei luoghi di lavoro e degli impianti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integra la sua preparazione con competenze trasversali di filiera che gli consentono sensibilità e capacità di lettura delle problematiche dell’area sistema-moda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relativamente alle strategie aziendali, opera in termini di individuazione di strategie innovative di processo, di prodotto e di marketing; contribuisce all’innovazione creativa, produttiva e organizzativa delle aziende del settore moda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aziendali, relaziona e documenta le attività svolte; 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team working per operare in contesti organizzat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24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ISTEMA MODA (1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294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304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ISTEMA MODA (2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3"/>
          <p:cNvSpPr/>
          <p:nvPr/>
        </p:nvSpPr>
        <p:spPr>
          <a:xfrm>
            <a:off x="4913280" y="-747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4"/>
          <p:cNvSpPr/>
          <p:nvPr/>
        </p:nvSpPr>
        <p:spPr>
          <a:xfrm>
            <a:off x="4929120" y="-31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5"/>
          <p:cNvSpPr/>
          <p:nvPr/>
        </p:nvSpPr>
        <p:spPr>
          <a:xfrm>
            <a:off x="6632640" y="-747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6"/>
          <p:cNvSpPr/>
          <p:nvPr/>
        </p:nvSpPr>
        <p:spPr>
          <a:xfrm>
            <a:off x="6632640" y="185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7"/>
          <p:cNvSpPr/>
          <p:nvPr/>
        </p:nvSpPr>
        <p:spPr>
          <a:xfrm>
            <a:off x="6632640" y="900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8"/>
          <p:cNvSpPr/>
          <p:nvPr/>
        </p:nvSpPr>
        <p:spPr>
          <a:xfrm>
            <a:off x="6632640" y="1728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324000" y="1341360"/>
          <a:ext cx="8353440" cy="5011920"/>
        </p:xfrm>
        <a:graphic>
          <a:graphicData uri="http://schemas.openxmlformats.org/drawingml/2006/table">
            <a:tbl>
              <a:tblPr/>
              <a:tblGrid>
                <a:gridCol w="4719600"/>
                <a:gridCol w="752400"/>
                <a:gridCol w="647640"/>
                <a:gridCol w="792360"/>
                <a:gridCol w="687240"/>
                <a:gridCol w="75420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SSILE, ABBIGLIAMENTO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 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ALZATURE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pplicata e nobilitazione dei materiali per i prodotti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e marketing delle aziende della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SSILE, ABBIGLIAMENTO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dei materiali e dei processi produttivi e organizzativi della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deazione, progettazione e industrializzazione dei prodotti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ALZATURE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dei materiali e dei processi produttivi e organizzativi della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deazione, progettazione e industrializzazione dei prodotti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GRARIA E AGROINDUSTRIA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37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2"/>
          <p:cNvSpPr/>
          <p:nvPr/>
        </p:nvSpPr>
        <p:spPr>
          <a:xfrm>
            <a:off x="179280" y="1341360"/>
            <a:ext cx="8785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nell’Agraria ed Agroindustria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ll’organizzazione e della gestione delle attività produttive nei settori vegetale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nimale, con attenzione alla qualità dei prodotti ed al rispetto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e conoscenze che, a seconda delle articolazioni che le singole scuole vorranno approfondire, si rivolgono a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miglioramento dei prodotti e delle tecniche di trasformazione, alla valorizzazione dei prodotti, con attenzione a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trasparenza e alla tracciabilità, o alla gestione dell’ambiente e del territorio secondo le normative concernenti l’agricoltura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’ambito delle articolazioni previste, esprime le proprie competenze nelle attività di miglioramento genetico dei prodotti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ia vegetali che animali, sulla scorta di competenze nel settore delle biotecnologie agrarie in modo da contribuire a garantir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gli aspetti più significativi delle caratteristiche igieniche ed organolettiche o individua esigenze locali verso il migliorament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elle situazioni ambientali mediante controlli con opportuni indicatori, protezione dei suoli e delle strutture paesaggistich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ostegno agli insediamenti e alla vita rur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nel settore della trasformazione dei prodotti, attivando processi tecnologici e biotecnologici per ottenere qualità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economicità dei risultati, gestendo altresì una corretta utilizzazione dei reflui e dei residu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trolla  con metodi contabili ed economici le predette attività redigendo documenti contabili, preventivi e consuntiv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economici, rilevando indici di efficienza ed emettendo giudizi di convenienz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rocede ad operazioni di rilievo, di conservazione del catasto, ad interpretazione di carte tematiche, esprimendo le propri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competenze in attività di gestione del territorio; rileva condizioni di disagio ambientale e progetta interventi a protezion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elle zone di rischi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nelle attività di promozione e commercializzazione dei prodotti agrari ed agroindustriali; esprime le proprie 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team working per operare in contesti organizzati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40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525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1536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Line 1753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GRARIA E AGROINDUSTRIA (1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7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468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47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NUOVI MODELLI ORGANIZZ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4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250920" y="1700280"/>
          <a:ext cx="8642160" cy="4632120"/>
        </p:xfrm>
        <a:graphic>
          <a:graphicData uri="http://schemas.openxmlformats.org/drawingml/2006/table">
            <a:tbl>
              <a:tblPr/>
              <a:tblGrid>
                <a:gridCol w="3457440"/>
                <a:gridCol w="518472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ARTIM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vorire la progettazione didatt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 l’integrazione disciplinare</a:t>
                      </a:r>
                      <a:r>
                        <a:rPr b="1" lang="it-IT" sz="2000" spc="-1" strike="noStrike">
                          <a:solidFill>
                            <a:srgbClr val="c10311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ITATO TECNICO SCIENTIF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mposizione paritetic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docenti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di esperti del mondo del lavoro, delle professioni e della ricerca scientifica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tecnologica.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unzioni consultive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 propost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 organizzazione aree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indirizzo e utilizzazione degli spazi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autonomia e flessibilità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FICIO TEC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ER GLI ISTITUTI DEL SETTORE TECNOLOGIC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 il compito di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rganizzare i laboratori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in maniera funzionale, per il loro adeguamento alle innovazioni tecnologiche, alle misure necessarie per la sicurezza delle persone e dell’ambi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2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48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1525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536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1753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GRARIA E AGROINDUSTRIA (2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73"/>
          <p:cNvSpPr/>
          <p:nvPr/>
        </p:nvSpPr>
        <p:spPr>
          <a:xfrm>
            <a:off x="4861080" y="-13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74"/>
          <p:cNvSpPr/>
          <p:nvPr/>
        </p:nvSpPr>
        <p:spPr>
          <a:xfrm>
            <a:off x="4876920" y="29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75"/>
          <p:cNvSpPr/>
          <p:nvPr/>
        </p:nvSpPr>
        <p:spPr>
          <a:xfrm>
            <a:off x="6683400" y="-13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76"/>
          <p:cNvSpPr/>
          <p:nvPr/>
        </p:nvSpPr>
        <p:spPr>
          <a:xfrm>
            <a:off x="6683400" y="79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77"/>
          <p:cNvSpPr/>
          <p:nvPr/>
        </p:nvSpPr>
        <p:spPr>
          <a:xfrm>
            <a:off x="6683400" y="15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78"/>
          <p:cNvSpPr/>
          <p:nvPr/>
        </p:nvSpPr>
        <p:spPr>
          <a:xfrm>
            <a:off x="6683400" y="178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6" name=""/>
          <p:cNvGraphicFramePr/>
          <p:nvPr/>
        </p:nvGraphicFramePr>
        <p:xfrm>
          <a:off x="395280" y="1557360"/>
          <a:ext cx="8280360" cy="4410000"/>
        </p:xfrm>
        <a:graphic>
          <a:graphicData uri="http://schemas.openxmlformats.org/drawingml/2006/table">
            <a:tbl>
              <a:tblPr/>
              <a:tblGrid>
                <a:gridCol w="3168720"/>
                <a:gridCol w="1079280"/>
                <a:gridCol w="1008360"/>
                <a:gridCol w="1081080"/>
                <a:gridCol w="1049040"/>
                <a:gridCol w="893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DUZIONI E TRASFORMAZION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duzioni vege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duzioni ani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“PRODUZIONI E TRASFORMAZIONI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formazione dei prodo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, estimo, marketing e legisl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nio ru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Biotecnologie agr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à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559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0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25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36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753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GRARIA E AGROINDUSTRIA (3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73"/>
          <p:cNvSpPr/>
          <p:nvPr/>
        </p:nvSpPr>
        <p:spPr>
          <a:xfrm>
            <a:off x="4861080" y="-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74"/>
          <p:cNvSpPr/>
          <p:nvPr/>
        </p:nvSpPr>
        <p:spPr>
          <a:xfrm>
            <a:off x="4876920" y="168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75"/>
          <p:cNvSpPr/>
          <p:nvPr/>
        </p:nvSpPr>
        <p:spPr>
          <a:xfrm>
            <a:off x="6683400" y="-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76"/>
          <p:cNvSpPr/>
          <p:nvPr/>
        </p:nvSpPr>
        <p:spPr>
          <a:xfrm>
            <a:off x="6683400" y="90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77"/>
          <p:cNvSpPr/>
          <p:nvPr/>
        </p:nvSpPr>
        <p:spPr>
          <a:xfrm>
            <a:off x="6683400" y="117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395280" y="1628640"/>
          <a:ext cx="8291520" cy="4172040"/>
        </p:xfrm>
        <a:graphic>
          <a:graphicData uri="http://schemas.openxmlformats.org/drawingml/2006/table">
            <a:tbl>
              <a:tblPr/>
              <a:tblGrid>
                <a:gridCol w="3772080"/>
                <a:gridCol w="755640"/>
                <a:gridCol w="225360"/>
                <a:gridCol w="936360"/>
                <a:gridCol w="935280"/>
                <a:gridCol w="865080"/>
                <a:gridCol w="80172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formazione dei prodo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nio ru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, estimo, marketing e  legisl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Biotecnologie agr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STRUZIONI, AMBIENTE E TERRITORIO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63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2"/>
          <p:cNvSpPr/>
          <p:nvPr/>
        </p:nvSpPr>
        <p:spPr>
          <a:xfrm>
            <a:off x="3240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delle Costruzioni, Ambiente e Territorio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nel campo dei materiali, delle macchine e dei dispositivi utilizzati nelle industrie delle costruzioni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l'impiego degli strumenti di rilievo, nell'uso dei mezzi informatici per la rappresentazione grafica e per il calcolo,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la valutazione tecnica ed economica dei beni privati e pubblici esistenti nel territorio e nell’utilizzo ottimale dell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isorse ambient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ossiede capacità grafiche e progettuali in campo edilizio e nell’organizzazione del cantiere, nella gestione degl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impianti,  nel rilievo topografico, nella stima di terreni e fabbricati e delle altre componenti del territorio, nei diritt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eali che li riguardano, nell’amministrazione di immobili e nello svolgimento di operazioni catast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i contesti produttivi d’interesse, esprime le proprie competenze nella progettazione, valutazione e realizzazion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i organismi complessi mentre opera in autonomia nel caso di organismi di modesta entità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autonomamente nella gestione, nella manutenzione e nell’esercizio di organismi edilizi e n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rganizzazione di cantieri mobili;  relativamente ai fabbricati, interviene nei processi di conversione dell’energia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 loro controllo; è in grado di prevedere, nell’ambito dell’edilizia eco compatibile, le soluzioni opportune per i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isparmio energetico nel rispetto delle normative sulla tutela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la sua formazione sistemica gli consente di spaziare tra le sue conoscenze fino ad arrivare alla pianificazione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organizzazione di tutte le misure opportune in materia di salvaguardia della salute nei luoghi di vita e di lavor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</a:t>
            </a:r>
            <a:r>
              <a:rPr b="0" i="1" lang="it-IT" sz="1200" spc="-1" strike="noStrike">
                <a:solidFill>
                  <a:srgbClr val="00007d"/>
                </a:solidFill>
                <a:latin typeface="Arial"/>
              </a:rPr>
              <a:t>team work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67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65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66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67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68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Line 69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70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Line 71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529"/>
          <p:cNvSpPr/>
          <p:nvPr/>
        </p:nvSpPr>
        <p:spPr>
          <a:xfrm>
            <a:off x="4449600" y="-19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STRUZIONI, AMBIENTE E TERRITORIO (1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1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732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744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5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65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66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67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68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69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70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71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529"/>
          <p:cNvSpPr/>
          <p:nvPr/>
        </p:nvSpPr>
        <p:spPr>
          <a:xfrm>
            <a:off x="4449600" y="-19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2"/>
          <p:cNvSpPr/>
          <p:nvPr/>
        </p:nvSpPr>
        <p:spPr>
          <a:xfrm>
            <a:off x="32400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STRUZIONI, AMBIENTE E TERRITORIO (2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73"/>
          <p:cNvSpPr/>
          <p:nvPr/>
        </p:nvSpPr>
        <p:spPr>
          <a:xfrm>
            <a:off x="491328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74"/>
          <p:cNvSpPr/>
          <p:nvPr/>
        </p:nvSpPr>
        <p:spPr>
          <a:xfrm>
            <a:off x="4929120" y="685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75"/>
          <p:cNvSpPr/>
          <p:nvPr/>
        </p:nvSpPr>
        <p:spPr>
          <a:xfrm>
            <a:off x="663264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76"/>
          <p:cNvSpPr/>
          <p:nvPr/>
        </p:nvSpPr>
        <p:spPr>
          <a:xfrm>
            <a:off x="6632640" y="141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77"/>
          <p:cNvSpPr/>
          <p:nvPr/>
        </p:nvSpPr>
        <p:spPr>
          <a:xfrm>
            <a:off x="6632640" y="1695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78"/>
          <p:cNvSpPr/>
          <p:nvPr/>
        </p:nvSpPr>
        <p:spPr>
          <a:xfrm>
            <a:off x="491328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79"/>
          <p:cNvSpPr/>
          <p:nvPr/>
        </p:nvSpPr>
        <p:spPr>
          <a:xfrm>
            <a:off x="4929120" y="685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80"/>
          <p:cNvSpPr/>
          <p:nvPr/>
        </p:nvSpPr>
        <p:spPr>
          <a:xfrm>
            <a:off x="663264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81"/>
          <p:cNvSpPr/>
          <p:nvPr/>
        </p:nvSpPr>
        <p:spPr>
          <a:xfrm>
            <a:off x="6632640" y="141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82"/>
          <p:cNvSpPr/>
          <p:nvPr/>
        </p:nvSpPr>
        <p:spPr>
          <a:xfrm>
            <a:off x="6632640" y="1695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4" name=""/>
          <p:cNvGraphicFramePr/>
          <p:nvPr/>
        </p:nvGraphicFramePr>
        <p:xfrm>
          <a:off x="468360" y="1844640"/>
          <a:ext cx="8209080" cy="3587760"/>
        </p:xfrm>
        <a:graphic>
          <a:graphicData uri="http://schemas.openxmlformats.org/drawingml/2006/table">
            <a:tbl>
              <a:tblPr/>
              <a:tblGrid>
                <a:gridCol w="3600360"/>
                <a:gridCol w="1084320"/>
                <a:gridCol w="825480"/>
                <a:gridCol w="1008000"/>
                <a:gridCol w="754200"/>
                <a:gridCol w="182520"/>
                <a:gridCol w="7542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ettazione, costruzioni e impia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opedologia, Economia ed Es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pograf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stione del cantiere e sicurezza dell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mbiente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4FC8-468F-44AC-9382-59B9391A63B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CasellaDiTesto 2"/>
          <p:cNvSpPr/>
          <p:nvPr/>
        </p:nvSpPr>
        <p:spPr>
          <a:xfrm>
            <a:off x="324000" y="260280"/>
            <a:ext cx="77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 Narrow"/>
                <a:ea typeface="Calibri"/>
              </a:rPr>
              <a:t>SOGGETTA A VARIAZIONI A SEGUITO DEI PARERI ESPRESSI DAGLI ORGANI COMPET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7" name=""/>
          <p:cNvGraphicFramePr/>
          <p:nvPr/>
        </p:nvGraphicFramePr>
        <p:xfrm>
          <a:off x="324000" y="928800"/>
          <a:ext cx="8496000" cy="59068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I NUOVO ORDINAMENT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COMMER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agioniere e perito commerci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agioniere programma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ito aziendale e corrispondente in lingue est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CONO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MINISTRAZION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NANZ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PER LE ATTIVITÀ SO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cnico per le attività social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rso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conomo diet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rigente di comun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PER IL TUR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ito turi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CONO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UR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18" name="Rettangolo 8"/>
          <p:cNvSpPr/>
          <p:nvPr/>
        </p:nvSpPr>
        <p:spPr>
          <a:xfrm>
            <a:off x="243000" y="5254560"/>
            <a:ext cx="8646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ttangolo 11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Group 35"/>
          <p:cNvGrpSpPr/>
          <p:nvPr/>
        </p:nvGrpSpPr>
        <p:grpSpPr>
          <a:xfrm>
            <a:off x="8143920" y="71280"/>
            <a:ext cx="911160" cy="817920"/>
            <a:chOff x="8143920" y="71280"/>
            <a:chExt cx="911160" cy="817920"/>
          </a:xfrm>
        </p:grpSpPr>
        <p:pic>
          <p:nvPicPr>
            <p:cNvPr id="1821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295840" y="7128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Text Box 37"/>
            <p:cNvSpPr/>
            <p:nvPr/>
          </p:nvSpPr>
          <p:spPr>
            <a:xfrm>
              <a:off x="8143920" y="62784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2A36-24C3-49D9-B352-558D5EED08D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CasellaDiTesto 2"/>
          <p:cNvSpPr/>
          <p:nvPr/>
        </p:nvSpPr>
        <p:spPr>
          <a:xfrm>
            <a:off x="2847960" y="1429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5" name=""/>
          <p:cNvGraphicFramePr/>
          <p:nvPr/>
        </p:nvGraphicFramePr>
        <p:xfrm>
          <a:off x="324000" y="644400"/>
          <a:ext cx="8496000" cy="61912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    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I NUOVO ORDINAMENT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9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ccan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rmotec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nergia nucle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sica industria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ot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tallurg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erie plastich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 aeronautich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navalmecca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CCANICA, MECCATRO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 ENE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NAU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ttori naval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 aeronautich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navalmecca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SPORTI E LOGI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26" name="Rettangolo 8"/>
          <p:cNvSpPr/>
          <p:nvPr/>
        </p:nvSpPr>
        <p:spPr>
          <a:xfrm>
            <a:off x="243000" y="5254560"/>
            <a:ext cx="8646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ttangolo 8"/>
          <p:cNvSpPr/>
          <p:nvPr/>
        </p:nvSpPr>
        <p:spPr>
          <a:xfrm>
            <a:off x="630000" y="1303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8" name="Group 35"/>
          <p:cNvGrpSpPr/>
          <p:nvPr/>
        </p:nvGrpSpPr>
        <p:grpSpPr>
          <a:xfrm>
            <a:off x="8286840" y="0"/>
            <a:ext cx="804600" cy="752760"/>
            <a:chOff x="8286840" y="0"/>
            <a:chExt cx="804600" cy="752760"/>
          </a:xfrm>
        </p:grpSpPr>
        <p:pic>
          <p:nvPicPr>
            <p:cNvPr id="1829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420760" y="0"/>
              <a:ext cx="473040" cy="47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0" name="Text Box 37"/>
            <p:cNvSpPr/>
            <p:nvPr/>
          </p:nvSpPr>
          <p:spPr>
            <a:xfrm>
              <a:off x="8286840" y="491400"/>
              <a:ext cx="8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42CA-FA4D-4CFF-8609-DB6ECF2AEA0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CasellaDiTesto 2"/>
          <p:cNvSpPr/>
          <p:nvPr/>
        </p:nvSpPr>
        <p:spPr>
          <a:xfrm>
            <a:off x="2205000" y="37476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3" name=""/>
          <p:cNvGraphicFramePr/>
          <p:nvPr/>
        </p:nvGraphicFramePr>
        <p:xfrm>
          <a:off x="324000" y="928800"/>
          <a:ext cx="8534160" cy="5837040"/>
        </p:xfrm>
        <a:graphic>
          <a:graphicData uri="http://schemas.openxmlformats.org/drawingml/2006/table">
            <a:tbl>
              <a:tblPr/>
              <a:tblGrid>
                <a:gridCol w="5057640"/>
                <a:gridCol w="347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6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AERONAU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Navigazione ae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ssistenza alla navigazione ae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SPORTI E LOGI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8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NAU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apit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cchin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ttori nav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e telecomunic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tecnica e autom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LETTRO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 ELETTROTE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34" name="Rettangolo 8"/>
          <p:cNvSpPr/>
          <p:nvPr/>
        </p:nvSpPr>
        <p:spPr>
          <a:xfrm>
            <a:off x="243000" y="5254560"/>
            <a:ext cx="8646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ttangolo 8"/>
          <p:cNvSpPr/>
          <p:nvPr/>
        </p:nvSpPr>
        <p:spPr>
          <a:xfrm>
            <a:off x="712440" y="586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6" name="Group 35"/>
          <p:cNvGrpSpPr/>
          <p:nvPr/>
        </p:nvGrpSpPr>
        <p:grpSpPr>
          <a:xfrm>
            <a:off x="8217000" y="71280"/>
            <a:ext cx="911160" cy="817920"/>
            <a:chOff x="8217000" y="71280"/>
            <a:chExt cx="911160" cy="817920"/>
          </a:xfrm>
        </p:grpSpPr>
        <p:pic>
          <p:nvPicPr>
            <p:cNvPr id="1837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7128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Text Box 37"/>
            <p:cNvSpPr/>
            <p:nvPr/>
          </p:nvSpPr>
          <p:spPr>
            <a:xfrm>
              <a:off x="8217000" y="62784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83A4-4D70-4C09-9CD9-C06BC913EED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CasellaDiTesto 2"/>
          <p:cNvSpPr/>
          <p:nvPr/>
        </p:nvSpPr>
        <p:spPr>
          <a:xfrm>
            <a:off x="2633760" y="290520"/>
            <a:ext cx="60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1" name=""/>
          <p:cNvGraphicFramePr/>
          <p:nvPr/>
        </p:nvGraphicFramePr>
        <p:xfrm>
          <a:off x="324000" y="928800"/>
          <a:ext cx="8534160" cy="5835600"/>
        </p:xfrm>
        <a:graphic>
          <a:graphicData uri="http://schemas.openxmlformats.org/drawingml/2006/table">
            <a:tbl>
              <a:tblPr/>
              <a:tblGrid>
                <a:gridCol w="5057640"/>
                <a:gridCol w="347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6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TTRONICA 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lecomunic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ORMATICA 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LECOMUNICAZ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COMMER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agioniere programma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fotograf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graf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RAFICA E COMUNIC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42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Group 35"/>
          <p:cNvGrpSpPr/>
          <p:nvPr/>
        </p:nvGrpSpPr>
        <p:grpSpPr>
          <a:xfrm>
            <a:off x="8217000" y="71280"/>
            <a:ext cx="911160" cy="817920"/>
            <a:chOff x="8217000" y="71280"/>
            <a:chExt cx="911160" cy="817920"/>
          </a:xfrm>
        </p:grpSpPr>
        <p:pic>
          <p:nvPicPr>
            <p:cNvPr id="1844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7128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5" name="Text Box 37"/>
            <p:cNvSpPr/>
            <p:nvPr/>
          </p:nvSpPr>
          <p:spPr>
            <a:xfrm>
              <a:off x="8217000" y="62784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8B35-EACF-4784-A59B-DE23709C88F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CasellaDiTesto 2"/>
          <p:cNvSpPr/>
          <p:nvPr/>
        </p:nvSpPr>
        <p:spPr>
          <a:xfrm>
            <a:off x="2633760" y="290520"/>
            <a:ext cx="60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8" name=""/>
          <p:cNvGraphicFramePr/>
          <p:nvPr/>
        </p:nvGraphicFramePr>
        <p:xfrm>
          <a:off x="324000" y="750960"/>
          <a:ext cx="8534160" cy="6092640"/>
        </p:xfrm>
        <a:graphic>
          <a:graphicData uri="http://schemas.openxmlformats.org/drawingml/2006/table">
            <a:tbl>
              <a:tblPr/>
              <a:tblGrid>
                <a:gridCol w="4890960"/>
                <a:gridCol w="36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2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o conci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car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tin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miner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IMICA, MATERIA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BIOTECNOLOG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6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PER LE ATTIVITÀ SO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li biologico ambien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li biologico sanit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conomo-Dietis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ss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confezione industri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produzione tessu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di tessu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STEMA M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49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35"/>
          <p:cNvGrpSpPr/>
          <p:nvPr/>
        </p:nvGrpSpPr>
        <p:grpSpPr>
          <a:xfrm>
            <a:off x="8217000" y="0"/>
            <a:ext cx="911160" cy="817920"/>
            <a:chOff x="8217000" y="0"/>
            <a:chExt cx="911160" cy="817920"/>
          </a:xfrm>
        </p:grpSpPr>
        <p:pic>
          <p:nvPicPr>
            <p:cNvPr id="1851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Text Box 37"/>
            <p:cNvSpPr/>
            <p:nvPr/>
          </p:nvSpPr>
          <p:spPr>
            <a:xfrm>
              <a:off x="8217000" y="556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5920" y="47592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A STRUTTURA DEL PERCORSO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QUINQUENNA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68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Il percorso è articolato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2 bienni e 1 quinto anno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(il secondo biennio e l’ultimo anno costituiscono l’articolazione di un complessivo trienn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Gli apprendimenti sono suddivisi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un’area di insegnamento generale comune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aree di indirizzo specif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5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2"/>
          <p:cNvSpPr/>
          <p:nvPr/>
        </p:nvSpPr>
        <p:spPr>
          <a:xfrm>
            <a:off x="324000" y="765000"/>
            <a:ext cx="85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F67D-9A68-487B-AF12-B919AAA64AC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CasellaDiTesto 2"/>
          <p:cNvSpPr/>
          <p:nvPr/>
        </p:nvSpPr>
        <p:spPr>
          <a:xfrm>
            <a:off x="1531800" y="357120"/>
            <a:ext cx="60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5" name=""/>
          <p:cNvGraphicFramePr/>
          <p:nvPr/>
        </p:nvGraphicFramePr>
        <p:xfrm>
          <a:off x="324000" y="977760"/>
          <a:ext cx="8534160" cy="5737320"/>
        </p:xfrm>
        <a:graphic>
          <a:graphicData uri="http://schemas.openxmlformats.org/drawingml/2006/table">
            <a:tbl>
              <a:tblPr/>
              <a:tblGrid>
                <a:gridCol w="5057640"/>
                <a:gridCol w="3476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ssi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confezione industri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produzione tessu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di tess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STEMA M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AGR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ito agr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rso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rso viticoltura e en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RARIA E AGROIND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cnologie aliment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6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858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CasellaDiTesto 2"/>
          <p:cNvSpPr/>
          <p:nvPr/>
        </p:nvSpPr>
        <p:spPr>
          <a:xfrm>
            <a:off x="2000160" y="500040"/>
            <a:ext cx="60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2" name=""/>
          <p:cNvGraphicFramePr/>
          <p:nvPr/>
        </p:nvGraphicFramePr>
        <p:xfrm>
          <a:off x="252360" y="1285920"/>
          <a:ext cx="8534520" cy="3322440"/>
        </p:xfrm>
        <a:graphic>
          <a:graphicData uri="http://schemas.openxmlformats.org/drawingml/2006/table">
            <a:tbl>
              <a:tblPr/>
              <a:tblGrid>
                <a:gridCol w="5058000"/>
                <a:gridCol w="347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dili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STRUZIONI, AMB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TERRI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4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PER GEOME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eome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3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865" name="Picture 36" descr="miur_colorato_trasparente_piccolo"/>
            <p:cNvPicPr/>
            <p:nvPr/>
          </p:nvPicPr>
          <p:blipFill>
            <a:blip r:embed="rId3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10311"/>
                </a:solidFill>
                <a:latin typeface="Arial"/>
              </a:rPr>
              <a:t>ORDINAMENTO E ORGAN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Gli ordinamenti dei percorsi di studio dei diversi ordini di scuola  (percorsi liceali, di istruzione tecnica e professionale) sono definiti dallo Stato con regolamenti governa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L’organizzazione delle scuole secondarie superiori sul territorio è stabilita, invece, dalle singole Regioni nell’esercizio delle loro esclusive competenze in materia di programmazione dell’offerta form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7d"/>
                </a:solidFill>
                <a:latin typeface="Arial"/>
              </a:rPr>
              <a:t>(ad esempio, una Regione può stabilire che, per motivi logistici, possano essere compresenti percorsi liceali, percorsi di istruzione tecnica e professionale in un medesimo istituto secondario superiore oppure che i percorsi liceali siano realizzati solo nei licei e i percorsi di istruzione tecnica solo negli istituti tecnici e i percorsi di istruzione professionale solo negli istituti professionali per salvaguardare l’identità dei singoli ordiname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1187280" y="333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9"/>
          <p:cNvSpPr/>
          <p:nvPr/>
        </p:nvSpPr>
        <p:spPr>
          <a:xfrm>
            <a:off x="68652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8028000" y="260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Group 35"/>
          <p:cNvGrpSpPr/>
          <p:nvPr/>
        </p:nvGrpSpPr>
        <p:grpSpPr>
          <a:xfrm>
            <a:off x="8072280" y="142920"/>
            <a:ext cx="911520" cy="817920"/>
            <a:chOff x="8072280" y="142920"/>
            <a:chExt cx="911520" cy="817920"/>
          </a:xfrm>
        </p:grpSpPr>
        <p:pic>
          <p:nvPicPr>
            <p:cNvPr id="1873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24200" y="142920"/>
              <a:ext cx="53604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Text Box 37"/>
            <p:cNvSpPr/>
            <p:nvPr/>
          </p:nvSpPr>
          <p:spPr>
            <a:xfrm>
              <a:off x="8072280" y="699480"/>
              <a:ext cx="91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10311"/>
                </a:solidFill>
                <a:latin typeface="Arial"/>
              </a:rPr>
              <a:t>I lavori in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A seguito delle proposte formulate durante l’iter dello schema di regolamento qui presentato, sono allo studio ipotesi di emendamento del testo. Se ne richiamano di seguito alcu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l’inserimento di una articolazione negli istituti tecnici del settore economico ad indirizzo “amministrazione, finanza e marketing” per la “Marketing e relazioni internazionali” per una più organica confluenza degli istituti per periti aziendali e corrispondenti in lingue est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l’inserimento dell’articolazione “Viticoltura ed enologia” nell’indirizzo “Agraria e Agroindustria” negli istituti tecnici del settore tecnolo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E’ cominciato il lavoro di raccolta delle proposte delle scuole, delle associazioni professionali e disciplinari, delle parti sociali per la descrizione dei risultati di apprendimento in termini di competenze, abilità e conoscenze relativi a ciascuno degli indirizzi e delle articolazioni previste dallo schema di regolamento. I documenti prodotti saranno resi disponibili nelle prossime settimane sul sito dell’ANSAS (</a:t>
            </a:r>
            <a:r>
              <a:rPr b="0" lang="it-IT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indire.it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)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4"/>
          <p:cNvSpPr/>
          <p:nvPr/>
        </p:nvSpPr>
        <p:spPr>
          <a:xfrm>
            <a:off x="8101080" y="404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8"/>
          <p:cNvSpPr/>
          <p:nvPr/>
        </p:nvSpPr>
        <p:spPr>
          <a:xfrm>
            <a:off x="971640" y="18900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9"/>
          <p:cNvSpPr/>
          <p:nvPr/>
        </p:nvSpPr>
        <p:spPr>
          <a:xfrm>
            <a:off x="686520" y="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Group 35"/>
          <p:cNvGrpSpPr/>
          <p:nvPr/>
        </p:nvGrpSpPr>
        <p:grpSpPr>
          <a:xfrm>
            <a:off x="8072280" y="71280"/>
            <a:ext cx="911520" cy="817920"/>
            <a:chOff x="8072280" y="71280"/>
            <a:chExt cx="911520" cy="817920"/>
          </a:xfrm>
        </p:grpSpPr>
        <p:pic>
          <p:nvPicPr>
            <p:cNvPr id="1881" name="Picture 36" descr="miur_colorato_trasparente_piccolo"/>
            <p:cNvPicPr/>
            <p:nvPr/>
          </p:nvPicPr>
          <p:blipFill>
            <a:blip r:embed="rId2"/>
            <a:stretch/>
          </p:blipFill>
          <p:spPr>
            <a:xfrm>
              <a:off x="8224200" y="71280"/>
              <a:ext cx="53604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2" name="Text Box 37"/>
            <p:cNvSpPr/>
            <p:nvPr/>
          </p:nvSpPr>
          <p:spPr>
            <a:xfrm>
              <a:off x="8072280" y="627840"/>
              <a:ext cx="91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4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PIÙ AUTONOMIA PER LE S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280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Quote di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AUTONOMIA e FLESSIBIL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272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it-IT" sz="28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20%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di autonomia</a:t>
            </a: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dal primo biennio al quinto anno, in relazione all’orario complessivo delle lezioni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27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30 %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di flessibilità </a:t>
            </a:r>
            <a:r>
              <a:rPr b="0" lang="it-IT" sz="2800" spc="-1" strike="noStrike">
                <a:solidFill>
                  <a:srgbClr val="c10311"/>
                </a:solidFill>
                <a:latin typeface="Arial"/>
              </a:rPr>
              <a:t>(opzioni)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nel secondo biennio e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35 %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 quinto anno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solo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in relazione alle </a:t>
            </a:r>
            <a:r>
              <a:rPr b="1" lang="it-IT" sz="2000" spc="-1" strike="noStrike">
                <a:solidFill>
                  <a:srgbClr val="c10311"/>
                </a:solidFill>
                <a:latin typeface="Arial"/>
              </a:rPr>
              <a:t>AREE di INDIRIZZO</a:t>
            </a:r>
            <a:r>
              <a:rPr b="0" lang="it-IT" sz="20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7d"/>
                </a:solidFill>
                <a:latin typeface="Arial"/>
              </a:rPr>
              <a:t>per rispondere a documentate richieste del territorio, del mondo del lavoro e delle profession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5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5596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Rapporti tra AUTONOMIA e FLESSI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67328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AUT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Le istituzioni scolastiche possono modificare il monte ore annuale delle discipline di insegnamento di ciascun anno scolastico per una quota non superiore al 20% per realizzare – in base al piano dell’offerta formativa e  nei limiti delle disponibilità di bilancio – attività e insegnamenti facoltativi, coerenti con il profilo educativo, culturale e professionale dello studente in relazione al percorso scel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L’orario di ciascuna disciplina </a:t>
            </a:r>
            <a:r>
              <a:rPr b="1" lang="it-IT" sz="1600" spc="-1" strike="noStrike" u="sng">
                <a:solidFill>
                  <a:srgbClr val="00007d"/>
                </a:solidFill>
                <a:uFillTx/>
                <a:latin typeface="Arial"/>
              </a:rPr>
              <a:t>non</a:t>
            </a: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 può essere ridotto oltre il 2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Gli studenti sono tenuti alla frequenza delle attività e degli insegnamenti facoltativi prescelti. La valutazione dei risultati di apprendimento delle materie facoltative concorre alla valutazione compless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Le richieste sono formulate all’atto delle iscrizioni alle clas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Al fine di ampliare e razionalizzare le scelte, gli istituti possono organizzarsi in rete e stipulare anche  contratti d’opera con esperti, entro i limiti e le risorse iscritte nel programma annuale di ciascuna istituzione scolas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FLESS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Gli spazi di flessibilità consentono di articolare le aree di indirizzo in opzioni  non previste dal regolamento governativo. Gli studenti scelgono le opzioni a conclusione del primo bienn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68360" y="476280"/>
            <a:ext cx="75596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244000" y="54936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8244000" y="54936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7848720" y="260280"/>
            <a:ext cx="1295280" cy="1129680"/>
            <a:chOff x="7848720" y="260280"/>
            <a:chExt cx="1295280" cy="1129680"/>
          </a:xfrm>
        </p:grpSpPr>
        <p:pic>
          <p:nvPicPr>
            <p:cNvPr id="16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64360" y="2602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"/>
            <p:cNvSpPr/>
            <p:nvPr/>
          </p:nvSpPr>
          <p:spPr>
            <a:xfrm>
              <a:off x="7848720" y="10526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"/>
          <p:cNvSpPr/>
          <p:nvPr/>
        </p:nvSpPr>
        <p:spPr>
          <a:xfrm>
            <a:off x="1116000" y="26028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076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LE 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885080" y="69228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7"/>
          <p:cNvGrpSpPr/>
          <p:nvPr/>
        </p:nvGrpSpPr>
        <p:grpSpPr>
          <a:xfrm>
            <a:off x="7848720" y="333360"/>
            <a:ext cx="1295280" cy="1129320"/>
            <a:chOff x="7848720" y="333360"/>
            <a:chExt cx="1295280" cy="1129320"/>
          </a:xfrm>
        </p:grpSpPr>
        <p:pic>
          <p:nvPicPr>
            <p:cNvPr id="17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64360" y="33336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9"/>
            <p:cNvSpPr/>
            <p:nvPr/>
          </p:nvSpPr>
          <p:spPr>
            <a:xfrm>
              <a:off x="7848720" y="11253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62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Le OPZIONI  possono essere previste solo se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1)  coerenti con il profilo professionale dell’indirizzo di stud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2) comprese entro le quote di flessibilità del 30% (168 ore) e del 35% (196   o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3) contenute in un apposito elenco nazionale, aggiornato ogni 3 anni, che indica anche le classi di concorso dei docenti che possono essere utilizz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7d"/>
                </a:solidFill>
                <a:latin typeface="Arial"/>
              </a:rPr>
              <a:t>Nel Diploma di perito, rilasciato a conclusione degli esami di Stato, sono certificate le competenze acquisite dallo studente anche in riferimento alle op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L’elenco nazionale delle OPZIONI sarà indicato in un decreto ministeriale di natura non regolamentare, periodicamente aggiornato a seguito del monitoraggio e della valutazione di sistema da parte del COMITATO NAZIONALE PER L’ISTRUZIONE TECNICA E PROFESSI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187280" y="18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48:39Z</dcterms:created>
  <dc:creator>M.I.U.R.</dc:creator>
  <dc:description/>
  <dc:language>en-US</dc:language>
  <cp:lastModifiedBy>win</cp:lastModifiedBy>
  <dcterms:modified xsi:type="dcterms:W3CDTF">2009-11-10T12:00:46Z</dcterms:modified>
  <cp:revision>493</cp:revision>
  <dc:subject/>
  <dc:title>Diapositiva 1</dc:title>
</cp:coreProperties>
</file>