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12560" y="1026720"/>
            <a:ext cx="4925880" cy="36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-352440"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312920" y="10270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312920" y="10270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312920" y="10270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312920" y="10270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312920" y="10270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312920" y="10270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312920" y="10270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312920" y="10270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312920" y="10270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312920" y="10270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312920" y="10270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312920" y="10270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AA355-2E15-473C-A6FE-085A93B9A1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599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69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89000" y="4707360"/>
            <a:ext cx="8469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385C1-EF93-43D3-A1D0-DEE286E6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599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280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8800" y="2223720"/>
            <a:ext cx="413280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89000" y="4707360"/>
            <a:ext cx="413280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8800" y="4707360"/>
            <a:ext cx="413280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1B32D-9BCA-4C59-B1F7-51AF51F1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599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272700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52800" y="2223720"/>
            <a:ext cx="272700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16600" y="2223720"/>
            <a:ext cx="272700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89000" y="4707360"/>
            <a:ext cx="272700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52800" y="4707360"/>
            <a:ext cx="272700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16600" y="4707360"/>
            <a:ext cx="272700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1DC78-FA55-4727-BDD2-B78527BA1A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599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89000" y="2223720"/>
            <a:ext cx="8469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C070C-C9C1-4964-B9F0-82366FAC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599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69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59282-B58E-48F0-94DF-AC87E5BA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599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28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8800" y="2223720"/>
            <a:ext cx="41328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F3381-E006-4048-8F3D-2B756D4C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599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222EF-58F2-4437-8469-077B52D39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117360"/>
            <a:ext cx="859968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0F5BA-4E3B-4BB1-8A8B-2E930F9FC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599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280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8800" y="2223720"/>
            <a:ext cx="41328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89000" y="4707360"/>
            <a:ext cx="413280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55457-1454-4BA2-B78B-EA53CA7F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599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28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8800" y="2223720"/>
            <a:ext cx="413280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8800" y="4707360"/>
            <a:ext cx="413280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F38E0-2D67-49B3-9621-4FF97D5A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599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280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8800" y="2223720"/>
            <a:ext cx="413280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89000" y="4707360"/>
            <a:ext cx="8469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1FEAF-F1B2-4F44-B5DB-4F898632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599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9000" y="2223720"/>
            <a:ext cx="8469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-426960">
              <a:lnSpc>
                <a:spcPct val="71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784080" indent="-426960">
              <a:lnSpc>
                <a:spcPct val="71000"/>
              </a:lnSpc>
              <a:buClr>
                <a:srgbClr val="ff9966"/>
              </a:buClr>
              <a:buSzPct val="7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2" marL="1073160" indent="-425520">
              <a:lnSpc>
                <a:spcPct val="71000"/>
              </a:lnSpc>
              <a:buClr>
                <a:srgbClr val="ff9966"/>
              </a:buClr>
              <a:buSzPct val="7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3" marL="1360440" indent="-425520">
              <a:lnSpc>
                <a:spcPct val="71000"/>
              </a:lnSpc>
              <a:buClr>
                <a:srgbClr val="ff9966"/>
              </a:buClr>
              <a:buSzPct val="7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4" marL="1649520" indent="-428760">
              <a:lnSpc>
                <a:spcPct val="71000"/>
              </a:lnSpc>
              <a:buClr>
                <a:srgbClr val="ff9966"/>
              </a:buClr>
              <a:buSzPct val="7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5" marL="1649520" indent="-428760">
              <a:lnSpc>
                <a:spcPct val="71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6" marL="1649520" indent="-428760">
              <a:lnSpc>
                <a:spcPct val="71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91D3E-071E-48C9-AB2E-308393F5871F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../../../Users/Mena/Desktop/presentazione/SCHEMA_DEL_PROGETTO.doc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440000" y="65160"/>
            <a:ext cx="8280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r>
              <a:rPr b="1" i="1" lang="en-US" sz="1800" spc="-1" strike="noStrike">
                <a:solidFill>
                  <a:srgbClr val="e6ff00"/>
                </a:solidFill>
                <a:latin typeface="Arial"/>
              </a:rPr>
              <a:t>Ministero dell’Istruzione, dell’Università e della Ricerca</a:t>
            </a:r>
            <a:br>
              <a:rPr sz="1800"/>
            </a:br>
            <a:r>
              <a:rPr b="1" i="1" lang="en-US" sz="1800" spc="-1" strike="noStrike">
                <a:solidFill>
                  <a:srgbClr val="e6ff00"/>
                </a:solidFill>
                <a:latin typeface="Arial"/>
              </a:rPr>
              <a:t>Dipartimento per l’Istruzione</a:t>
            </a:r>
            <a:br>
              <a:rPr sz="1800"/>
            </a:br>
            <a:r>
              <a:rPr b="1" i="1" lang="en-US" sz="1800" spc="-1" strike="noStrike">
                <a:solidFill>
                  <a:srgbClr val="e6ff00"/>
                </a:solidFill>
                <a:latin typeface="Arial"/>
              </a:rPr>
              <a:t>Direzione Generale per gli Ordinamenti </a:t>
            </a:r>
            <a:br>
              <a:rPr sz="1800"/>
            </a:br>
            <a:r>
              <a:rPr b="1" i="1" lang="en-US" sz="1800" spc="-1" strike="noStrike">
                <a:solidFill>
                  <a:srgbClr val="e6ff00"/>
                </a:solidFill>
                <a:latin typeface="Arial"/>
              </a:rPr>
              <a:t>del Sistema Nazionale di Istruzione</a:t>
            </a:r>
            <a:br>
              <a:rPr sz="1800"/>
            </a:br>
            <a:r>
              <a:rPr b="1" i="1" lang="en-US" sz="1800" spc="-1" strike="noStrike">
                <a:solidFill>
                  <a:srgbClr val="e6ff00"/>
                </a:solidFill>
                <a:latin typeface="Arial"/>
              </a:rPr>
              <a:t>e per </a:t>
            </a:r>
            <a:br>
              <a:rPr sz="1800"/>
            </a:br>
            <a:r>
              <a:rPr b="1" i="1" lang="en-US" sz="1800" spc="-1" strike="noStrike">
                <a:solidFill>
                  <a:srgbClr val="e6ff00"/>
                </a:solidFill>
                <a:latin typeface="Arial"/>
              </a:rPr>
              <a:t>l’Autonomia Scolastica</a:t>
            </a:r>
            <a:br>
              <a:rPr sz="1800"/>
            </a:br>
            <a:r>
              <a:rPr b="1" i="1" lang="en-US" sz="1800" spc="-1" strike="noStrike">
                <a:solidFill>
                  <a:srgbClr val="e6ff00"/>
                </a:solidFill>
                <a:latin typeface="Arial"/>
              </a:rPr>
              <a:t>- Ufficio II-</a:t>
            </a:r>
            <a:br>
              <a:rPr sz="40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1979640"/>
            <a:ext cx="847728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09520" indent="-209520" algn="ctr">
              <a:lnSpc>
                <a:spcPct val="93000"/>
              </a:lnSpc>
              <a:tabLst>
                <a:tab algn="l" pos="0"/>
                <a:tab algn="l" pos="209520"/>
                <a:tab algn="l" pos="657360"/>
                <a:tab algn="l" pos="1106640"/>
                <a:tab algn="l" pos="1555920"/>
                <a:tab algn="l" pos="2004840"/>
                <a:tab algn="l" pos="2454120"/>
                <a:tab algn="l" pos="2903400"/>
                <a:tab algn="l" pos="3352680"/>
                <a:tab algn="l" pos="3801960"/>
                <a:tab algn="l" pos="4251240"/>
                <a:tab algn="l" pos="4700520"/>
                <a:tab algn="l" pos="5149800"/>
                <a:tab algn="l" pos="5599080"/>
                <a:tab algn="l" pos="6048360"/>
                <a:tab algn="l" pos="6497640"/>
                <a:tab algn="l" pos="6946920"/>
                <a:tab algn="l" pos="7396200"/>
                <a:tab algn="l" pos="7845480"/>
                <a:tab algn="l" pos="8294760"/>
                <a:tab algn="l" pos="8744040"/>
                <a:tab algn="l" pos="9193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000" spc="-1" strike="noStrike">
                <a:solidFill>
                  <a:srgbClr val="e6e6e6"/>
                </a:solidFill>
                <a:latin typeface="Arial"/>
              </a:rPr>
              <a:t>Il PONTE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09520" indent="-209520" algn="ctr">
              <a:lnSpc>
                <a:spcPct val="93000"/>
              </a:lnSpc>
              <a:tabLst>
                <a:tab algn="l" pos="0"/>
                <a:tab algn="l" pos="209520"/>
                <a:tab algn="l" pos="657360"/>
                <a:tab algn="l" pos="1106640"/>
                <a:tab algn="l" pos="1555920"/>
                <a:tab algn="l" pos="2004840"/>
                <a:tab algn="l" pos="2454120"/>
                <a:tab algn="l" pos="2903400"/>
                <a:tab algn="l" pos="3352680"/>
                <a:tab algn="l" pos="3801960"/>
                <a:tab algn="l" pos="4251240"/>
                <a:tab algn="l" pos="4700520"/>
                <a:tab algn="l" pos="5149800"/>
                <a:tab algn="l" pos="5599080"/>
                <a:tab algn="l" pos="6048360"/>
                <a:tab algn="l" pos="6497640"/>
                <a:tab algn="l" pos="6946920"/>
                <a:tab algn="l" pos="7396200"/>
                <a:tab algn="l" pos="7845480"/>
                <a:tab algn="l" pos="8294760"/>
                <a:tab algn="l" pos="8744040"/>
                <a:tab algn="l" pos="9193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09520" indent="-209520" algn="ctr">
              <a:lnSpc>
                <a:spcPct val="93000"/>
              </a:lnSpc>
              <a:tabLst>
                <a:tab algn="l" pos="0"/>
                <a:tab algn="l" pos="209520"/>
                <a:tab algn="l" pos="657360"/>
                <a:tab algn="l" pos="1106640"/>
                <a:tab algn="l" pos="1555920"/>
                <a:tab algn="l" pos="2004840"/>
                <a:tab algn="l" pos="2454120"/>
                <a:tab algn="l" pos="2903400"/>
                <a:tab algn="l" pos="3352680"/>
                <a:tab algn="l" pos="3801960"/>
                <a:tab algn="l" pos="4251240"/>
                <a:tab algn="l" pos="4700520"/>
                <a:tab algn="l" pos="5149800"/>
                <a:tab algn="l" pos="5599080"/>
                <a:tab algn="l" pos="6048360"/>
                <a:tab algn="l" pos="6497640"/>
                <a:tab algn="l" pos="6946920"/>
                <a:tab algn="l" pos="7396200"/>
                <a:tab algn="l" pos="7845480"/>
                <a:tab algn="l" pos="8294760"/>
                <a:tab algn="l" pos="8744040"/>
                <a:tab algn="l" pos="9193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e6e6e6"/>
                </a:solidFill>
                <a:latin typeface="Arial"/>
              </a:rPr>
              <a:t>PERCORSI DI ORIENTAMENTO E DI RACCORDO  CON L'UNIVERSITÀ NEL SISTEMA DI ISTRUZI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09520" indent="-209520" algn="ctr">
              <a:lnSpc>
                <a:spcPct val="93000"/>
              </a:lnSpc>
              <a:tabLst>
                <a:tab algn="l" pos="0"/>
                <a:tab algn="l" pos="209520"/>
                <a:tab algn="l" pos="657360"/>
                <a:tab algn="l" pos="1106640"/>
                <a:tab algn="l" pos="1555920"/>
                <a:tab algn="l" pos="2004840"/>
                <a:tab algn="l" pos="2454120"/>
                <a:tab algn="l" pos="2903400"/>
                <a:tab algn="l" pos="3352680"/>
                <a:tab algn="l" pos="3801960"/>
                <a:tab algn="l" pos="4251240"/>
                <a:tab algn="l" pos="4700520"/>
                <a:tab algn="l" pos="5149800"/>
                <a:tab algn="l" pos="5599080"/>
                <a:tab algn="l" pos="6048360"/>
                <a:tab algn="l" pos="6497640"/>
                <a:tab algn="l" pos="6946920"/>
                <a:tab algn="l" pos="7396200"/>
                <a:tab algn="l" pos="7845480"/>
                <a:tab algn="l" pos="8294760"/>
                <a:tab algn="l" pos="8744040"/>
                <a:tab algn="l" pos="9193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09520" indent="-209520" algn="ctr">
              <a:lnSpc>
                <a:spcPct val="93000"/>
              </a:lnSpc>
              <a:tabLst>
                <a:tab algn="l" pos="0"/>
                <a:tab algn="l" pos="209520"/>
                <a:tab algn="l" pos="657360"/>
                <a:tab algn="l" pos="1106640"/>
                <a:tab algn="l" pos="1555920"/>
                <a:tab algn="l" pos="2004840"/>
                <a:tab algn="l" pos="2454120"/>
                <a:tab algn="l" pos="2903400"/>
                <a:tab algn="l" pos="3352680"/>
                <a:tab algn="l" pos="3801960"/>
                <a:tab algn="l" pos="4251240"/>
                <a:tab algn="l" pos="4700520"/>
                <a:tab algn="l" pos="5149800"/>
                <a:tab algn="l" pos="5599080"/>
                <a:tab algn="l" pos="6048360"/>
                <a:tab algn="l" pos="6497640"/>
                <a:tab algn="l" pos="6946920"/>
                <a:tab algn="l" pos="7396200"/>
                <a:tab algn="l" pos="7845480"/>
                <a:tab algn="l" pos="8294760"/>
                <a:tab algn="l" pos="8744040"/>
                <a:tab algn="l" pos="9193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200" spc="-1" strike="noStrike">
                <a:solidFill>
                  <a:srgbClr val="e6e6e6"/>
                </a:solidFill>
                <a:latin typeface="Arial"/>
              </a:rPr>
              <a:t>In attuazione del D.L. 14 gennaio 2008 n.2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09520" indent="-209520" algn="ctr">
              <a:lnSpc>
                <a:spcPct val="93000"/>
              </a:lnSpc>
              <a:tabLst>
                <a:tab algn="l" pos="0"/>
                <a:tab algn="l" pos="209520"/>
                <a:tab algn="l" pos="657360"/>
                <a:tab algn="l" pos="1106640"/>
                <a:tab algn="l" pos="1555920"/>
                <a:tab algn="l" pos="2004840"/>
                <a:tab algn="l" pos="2454120"/>
                <a:tab algn="l" pos="2903400"/>
                <a:tab algn="l" pos="3352680"/>
                <a:tab algn="l" pos="3801960"/>
                <a:tab algn="l" pos="4251240"/>
                <a:tab algn="l" pos="4700520"/>
                <a:tab algn="l" pos="5149800"/>
                <a:tab algn="l" pos="5599080"/>
                <a:tab algn="l" pos="6048360"/>
                <a:tab algn="l" pos="6497640"/>
                <a:tab algn="l" pos="6946920"/>
                <a:tab algn="l" pos="7396200"/>
                <a:tab algn="l" pos="7845480"/>
                <a:tab algn="l" pos="8294760"/>
                <a:tab algn="l" pos="8744040"/>
                <a:tab algn="l" pos="9193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0360" y="236520"/>
            <a:ext cx="1023840" cy="10238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93000"/>
              </a:lnSpc>
              <a:buNone/>
              <a:tabLst>
                <a:tab algn="l" pos="0"/>
                <a:tab algn="l" pos="3524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884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Inoltre...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03440" y="1618920"/>
            <a:ext cx="86565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0" algn="just">
              <a:lnSpc>
                <a:spcPct val="93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e6e6e6"/>
                </a:solidFill>
                <a:latin typeface="Arial"/>
              </a:rPr>
              <a:t>Può costituire un momento di riflessione per lo studente che, invece, pur portando a compimento il percorso di studi nel Liceo, intenda orientare le successive scelte verso l'area degli Istituti di istruzione e Formazione Tecnica Superior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percorso B)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36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93000"/>
              </a:lnSpc>
              <a:buNone/>
              <a:tabLst>
                <a:tab algn="l" pos="0"/>
                <a:tab algn="l" pos="3524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884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Articolazione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0720" y="189684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0">
              <a:lnSpc>
                <a:spcPct val="93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Il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ercorso 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i articola in tre parti: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6800" indent="0">
              <a:lnSpc>
                <a:spcPct val="93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784080" indent="-426960">
              <a:lnSpc>
                <a:spcPct val="93000"/>
              </a:lnSpc>
              <a:buClr>
                <a:srgbClr val="ff9966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lo didattico</a:t>
            </a:r>
            <a:endParaRPr b="0" lang="en-US" sz="2800" spc="-1" strike="noStrike">
              <a:solidFill>
                <a:srgbClr val="e6e6e6"/>
              </a:solidFill>
              <a:latin typeface="Arial"/>
            </a:endParaRPr>
          </a:p>
          <a:p>
            <a:pPr lvl="1" marL="784080" indent="-426960">
              <a:lnSpc>
                <a:spcPct val="93000"/>
              </a:lnSpc>
              <a:buClr>
                <a:srgbClr val="ff9966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lo organizzativo</a:t>
            </a:r>
            <a:endParaRPr b="0" lang="en-US" sz="2800" spc="-1" strike="noStrike">
              <a:solidFill>
                <a:srgbClr val="e6e6e6"/>
              </a:solidFill>
              <a:latin typeface="Arial"/>
            </a:endParaRPr>
          </a:p>
          <a:p>
            <a:pPr lvl="1" marL="784080" indent="-426960">
              <a:lnSpc>
                <a:spcPct val="93000"/>
              </a:lnSpc>
              <a:buClr>
                <a:srgbClr val="ff9966"/>
              </a:buClr>
              <a:buSzPct val="75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aggio e valutazione  </a:t>
            </a:r>
            <a:endParaRPr b="0" lang="en-US" sz="2800" spc="-1" strike="noStrike">
              <a:solidFill>
                <a:srgbClr val="e6e6e6"/>
              </a:solidFill>
              <a:latin typeface="Arial"/>
            </a:endParaRPr>
          </a:p>
          <a:p>
            <a:pPr marL="496800" indent="0">
              <a:lnSpc>
                <a:spcPct val="93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6800" indent="0">
              <a:lnSpc>
                <a:spcPct val="93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 questa fase presentiamo il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modello didattico</a:t>
            </a:r>
            <a:endParaRPr b="0" lang="en-US" sz="36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93000"/>
              </a:lnSpc>
              <a:buNone/>
              <a:tabLst>
                <a:tab algn="l" pos="0"/>
                <a:tab algn="l" pos="3524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884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Modello didattico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82720" y="171576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0">
              <a:lnSpc>
                <a:spcPct val="93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Il sistema proposto è di tipo modulare e si avvale di tre tipologie di laboratori: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6800" indent="0">
              <a:lnSpc>
                <a:spcPct val="93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6800" indent="-42696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Laboratorio Orientativi-Guid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(LOG)</a:t>
            </a: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6800" indent="0">
              <a:lnSpc>
                <a:spcPct val="93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6800" indent="-42696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Laboratorio di Approfondimento con Certificazion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(LAC)</a:t>
            </a: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6800" indent="0">
              <a:lnSpc>
                <a:spcPct val="93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6800" indent="-42696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Laboratorio di eccellenz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(LEC)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93000"/>
              </a:lnSpc>
              <a:buNone/>
              <a:tabLst>
                <a:tab algn="l" pos="0"/>
                <a:tab algn="l" pos="3524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884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Laboratorio Orientativo-Guida (LOG)</a:t>
            </a: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‏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0000" y="1896840"/>
            <a:ext cx="847728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0">
              <a:lnSpc>
                <a:spcPct val="93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e6e6e6"/>
                </a:solidFill>
                <a:latin typeface="Arial"/>
              </a:rPr>
              <a:t>Il Laboratorio Orientativo-Guida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(LOG)</a:t>
            </a:r>
            <a:r>
              <a:rPr b="0" lang="en-US" sz="3600" spc="-1" strike="noStrike">
                <a:solidFill>
                  <a:srgbClr val="e6e6e6"/>
                </a:solidFill>
                <a:latin typeface="Arial"/>
              </a:rPr>
              <a:t>. È costituito da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uli progettati in collaborazione  con l'università e condotti da docenti della scuola.</a:t>
            </a:r>
            <a:r>
              <a:rPr b="0" lang="en-US" sz="3600" spc="-1" strike="noStrike">
                <a:solidFill>
                  <a:srgbClr val="e6e6e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e6e6e6"/>
              </a:solidFill>
              <a:latin typeface="Arial"/>
            </a:endParaRPr>
          </a:p>
          <a:p>
            <a:pPr marL="496800" indent="0">
              <a:lnSpc>
                <a:spcPct val="93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e6e6e6"/>
              </a:solidFill>
              <a:latin typeface="Arial"/>
            </a:endParaRPr>
          </a:p>
          <a:p>
            <a:pPr marL="496800" indent="0">
              <a:lnSpc>
                <a:spcPct val="93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e6e6e6"/>
                </a:solidFill>
                <a:latin typeface="Arial"/>
              </a:rPr>
              <a:t>Esso costituisce propedeuticità e preludio alla seconda tipologia di laboratorio (LAC).</a:t>
            </a:r>
            <a:endParaRPr b="0" lang="en-US" sz="36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93000"/>
              </a:lnSpc>
              <a:buNone/>
              <a:tabLst>
                <a:tab algn="l" pos="0"/>
                <a:tab algn="l" pos="3524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884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Laboratorio dell'eccellenza (LEC</a:t>
            </a: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‏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1896840"/>
            <a:ext cx="847728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0">
              <a:lnSpc>
                <a:spcPct val="93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e6e6e6"/>
                </a:solidFill>
                <a:latin typeface="Arial"/>
              </a:rPr>
              <a:t>Il Laboratorio dell'eccellenza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LEC)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è articolato in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uli di approfondiment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preparatori agli esami di stato e ai test d'ingresso all'università.</a:t>
            </a:r>
            <a:endParaRPr b="0" lang="en-US" sz="36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93000"/>
              </a:lnSpc>
              <a:buNone/>
              <a:tabLst>
                <a:tab algn="l" pos="0"/>
                <a:tab algn="l" pos="3524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884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Laboratorio di Approfondimento con Certificazione (LAC)</a:t>
            </a: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‏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896840"/>
            <a:ext cx="847728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0">
              <a:lnSpc>
                <a:spcPct val="93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e6e6e6"/>
                </a:solidFill>
                <a:latin typeface="Arial"/>
              </a:rPr>
              <a:t>Il Laboratorio di approfondimento con certificazione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(LAC)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è articolato con moduli progettati e condotti in collaborazione tra scuola e università.</a:t>
            </a:r>
            <a:endParaRPr b="0" lang="en-US" sz="3600" spc="-1" strike="noStrike">
              <a:solidFill>
                <a:srgbClr val="e6e6e6"/>
              </a:solidFill>
              <a:latin typeface="Arial"/>
            </a:endParaRPr>
          </a:p>
          <a:p>
            <a:pPr marL="496800" indent="0">
              <a:lnSpc>
                <a:spcPct val="93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e6e6e6"/>
              </a:solidFill>
              <a:latin typeface="Arial"/>
            </a:endParaRPr>
          </a:p>
          <a:p>
            <a:pPr marL="496800" indent="0">
              <a:lnSpc>
                <a:spcPct val="93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l profilo ed i contenuti dei moduli sono calibrati al fine di consentire il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riconoscimento dei crediti universitari</a:t>
            </a:r>
            <a:endParaRPr b="0" lang="en-US" sz="3600" spc="-1" strike="noStrike">
              <a:solidFill>
                <a:srgbClr val="e6e6e6"/>
              </a:solidFill>
              <a:latin typeface="Arial"/>
            </a:endParaRPr>
          </a:p>
          <a:p>
            <a:pPr marL="496800" indent="0">
              <a:lnSpc>
                <a:spcPct val="93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93000"/>
              </a:lnSpc>
              <a:buNone/>
              <a:tabLst>
                <a:tab algn="l" pos="0"/>
                <a:tab algn="l" pos="3524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884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In particolare: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20720" y="1717560"/>
            <a:ext cx="847728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0">
              <a:lnSpc>
                <a:spcPct val="93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LOG e I LAC sviluppano percorsi nell'ambito degli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dirizzi specifici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 ciascuna tipologia di scuola.</a:t>
            </a:r>
            <a:endParaRPr b="0" lang="en-US" sz="3600" spc="-1" strike="noStrike">
              <a:solidFill>
                <a:srgbClr val="e6e6e6"/>
              </a:solidFill>
              <a:latin typeface="Arial"/>
            </a:endParaRPr>
          </a:p>
          <a:p>
            <a:pPr marL="496800" indent="0">
              <a:lnSpc>
                <a:spcPct val="93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e6e6e6"/>
              </a:solidFill>
              <a:latin typeface="Arial"/>
            </a:endParaRPr>
          </a:p>
          <a:p>
            <a:pPr marL="496800" indent="0">
              <a:lnSpc>
                <a:spcPct val="93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LEC approfondiscono t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matiche di particolare interess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degli allievi e preparano alla prova a test.</a:t>
            </a:r>
            <a:endParaRPr b="0" lang="en-US" sz="3600" spc="-1" strike="noStrike">
              <a:solidFill>
                <a:srgbClr val="e6e6e6"/>
              </a:solidFill>
              <a:latin typeface="Arial"/>
            </a:endParaRPr>
          </a:p>
          <a:p>
            <a:pPr marL="496800" indent="0">
              <a:lnSpc>
                <a:spcPct val="93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0880" y="162000"/>
            <a:ext cx="86058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87000"/>
              </a:lnSpc>
              <a:buNone/>
              <a:tabLst>
                <a:tab algn="l" pos="0"/>
                <a:tab algn="l" pos="3524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884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LOG - Obiettivi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800000"/>
            <a:ext cx="8475840" cy="39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-426960">
              <a:lnSpc>
                <a:spcPct val="87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acilitare e potenziare nei ragazzi l'autonomia della scelta, inserendo nel percorso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duli orientativi di indirizzo</a:t>
            </a: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6800" indent="0">
              <a:lnSpc>
                <a:spcPct val="87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6800" indent="-426960">
              <a:lnSpc>
                <a:spcPct val="87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olidare ed approfondire</a:t>
            </a: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 le conoscenze pregresse, riprendere conoscenze studiate negli anni precedenti utili ad indirizzare le loro scelte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0880" y="162000"/>
            <a:ext cx="86058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87000"/>
              </a:lnSpc>
              <a:buNone/>
              <a:tabLst>
                <a:tab algn="l" pos="0"/>
                <a:tab algn="l" pos="3524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884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LAC - Obiettivi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84160" y="1808280"/>
            <a:ext cx="847584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0">
              <a:lnSpc>
                <a:spcPct val="87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eparare”</a:t>
            </a: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 l'allievo ad affrontar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li studi universitari </a:t>
            </a: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limitando le difficoltà di inserimento incontrate nel primo anno del corso di laurea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6800" indent="0">
              <a:lnSpc>
                <a:spcPct val="87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6800" indent="0">
              <a:lnSpc>
                <a:spcPct val="87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ono molti i fattori su cui intervenire, dall'approccio, al metodo di studio, alla conoscenza del linguaggio universitario, etc.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0880" y="162000"/>
            <a:ext cx="86058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87000"/>
              </a:lnSpc>
              <a:buNone/>
              <a:tabLst>
                <a:tab algn="l" pos="0"/>
                <a:tab algn="l" pos="3524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884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LEC - Obiettivi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04520" y="1619280"/>
            <a:ext cx="8475480" cy="50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-426960">
              <a:lnSpc>
                <a:spcPct val="87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Valorizzare le eccellenze e favorire lo sviluppo dei talenti e delle vocazioni di ogni singolo studente. Alla fine del percorso la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cuola certificherà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a ciascun studente il riconoscimento dei livelli elevati di conoscenza e di competenza raggiunti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6800" indent="0">
              <a:lnSpc>
                <a:spcPct val="87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6800" indent="-426960">
              <a:lnSpc>
                <a:spcPct val="87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Il risultato raggiunto nei </a:t>
            </a:r>
            <a:r>
              <a:rPr b="0" lang="en-US" sz="3200" spc="-1" strike="noStrike" u="sng">
                <a:solidFill>
                  <a:srgbClr val="e6e6e6"/>
                </a:solidFill>
                <a:uFillTx/>
                <a:latin typeface="Arial"/>
              </a:rPr>
              <a:t>percorsi di “eccellenza”, </a:t>
            </a: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riconosciuto e certificato, garantisce l'acquisizione di crediti formativi e varie forme di premiazione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6800" indent="0">
              <a:lnSpc>
                <a:spcPct val="87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2400" y="35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0" algn="ctr">
              <a:lnSpc>
                <a:spcPct val="93000"/>
              </a:lnSpc>
              <a:buNone/>
              <a:tabLst>
                <a:tab algn="l" pos="0"/>
                <a:tab algn="l" pos="209520"/>
                <a:tab algn="l" pos="30312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69592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Legge 28 marzo 2003, n.53, art.2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280" y="1619280"/>
            <a:ext cx="8999640" cy="54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91760" indent="0">
              <a:lnSpc>
                <a:spcPct val="93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In attuazione di questo articolo è stato emanato il D.L. Del 14 gennaio 2008, n.21 – </a:t>
            </a:r>
            <a:r>
              <a:rPr b="0" i="1" lang="en-US" sz="3200" spc="-1" strike="noStrike">
                <a:solidFill>
                  <a:srgbClr val="e6e6e6"/>
                </a:solidFill>
                <a:latin typeface="Arial"/>
              </a:rPr>
              <a:t>Norme per la definizione dei percorsi di orientamento all'istruzione universitaria e all'alta formazione artistica, musicale e coreutica, nonché per la valorizzazione della qualità dei risultati scolastici degli studenti ai fini dell'ammissione ai corsi di laurea universitari ad accesso programmato di cui all'art.1 della legge 2 agosto 1999, n.264, a norma dell'art. 2, comma 1, lettere a), b) e c) della legge 11 gennaio 2007, n.1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0880" y="162000"/>
            <a:ext cx="86058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87000"/>
              </a:lnSpc>
              <a:buNone/>
              <a:tabLst>
                <a:tab algn="l" pos="0"/>
                <a:tab algn="l" pos="3524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884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Una proposta di ripartizione del monte ore del QUINTO ANNO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9000" y="2224080"/>
            <a:ext cx="84758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00360" y="3060720"/>
            <a:ext cx="7019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60360" y="2519280"/>
            <a:ext cx="638352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onte ore annu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.ore settimanali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3 settimane = 100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+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81080" y="4140360"/>
            <a:ext cx="2519640" cy="1439640"/>
          </a:xfrm>
          <a:prstGeom prst="rect">
            <a:avLst/>
          </a:prstGeom>
          <a:noFill/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olidamento disciplin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0 %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99280" y="3419640"/>
            <a:ext cx="2340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92600" y="4140360"/>
            <a:ext cx="2327400" cy="1439640"/>
          </a:xfrm>
          <a:prstGeom prst="rect">
            <a:avLst/>
          </a:prstGeom>
          <a:noFill/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corsi di Orientamen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0880" y="162000"/>
            <a:ext cx="86058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87000"/>
              </a:lnSpc>
              <a:buNone/>
              <a:tabLst>
                <a:tab algn="l" pos="0"/>
                <a:tab algn="l" pos="3524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884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Tavoli di lavoro scuola-università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84160" y="1989000"/>
            <a:ext cx="84758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-426960">
              <a:lnSpc>
                <a:spcPct val="87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e6e6e6"/>
                </a:solidFill>
                <a:latin typeface="Arial"/>
              </a:rPr>
              <a:t>Area linguistica-umanistica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6800" indent="0">
              <a:lnSpc>
                <a:spcPct val="87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6800" indent="-426960">
              <a:lnSpc>
                <a:spcPct val="87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e6e6e6"/>
                </a:solidFill>
                <a:latin typeface="Arial"/>
              </a:rPr>
              <a:t>Area scientifica-tecnologica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6800" indent="0">
              <a:lnSpc>
                <a:spcPct val="87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6800" indent="-426960">
              <a:lnSpc>
                <a:spcPct val="87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e6e6e6"/>
                </a:solidFill>
                <a:latin typeface="Arial"/>
              </a:rPr>
              <a:t>Area socio-sanitaria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6800" indent="0">
              <a:lnSpc>
                <a:spcPct val="87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6800" indent="-426960">
              <a:lnSpc>
                <a:spcPct val="87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e6e6e6"/>
                </a:solidFill>
                <a:latin typeface="Arial"/>
              </a:rPr>
              <a:t>Area giuridico-economica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0880" y="162000"/>
            <a:ext cx="86058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87000"/>
              </a:lnSpc>
              <a:buNone/>
              <a:tabLst>
                <a:tab algn="l" pos="0"/>
                <a:tab algn="l" pos="3524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884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I percorsi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0720" y="1800000"/>
            <a:ext cx="8475840" cy="46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0">
              <a:lnSpc>
                <a:spcPct val="87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Ogni tavolo di lavoro elabora, in collaborazione con le facoltà di riferimento, due tipologie di percorsi: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6800" indent="0">
              <a:lnSpc>
                <a:spcPct val="87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6800" indent="-426960">
              <a:lnSpc>
                <a:spcPct val="87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Generalista di base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6800" indent="0">
              <a:lnSpc>
                <a:spcPct val="87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6800" indent="-426960">
              <a:lnSpc>
                <a:spcPct val="87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Generalista di indirizzo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6800" indent="0">
              <a:lnSpc>
                <a:spcPct val="87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0880" y="162000"/>
            <a:ext cx="86058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87000"/>
              </a:lnSpc>
              <a:buNone/>
              <a:tabLst>
                <a:tab algn="l" pos="0"/>
                <a:tab algn="l" pos="3524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884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Generalista di base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84160" y="1800360"/>
            <a:ext cx="8475840" cy="50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0">
              <a:lnSpc>
                <a:spcPct val="87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Rientra tra i LOG ed è costituito da tre tipologie di moduli: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6800" indent="0">
              <a:lnSpc>
                <a:spcPct val="87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6800" indent="-426960">
              <a:lnSpc>
                <a:spcPct val="87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Moduli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ipo B</a:t>
            </a: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) che focalizzano l'aspetto capacitivo e conoscitivo;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6800" indent="-426960">
              <a:lnSpc>
                <a:spcPct val="87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Moduli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ipo O</a:t>
            </a: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) che focalizzano l'aspetto orientativo;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6800" indent="-426960">
              <a:lnSpc>
                <a:spcPct val="87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Moduli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ipo E</a:t>
            </a: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) che approfondiscono tematiche anche di interesse sociale e sono rivolti agli allievi che rientrano tra le “eccellenze”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6800" indent="0">
              <a:lnSpc>
                <a:spcPct val="87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0880" y="162000"/>
            <a:ext cx="86058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87000"/>
              </a:lnSpc>
              <a:buNone/>
              <a:tabLst>
                <a:tab algn="l" pos="0"/>
                <a:tab algn="l" pos="3524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884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Generalista di indirizzo (1)</a:t>
            </a: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‏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0720" y="1808280"/>
            <a:ext cx="847584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0">
              <a:lnSpc>
                <a:spcPct val="87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Rientra tra i LAC ed è costituito da  moduli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tipo C)</a:t>
            </a: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 che perseguono i seguenti obiettivi formativi: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6800" indent="0">
              <a:lnSpc>
                <a:spcPct val="87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6800" indent="-426960">
              <a:lnSpc>
                <a:spcPct val="87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onsolidare e approfondire le conoscenze di base e il metodo, caratteristici degli studi specifici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6800" indent="0">
              <a:lnSpc>
                <a:spcPct val="87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6800" indent="-426960">
              <a:lnSpc>
                <a:spcPct val="87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Potenziare la consapevolezza della scelta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0880" y="162000"/>
            <a:ext cx="86058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87000"/>
              </a:lnSpc>
              <a:buNone/>
              <a:tabLst>
                <a:tab algn="l" pos="0"/>
                <a:tab algn="l" pos="3524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884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Generalista di indirizzo (2)</a:t>
            </a: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‏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1807920"/>
            <a:ext cx="8475840" cy="46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0">
              <a:lnSpc>
                <a:spcPct val="87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È riservato agli allievi che al quinto anno hanno già fatto la scelta del corso di studi universitari –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cisi</a:t>
            </a: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 - e che vogliono approfondire le loro conoscenze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6800" indent="0">
              <a:lnSpc>
                <a:spcPct val="87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6800" indent="0">
              <a:lnSpc>
                <a:spcPct val="87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In </a:t>
            </a:r>
            <a:r>
              <a:rPr b="0" lang="en-US" sz="3200" spc="-1" strike="noStrike" u="sng">
                <a:solidFill>
                  <a:srgbClr val="e6e6e6"/>
                </a:solidFill>
                <a:uFillTx/>
                <a:latin typeface="Arial"/>
              </a:rPr>
              <a:t>sintesi </a:t>
            </a: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il percorso generalista di indirizzo ha come finalità prioritaria quella di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creditare le eccellenze</a:t>
            </a: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 per potenziare e promuovere vocazioni agli studi universitari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6800" indent="0">
              <a:lnSpc>
                <a:spcPct val="87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689280" y="5759280"/>
            <a:ext cx="2789280" cy="690840"/>
          </a:xfrm>
          <a:prstGeom prst="rect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LLIEVI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QUINTO ANN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79640" y="2700360"/>
            <a:ext cx="2700360" cy="690480"/>
          </a:xfrm>
          <a:prstGeom prst="rect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EN DI BAS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60360" y="4680000"/>
            <a:ext cx="2340000" cy="430200"/>
          </a:xfrm>
          <a:prstGeom prst="rect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CIS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59640" y="4608360"/>
            <a:ext cx="2340000" cy="430200"/>
          </a:xfrm>
          <a:prstGeom prst="rect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DECIS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86480" y="2592360"/>
            <a:ext cx="2519280" cy="690480"/>
          </a:xfrm>
          <a:prstGeom prst="rect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EN DI BAS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O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00360" y="1619280"/>
            <a:ext cx="2700360" cy="690480"/>
          </a:xfrm>
          <a:prstGeom prst="rect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CCELLENZ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E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79640" y="849240"/>
            <a:ext cx="7559640" cy="401760"/>
          </a:xfrm>
          <a:prstGeom prst="rect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ENERALISTA  DI INDIRIZZO (C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00360" y="109440"/>
            <a:ext cx="2340000" cy="430200"/>
          </a:xfrm>
          <a:prstGeom prst="rect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CEL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440" y="3548160"/>
            <a:ext cx="9899640" cy="1440"/>
          </a:xfrm>
          <a:prstGeom prst="line">
            <a:avLst/>
          </a:prstGeom>
          <a:ln w="93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179280" y="2519280"/>
            <a:ext cx="9899640" cy="1800"/>
          </a:xfrm>
          <a:prstGeom prst="line">
            <a:avLst/>
          </a:prstGeom>
          <a:ln w="93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179280" y="1440000"/>
            <a:ext cx="9899640" cy="1440"/>
          </a:xfrm>
          <a:prstGeom prst="line">
            <a:avLst/>
          </a:prstGeom>
          <a:ln w="93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800440"/>
            <a:ext cx="9000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ff00ff"/>
                </a:solidFill>
                <a:latin typeface="Arial"/>
              </a:rPr>
              <a:t>LO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800360"/>
            <a:ext cx="9000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ff00ff"/>
                </a:solidFill>
                <a:latin typeface="Arial"/>
              </a:rPr>
              <a:t>LE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820800"/>
            <a:ext cx="9000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ff00ff"/>
                </a:solidFill>
                <a:latin typeface="Arial"/>
              </a:rPr>
              <a:t>LA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514600" y="6119640"/>
            <a:ext cx="1092240" cy="180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19280" y="5040360"/>
            <a:ext cx="1800" cy="10792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740720" y="5040360"/>
            <a:ext cx="1440" cy="10792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473880" y="6119640"/>
            <a:ext cx="1272960" cy="180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519280" y="3594240"/>
            <a:ext cx="1800" cy="1092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519280" y="1433520"/>
            <a:ext cx="1800" cy="1092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040360" y="2333520"/>
            <a:ext cx="1440" cy="3432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7740720" y="3414600"/>
            <a:ext cx="1440" cy="1092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740720" y="1433520"/>
            <a:ext cx="1440" cy="1092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0880" y="162000"/>
            <a:ext cx="86058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87000"/>
              </a:lnSpc>
              <a:buNone/>
              <a:tabLst>
                <a:tab algn="l" pos="0"/>
                <a:tab algn="l" pos="3524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884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Valutazione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04520" y="1619280"/>
            <a:ext cx="8475480" cy="50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0">
              <a:lnSpc>
                <a:spcPct val="87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L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alutazione finale di modulo</a:t>
            </a: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 dovrà prevedere due livelli di difficoltà delle prove: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6800" indent="0">
              <a:lnSpc>
                <a:spcPct val="87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6800" indent="-426960">
              <a:lnSpc>
                <a:spcPct val="87000"/>
              </a:lnSpc>
              <a:buSzPct val="100000"/>
              <a:buBlip>
                <a:blip r:embed="rId1"/>
              </a:buBlip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Livello scolastico</a:t>
            </a:r>
            <a:r>
              <a:rPr b="0" i="1" lang="en-US" sz="3200" spc="-1" strike="noStrike">
                <a:solidFill>
                  <a:srgbClr val="e6e6e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- valutabile dalla scuola ai fini del </a:t>
            </a:r>
            <a:r>
              <a:rPr b="0" lang="en-US" sz="3200" spc="-1" strike="noStrike" u="sng">
                <a:solidFill>
                  <a:srgbClr val="e6e6e6"/>
                </a:solidFill>
                <a:uFillTx/>
                <a:latin typeface="Arial"/>
              </a:rPr>
              <a:t>rendimento scolastico</a:t>
            </a: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 (</a:t>
            </a:r>
            <a:r>
              <a:rPr b="0" i="1" lang="en-US" sz="3200" spc="-1" strike="noStrike">
                <a:solidFill>
                  <a:srgbClr val="e6e6e6"/>
                </a:solidFill>
                <a:latin typeface="Arial"/>
              </a:rPr>
              <a:t>moduli tipo B, tipo O</a:t>
            </a: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);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6800" indent="0">
              <a:lnSpc>
                <a:spcPct val="87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6800" indent="-426960">
              <a:lnSpc>
                <a:spcPct val="87000"/>
              </a:lnSpc>
              <a:buSzPct val="100000"/>
              <a:buBlip>
                <a:blip r:embed="rId2"/>
              </a:buBlip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Livello universitario</a:t>
            </a: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 – valutabile dall'università ai fini della certificazione di competenze per l'</a:t>
            </a:r>
            <a:r>
              <a:rPr b="0" lang="en-US" sz="3200" spc="-1" strike="noStrike" u="sng">
                <a:solidFill>
                  <a:srgbClr val="e6e6e6"/>
                </a:solidFill>
                <a:uFillTx/>
                <a:latin typeface="Arial"/>
              </a:rPr>
              <a:t>attribuzione dei crediti </a:t>
            </a:r>
            <a:r>
              <a:rPr b="0" i="1" lang="en-US" sz="3200" spc="-1" strike="noStrike">
                <a:solidFill>
                  <a:srgbClr val="e6e6e6"/>
                </a:solidFill>
                <a:latin typeface="Arial"/>
              </a:rPr>
              <a:t>(moduli tipo C)</a:t>
            </a: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6800" indent="0">
              <a:lnSpc>
                <a:spcPct val="87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2400" y="35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0" algn="ctr">
              <a:lnSpc>
                <a:spcPct val="93000"/>
              </a:lnSpc>
              <a:buNone/>
              <a:tabLst>
                <a:tab algn="l" pos="0"/>
                <a:tab algn="l" pos="209520"/>
                <a:tab algn="l" pos="30312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69592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D.L. Del 14 gennaio 2008 n.21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280" y="1466640"/>
            <a:ext cx="8999640" cy="50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0" algn="just">
              <a:lnSpc>
                <a:spcPct val="93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L'art.1 riporta l'oggetto del D.L.. Esso infatti “</a:t>
            </a:r>
            <a:r>
              <a:rPr b="0" i="1" lang="en-US" sz="3200" spc="-1" strike="noStrike">
                <a:solidFill>
                  <a:srgbClr val="e6e6e6"/>
                </a:solidFill>
                <a:latin typeface="Arial"/>
              </a:rPr>
              <a:t>disciplina la realizzazione dei percorsi di orientamento finalizzati alla scelta dei corsi di laurea universitari e dei corsi dell'alta formazione artistica, musicale e coreutica, la valorizzazione dei risultati  scolastici degli studenti ai fini dell'ammissione ai corsi di laurea nonché il potenziamento e lo sviluppo del raccordo tra le istituzioni scolastiche, le università e le istituzioni dell'alta formazione artistica, musicale e coreutica.”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2400" y="35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0" algn="ctr">
              <a:lnSpc>
                <a:spcPct val="93000"/>
              </a:lnSpc>
              <a:buNone/>
              <a:tabLst>
                <a:tab algn="l" pos="0"/>
                <a:tab algn="l" pos="209520"/>
                <a:tab algn="l" pos="30312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69592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Il quinto anno (1)</a:t>
            </a: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‏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280" y="1618920"/>
            <a:ext cx="89996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0">
              <a:lnSpc>
                <a:spcPct val="93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e6e6e6"/>
                </a:solidFill>
                <a:latin typeface="Arial"/>
              </a:rPr>
              <a:t>I percorsi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iceali</a:t>
            </a:r>
            <a:r>
              <a:rPr b="0" lang="en-US" sz="3600" spc="-1" strike="noStrike">
                <a:solidFill>
                  <a:srgbClr val="e6e6e6"/>
                </a:solidFill>
                <a:latin typeface="Arial"/>
              </a:rPr>
              <a:t> e dell'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struzione tecnica</a:t>
            </a:r>
            <a:r>
              <a:rPr b="0" lang="en-US" sz="3600" spc="-1" strike="noStrike">
                <a:solidFill>
                  <a:srgbClr val="e6e6e6"/>
                </a:solidFill>
                <a:latin typeface="Arial"/>
              </a:rPr>
              <a:t> sviluppano la loro attività didattica in due periodi biennali ed in un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quinto anno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e6e6e6"/>
                </a:solidFill>
                <a:latin typeface="Arial"/>
              </a:rPr>
              <a:t>che prioritariamente completa il percorso disciplinare e prevede altresì l'approfondimento delle conoscenze e delle abilità caratterizzanti il profilo educativo, culturale e professionale del corso di studi.</a:t>
            </a:r>
            <a:endParaRPr b="0" lang="en-US" sz="36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2400" y="35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0" algn="ctr">
              <a:lnSpc>
                <a:spcPct val="93000"/>
              </a:lnSpc>
              <a:buNone/>
              <a:tabLst>
                <a:tab algn="l" pos="0"/>
                <a:tab algn="l" pos="209520"/>
                <a:tab algn="l" pos="30312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69592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Il quinto anno (2)</a:t>
            </a: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‏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280" y="1618920"/>
            <a:ext cx="899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0">
              <a:lnSpc>
                <a:spcPct val="93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I percorsi dell'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truzione professionale</a:t>
            </a: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 sviluppano la loro attività didattica quinquennale  in  un biennio chesi può concludere con un triennio ; noi ci riferiamo al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iennio</a:t>
            </a: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  ed in particolare all'ultimo anno -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quinto anno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he anche in questo caso  prioritariamente completa il percorso disciplinare e prevede altresì l'approfondimento delle conoscenze e delle abilità caratterizzanti il profilo educativo, culturale e professionale del corso di studi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6800" indent="0">
              <a:lnSpc>
                <a:spcPct val="93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93000"/>
              </a:lnSpc>
              <a:buNone/>
              <a:tabLst>
                <a:tab algn="l" pos="0"/>
                <a:tab algn="l" pos="3524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884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e6e6e6"/>
                </a:solidFill>
                <a:latin typeface="Arial"/>
              </a:rPr>
              <a:t>Un progetto “pilota”: il </a:t>
            </a: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Ponte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0000" y="1439640"/>
            <a:ext cx="88376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-426960" algn="just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e6e6e6"/>
                </a:solidFill>
                <a:latin typeface="Arial"/>
              </a:rPr>
              <a:t>Quanto</a:t>
            </a:r>
            <a:r>
              <a:rPr b="0" lang="en-US" sz="2800" spc="-1" strike="noStrike">
                <a:solidFill>
                  <a:srgbClr val="e6e6e6"/>
                </a:solidFill>
                <a:latin typeface="Arial"/>
              </a:rPr>
              <a:t> esposto non può esser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ttività lasciata alla sola buona volontà dei docenti </a:t>
            </a:r>
            <a:r>
              <a:rPr b="0" lang="en-US" sz="2800" spc="-1" strike="noStrike">
                <a:solidFill>
                  <a:srgbClr val="e6e6e6"/>
                </a:solidFill>
                <a:latin typeface="Arial"/>
              </a:rPr>
              <a:t>che si occupano di orientamento all'interno delle singole istituzioni scolastiche, ma assume, nella specifica disposizione normativa, impegno definito e da costruire in comune tra i licei e l'Università.</a:t>
            </a:r>
            <a:endParaRPr b="0" lang="en-US" sz="2800" spc="-1" strike="noStrike">
              <a:solidFill>
                <a:srgbClr val="e6e6e6"/>
              </a:solidFill>
              <a:latin typeface="Arial"/>
            </a:endParaRPr>
          </a:p>
          <a:p>
            <a:pPr marL="496800" indent="0">
              <a:lnSpc>
                <a:spcPct val="93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6e6e6"/>
              </a:solidFill>
              <a:latin typeface="Arial"/>
            </a:endParaRPr>
          </a:p>
          <a:p>
            <a:pPr marL="496800" indent="-426960" algn="just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e6e6e6"/>
                </a:solidFill>
                <a:latin typeface="Arial"/>
              </a:rPr>
              <a:t>Diventa</a:t>
            </a:r>
            <a:r>
              <a:rPr b="0" lang="en-US" sz="2800" spc="-1" strike="noStrike">
                <a:solidFill>
                  <a:srgbClr val="e6e6e6"/>
                </a:solidFill>
                <a:latin typeface="Arial"/>
              </a:rPr>
              <a:t> quindi utile un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getto pilota di organizzazione del quinto anno che sia orientativo e di approfondimento</a:t>
            </a:r>
            <a:r>
              <a:rPr b="0" lang="en-US" sz="2800" spc="-1" strike="noStrike">
                <a:solidFill>
                  <a:srgbClr val="e6e6e6"/>
                </a:solidFill>
                <a:latin typeface="Arial"/>
              </a:rPr>
              <a:t> e che veda, in una prima fase, protagonisti nei loro ruoli specifici, le Istituzioni scolastiche e le Facoltà Universitarie interessate.</a:t>
            </a:r>
            <a:endParaRPr b="0" lang="en-US" sz="28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93000"/>
              </a:lnSpc>
              <a:buNone/>
              <a:tabLst>
                <a:tab algn="l" pos="0"/>
                <a:tab algn="l" pos="3524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884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Finalità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2720" y="1356840"/>
            <a:ext cx="8477280" cy="56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0" algn="just">
              <a:lnSpc>
                <a:spcPct val="93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e6e6e6"/>
                </a:solidFill>
                <a:latin typeface="Arial"/>
              </a:rPr>
              <a:t>Il progetto </a:t>
            </a:r>
            <a:r>
              <a:rPr b="0" i="1" lang="en-US" sz="3600" spc="-1" strike="noStrike">
                <a:solidFill>
                  <a:srgbClr val="e6e6e6"/>
                </a:solidFill>
                <a:latin typeface="Arial"/>
              </a:rPr>
              <a:t>“Ponte...”</a:t>
            </a:r>
            <a:r>
              <a:rPr b="0" lang="en-US" sz="3600" spc="-1" strike="noStrike">
                <a:solidFill>
                  <a:srgbClr val="e6e6e6"/>
                </a:solidFill>
                <a:latin typeface="Arial"/>
              </a:rPr>
              <a:t> rientra nella tipologia dei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getti di ricerca</a:t>
            </a:r>
            <a:r>
              <a:rPr b="0" lang="en-US" sz="3600" spc="-1" strike="noStrike">
                <a:solidFill>
                  <a:srgbClr val="e6e6e6"/>
                </a:solidFill>
                <a:latin typeface="Arial"/>
              </a:rPr>
              <a:t> e pertanto prevede l'interazione della scuola e dell'università che, consapevoli del loro ruolo orientativo, condividono la finalità del progetto, cioè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ttivare un laboratorio per l'innovazione sia nella didattica che nell'organizzazione</a:t>
            </a:r>
            <a:r>
              <a:rPr b="0" lang="en-US" sz="3600" spc="-1" strike="noStrike">
                <a:solidFill>
                  <a:srgbClr val="e6e6e6"/>
                </a:solidFill>
                <a:latin typeface="Arial"/>
              </a:rPr>
              <a:t>,riconoscendosi pari dignità, nel “pensare” e “progettare” la scuola che orienta.</a:t>
            </a:r>
            <a:endParaRPr b="0" lang="en-US" sz="36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0880" y="162000"/>
            <a:ext cx="86058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87000"/>
              </a:lnSpc>
              <a:buNone/>
              <a:tabLst>
                <a:tab algn="l" pos="0"/>
                <a:tab algn="l" pos="3524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884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Lo schema dei percorsi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0000" y="2160360"/>
            <a:ext cx="8475840" cy="46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0">
              <a:lnSpc>
                <a:spcPct val="87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6800" indent="0">
              <a:lnSpc>
                <a:spcPct val="87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6800" indent="0">
              <a:lnSpc>
                <a:spcPct val="87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6800" indent="0" algn="ctr">
              <a:lnSpc>
                <a:spcPct val="87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chema dei percorsi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93000"/>
              </a:lnSpc>
              <a:buNone/>
              <a:tabLst>
                <a:tab algn="l" pos="0"/>
                <a:tab algn="l" pos="3524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884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Percorso A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0720" y="1260000"/>
            <a:ext cx="8477280" cy="56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0" algn="just">
              <a:lnSpc>
                <a:spcPct val="93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e6e6e6"/>
              </a:solidFill>
              <a:latin typeface="Arial"/>
            </a:endParaRPr>
          </a:p>
          <a:p>
            <a:pPr marL="496800" indent="0">
              <a:lnSpc>
                <a:spcPct val="93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e6e6e6"/>
                </a:solidFill>
                <a:latin typeface="Arial"/>
              </a:rPr>
              <a:t>La proposta si riferisce al</a:t>
            </a:r>
            <a:endParaRPr b="0" lang="en-US" sz="3600" spc="-1" strike="noStrike">
              <a:solidFill>
                <a:srgbClr val="e6e6e6"/>
              </a:solidFill>
              <a:latin typeface="Arial"/>
            </a:endParaRPr>
          </a:p>
          <a:p>
            <a:pPr marL="496800" indent="0" algn="ctr">
              <a:lnSpc>
                <a:spcPct val="93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e6e6e6"/>
                </a:solidFill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percorso A</a:t>
            </a:r>
            <a:endParaRPr b="0" lang="en-US" sz="3600" spc="-1" strike="noStrike">
              <a:solidFill>
                <a:srgbClr val="e6e6e6"/>
              </a:solidFill>
              <a:latin typeface="Arial"/>
            </a:endParaRPr>
          </a:p>
          <a:p>
            <a:pPr marL="496800" indent="0" algn="ctr">
              <a:lnSpc>
                <a:spcPct val="93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e6e6e6"/>
                </a:solidFill>
                <a:latin typeface="Arial"/>
              </a:rPr>
              <a:t>(iscrizione degli studenti  all'Università) </a:t>
            </a:r>
            <a:endParaRPr b="0" lang="en-US" sz="3600" spc="-1" strike="noStrike">
              <a:solidFill>
                <a:srgbClr val="e6e6e6"/>
              </a:solidFill>
              <a:latin typeface="Arial"/>
            </a:endParaRPr>
          </a:p>
          <a:p>
            <a:pPr marL="496800" indent="0">
              <a:lnSpc>
                <a:spcPct val="93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e6e6e6"/>
              </a:solidFill>
              <a:latin typeface="Arial"/>
            </a:endParaRPr>
          </a:p>
          <a:p>
            <a:pPr marL="496800" indent="0">
              <a:lnSpc>
                <a:spcPct val="93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e6e6e6"/>
                </a:solidFill>
                <a:latin typeface="Arial"/>
              </a:rPr>
              <a:t>ed è finalizzata a stabilire un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“ponte”</a:t>
            </a:r>
            <a:r>
              <a:rPr b="0" lang="en-US" sz="3600" spc="-1" strike="noStrike">
                <a:solidFill>
                  <a:srgbClr val="e6e6e6"/>
                </a:solidFill>
                <a:latin typeface="Arial"/>
              </a:rPr>
              <a:t> con le facoltà universitarie.</a:t>
            </a:r>
            <a:endParaRPr b="0" lang="en-US" sz="3600" spc="-1" strike="noStrike">
              <a:solidFill>
                <a:srgbClr val="e6e6e6"/>
              </a:solidFill>
              <a:latin typeface="Arial"/>
            </a:endParaRPr>
          </a:p>
          <a:p>
            <a:pPr marL="496800" indent="0" algn="just">
              <a:lnSpc>
                <a:spcPct val="93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ilomena Rocca</dc:creator>
  <dc:description>Presentazione di sviluppo e alternative, consiglio di una o più strategie</dc:description>
  <dc:language>en-US</dc:language>
  <cp:lastModifiedBy>M.I.U.R.</cp:lastModifiedBy>
  <dcterms:modified xsi:type="dcterms:W3CDTF">2010-04-16T14:47:07Z</dcterms:modified>
  <cp:revision>1</cp:revision>
  <dc:subject/>
  <dc:title>Consiglio di strategia</dc:title>
</cp:coreProperties>
</file>