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AB92-0F07-4A94-B63E-F9B65C91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38D2E-357A-4570-9C6A-3D32CC67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E21BB-BE24-4BF1-9AE4-C508D095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0930-37BA-4FC8-9D5B-DF24F477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99BB-73E8-4BCF-AFFE-9A756C69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76F9-C431-48EA-B3B4-D3A40C4A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9663-9361-4321-A6EB-BEC25932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EE61-ACD0-4406-98A3-779360F8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D8E7-4AE5-4907-A95A-C9991D69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04BC-6A21-41F1-BB34-F69C8458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C825-B941-4E3C-BDA6-E03D615C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C710-842D-453A-AE65-66BB18BF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4F65-39D5-4DA1-B86A-02B63536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9514-8CBF-4B8F-B592-647373C9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F50D-9ECC-4E5C-A6B0-1345F5CA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CE48-0FC3-4BB4-ACDF-26DFB0F7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66E8-5793-4C9C-BFBC-F9572E2F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736B7-6AAA-4CE7-AA0C-1F2F5985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2AD6E-48C5-4D65-9E95-618D83DC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BCDEC-42B9-4D7C-B1FE-C125CD38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74B37-D8EB-4476-9648-C2633FF7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92DA3-3DC2-4C0C-B382-4C9E3EEE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95CE6-55FA-4698-B1D0-2F2F4717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87987-4B47-493F-8D6F-3B74CF9E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A8E8-463D-46D9-BC38-F6891EB478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8B39-8D30-4A52-BD7D-C3A2909DDC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184464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l rapporto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 il mentor e il dirig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9640" y="4267080"/>
            <a:ext cx="845208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fficio Scolastico Regionale per le Mar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ima Giornata di Formazione Dirigenti Scolastici Neoassu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cona 15 gennaio 2013               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Alessandra Di Emi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ferente Regionale USR Ma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carattaristiche di un buon men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 cosa avreste avuto bisogno al vostro primo anno di dirigen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 livello di supporto nelle conoscenz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 livello di supporto “emotiv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ANd9GcQaKqecPmrgl3vASg_NkpuFRbUXO-KC4kZv9-J0UrfhQPKu0dc2ZA"/>
          <p:cNvPicPr/>
          <p:nvPr/>
        </p:nvPicPr>
        <p:blipFill>
          <a:blip r:embed="rId1"/>
          <a:stretch/>
        </p:blipFill>
        <p:spPr>
          <a:xfrm>
            <a:off x="6588000" y="42926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o un nostro mod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 livello di conoscen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dividere il frame work della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school leadership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ondivisa nel proget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oscere il sistema educativo con le sue priorità e le necessità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 livello di capacità persona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per osservare secondo indicatori stabiliti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sere un punto di riferimento per il proprio dirigente almeno per il primo an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sere supportivo nei momenti in cui il dirigente sente più forte le ansie relative alla gestione dei conflitti, alla presa in carico del rischio e alla responsabilità del ruo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vere competenze comunicative e promuovere una conversazione aperta al supporto profession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vere capacità nel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problem solvin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pianificazione e raggiungimento degli obiettiv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 livello di obiettivi 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visio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upportare i principi di inclusione, diversità ed equit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sere orientato ad una visione del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lifelong learner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erificare che i dirigenti siano focalizzati sullo sviluppo degli apprendimenti degli studenti e il loro benessere (obiettivo central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Le fasi dello sviluppo del rapporto tra mentor e dirig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oscenza reciproc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finizione dei ruoli e del sett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dentificazione dei bisogni del dirigente (aree prevalenti di necessità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finizione del piano di lav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finizione degli obiettivi e criteri di descrizione del percor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enze del DS prioritarie da sviluppa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trumentali: cioè quelle giuridico-istituzionali, gestione dei rapporti contrattuali e sindacali, capacità di sviluppare re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rganizzative: competenze di pianificazione, gestione, controllo e valutazione. Gestione dell’organizzazione per la creazione di un ambiente di apprendimento sicuro e funzion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’importanza dei fattori person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 di autoefficaci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pendenz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ione dei conflitt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ione della responsabilità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à di comunicazione-flus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567240" y="2685960"/>
            <a:ext cx="20095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autoefficacia2"/>
          <p:cNvPicPr/>
          <p:nvPr/>
        </p:nvPicPr>
        <p:blipFill>
          <a:blip r:embed="rId1"/>
          <a:stretch/>
        </p:blipFill>
        <p:spPr>
          <a:xfrm>
            <a:off x="6629400" y="4991040"/>
            <a:ext cx="25146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quattro macroaree da sviluppare/osserv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ONDURRE UNA POLITICA D’ISTITUTO AL SERVIZIO DEL BUON ESITO DEL PERCORSO DEGLI ALUNN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ORGANIZZARE, CONDURRE, GESTIRE L'INSIEME DELLE RISORSE UMANE DELL’ISTITU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SSICURARE I LEGAMI CON IL CONTE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MMINISTRARE L’ISTITU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zie per la cortese atten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essandra.diemidio@istruzione.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collaborazione"/>
          <p:cNvPicPr/>
          <p:nvPr/>
        </p:nvPicPr>
        <p:blipFill>
          <a:blip r:embed="rId1"/>
          <a:stretch/>
        </p:blipFill>
        <p:spPr>
          <a:xfrm>
            <a:off x="1258920" y="4076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000000"/>
                </a:solidFill>
                <a:latin typeface="Arial"/>
              </a:rPr>
              <a:t>Gli induction programme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corsi formativi indirizzati ai nuovi assunti con lo scopo di sviluppare  le competenze  richieste dalla nuova posizione e facilitare la socializzazione nella nuova organizzazi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ove: Austria, Irlanda, Nuova Zelanda, Svezia, Inghilterra, Scozia e Irlanda del N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ANd9GcSxNErGZls3yoyx9Aouspx5rppVFsa_e6AD4pzIXXgivipkdhA0"/>
          <p:cNvPicPr/>
          <p:nvPr/>
        </p:nvPicPr>
        <p:blipFill>
          <a:blip r:embed="rId1"/>
          <a:stretch/>
        </p:blipFill>
        <p:spPr>
          <a:xfrm>
            <a:off x="6804000" y="333360"/>
            <a:ext cx="20955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uti:formazione su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petenze legislative, finanziarie e gestionali &amp; l’accompagnamento di un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mentor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 primo (talvolta il secondo) anno di servizio dei nuovi assunt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mentor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è riconosciuto come la parte più importante del programma di formazione per i nuovi DS in Inghilterra (Luck, 2003)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li obiettivi del ment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lla formazione dei 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reazione di rete tra dirigenti per la formazione di network tra scuol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centivare una leadership finalizzata all’apprendimen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r familiarizzare i nuovi dirigenti con le loro responsabilità all’interno del sistema scolastic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upportare e guidare i nuovi dirigenti all’interno del proprio contesto specific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ANd9GcSR-NZ64Cbm-NMw-Mirurtu7M56qsxIQAjHxWHoorzgYxdQ4TL4hg"/>
          <p:cNvPicPr/>
          <p:nvPr/>
        </p:nvPicPr>
        <p:blipFill>
          <a:blip r:embed="rId1"/>
          <a:stretch/>
        </p:blipFill>
        <p:spPr>
          <a:xfrm>
            <a:off x="6227640" y="333360"/>
            <a:ext cx="25527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igura che partecipa ad processo in una relazione in cui un individuo con più esperienza offre supporto ed assistenza ad uno che ne ha men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atura anche direttiva, di passaggio di competenze ed indicazioni per raggiungere gli obietti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000000"/>
                </a:solidFill>
                <a:latin typeface="Arial"/>
              </a:rPr>
              <a:t>Il mentor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809880" y="2514600"/>
            <a:ext cx="1524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809880" y="2514600"/>
            <a:ext cx="1524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mentor"/>
          <p:cNvPicPr/>
          <p:nvPr/>
        </p:nvPicPr>
        <p:blipFill>
          <a:blip r:embed="rId1"/>
          <a:stretch/>
        </p:blipFill>
        <p:spPr>
          <a:xfrm>
            <a:off x="6659640" y="476280"/>
            <a:ext cx="1523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l c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uolo che stimola un’attività più riflessiva, un processo di auto-consapevolezza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imola maggiormente un atteggiamento tra pari,non diret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ccompagnamento ai nuovi DS: un modello tra mentoring e coach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ANd9GcQz_wm36ZD6FPnENBU-hshhJTvbgDRB2tNqEdtjNhlqNCdZW_8SeA"/>
          <p:cNvPicPr/>
          <p:nvPr/>
        </p:nvPicPr>
        <p:blipFill>
          <a:blip r:embed="rId1"/>
          <a:stretch/>
        </p:blipFill>
        <p:spPr>
          <a:xfrm>
            <a:off x="6443640" y="189000"/>
            <a:ext cx="24480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rapporto mentor-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apporto di fiduci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entrata sui bisogni di apprendimento del dirigen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uoli condivisi ed aspettative esplic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biettivi condivisi insie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iano di lavoro concordat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lla dipendenza all’indipenden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ANd9GcT_da4wtWSlezks95aOwnOCMlVuoED1M6ebFzovf_tA0tJ_qktv3w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relazione che evolv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quattro fasi di socializzazion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O’Mahony e Matthews,2003)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dealizzazione iniziale (con a volte richieste eccessive o frequenti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mmersione nel rapporto e nella conoscenza reciproca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abilità con la definizione concreta dei ruoli e delle aspettative reciproch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solid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omunicazione che camb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zialmen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formale, ma semplice: maggiori richieste di risposte istantanee a bisogni specifici tramite mail o telefonat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’intensificarsi delle interazioni: richieste più sulle competenze di leade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definizione dei ruoli che divengono meno asimmetric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14:07:11Z</dcterms:created>
  <dc:creator>Sara</dc:creator>
  <dc:description/>
  <dc:language>en-US</dc:language>
  <cp:lastModifiedBy>M.I.U.R.</cp:lastModifiedBy>
  <dcterms:modified xsi:type="dcterms:W3CDTF">2013-01-16T14:07:09Z</dcterms:modified>
  <cp:revision>32</cp:revision>
  <dc:subject/>
  <dc:title>Il rapporto tra mentor e dirigente</dc:title>
</cp:coreProperties>
</file>