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59D6-EE0F-4A13-A50B-1D40B894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36E7-EC75-43EE-89EC-9DB26BBA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03D6-A4A4-46C3-905A-BDC11892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E84C-0364-44E6-8C85-BF44964C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2FA4-29A0-4D27-9AC4-0C101052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674-5DD4-4A4D-8EE2-478F1170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6FA-B259-42B4-B6E6-0CB5B9CC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4228-1513-47BE-88DF-BAE8796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EEBF-8EFE-458B-88E0-05B98E70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9D58-3095-42A0-82CD-FCDB2A4C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4301-DF03-4A73-9601-AB995FEC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ECA1-818A-4DBC-AAB5-74CDDC6B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3C63-E147-40B8-A333-26650DD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3E1-1161-4285-BCF2-B05F4E2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87B-3207-487D-982B-9515E04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9D7D-CFB2-46CB-8FE7-0E3EA53C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5A54-F1E0-4BC0-9FB2-954C7A09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3E65-0DD2-4429-8980-91052DEC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945F-DE97-4E37-BEA6-A5A50320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DAAD-BF5D-4A93-832A-670956BF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00E3-A005-4738-B10A-074AAF0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B7BD-9445-4070-8A41-FAC9C8A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F0F8-B16E-4D3C-9455-F9BCC05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CAB4-4B27-4EC2-B654-1F1FC72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4F4-29FF-46B1-907F-4360F912823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6EB-C519-4C24-BAD2-177E3CB9923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564000" y="1628280"/>
            <a:ext cx="525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9999ff"/>
                </a:solidFill>
                <a:latin typeface="Arial"/>
              </a:rPr>
              <a:t>DAL PROCESSO DI AUTOVALUTAZI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9999ff"/>
                </a:solidFill>
                <a:latin typeface="Arial"/>
              </a:rPr>
              <a:t>AL RAPPORTO DI AUTOVALUTAZI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581360"/>
            <a:ext cx="845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ficio Scolastico Regionale per le Ma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ma Giornata di Formazione Dirigenti Scolastici Neoass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ona, 15 Gennaio 201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Stefania Mar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rigente m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Segnaposto contenuto 2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70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Segnaposto contenuto 2" descr=""/>
          <p:cNvPicPr/>
          <p:nvPr/>
        </p:nvPicPr>
        <p:blipFill>
          <a:blip r:embed="rId1"/>
          <a:stretch/>
        </p:blipFill>
        <p:spPr>
          <a:xfrm>
            <a:off x="328680" y="858960"/>
            <a:ext cx="848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2421000"/>
            <a:ext cx="8229600" cy="3960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a valutazione interna è affidata a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scolastic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collaborazione con un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ucleo di autovalu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mposizione del Nucleo può essere differenziata a seconda delle situazioni e delle modalità di analisi che si intendono intraprend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4"/>
          <p:cNvSpPr/>
          <p:nvPr/>
        </p:nvSpPr>
        <p:spPr>
          <a:xfrm>
            <a:off x="611280" y="6922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hi gestisce il processo di autovalutazione interno alla scuo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800" y="620640"/>
            <a:ext cx="7989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Quali caratteristiche dovrebbe avere il processo autovalutativ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Situat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attento alle peculiarità dell’istituzione scolastica, al contesto socio-ambientale e cultural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Plural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fondato su una molteplicità di evidenze, quantitative e qualitative, in grado di restituire le diverse prospettive di analis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Partecipat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promosso dalle diverse componenti scolastiche, pur nella chiarezza dei ruoli e delle responsabilità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Orientat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orientato allo sviluppo del piano di miglioramento, il quale rappresenta il banco di prova dell’efficacia stessa del processo autovalutativ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Quali sono gli strumenti a disposizi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1341000"/>
            <a:ext cx="8362800" cy="525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princip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rumenti per l’elaborazione del RA son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2349360"/>
          <a:ext cx="7632720" cy="179892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 algn="ctr"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uola in chi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ati prove Inval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11280" y="4508640"/>
          <a:ext cx="7777080" cy="200952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20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Questionario scu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trumenti di autovalutazione della scu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147" name="Freccia in giù 5"/>
          <p:cNvSpPr/>
          <p:nvPr/>
        </p:nvSpPr>
        <p:spPr>
          <a:xfrm>
            <a:off x="1258920" y="393372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ccia in giù 6"/>
          <p:cNvSpPr/>
          <p:nvPr/>
        </p:nvSpPr>
        <p:spPr>
          <a:xfrm rot="10800000">
            <a:off x="7451280" y="393372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ome interpretare l’insieme dei dati disponibili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700280"/>
            <a:ext cx="8229600" cy="4354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Il format del RA costituisce la chiave di lettura attraverso cui portare a sintesi i dati a disposizion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llo scopo di garantire il necessario rigore al processo interpretativo è opportuno argomentare i giudizi, in positivo o in negativo, precisando a quali evidenze ci si riferisce e quale lettura se ne fornisce. Il RA è finalizzato allo sviluppo di un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Piano di miglioramento della scuo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265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me prefigurare il piano di miglioramento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557000"/>
            <a:ext cx="8156520" cy="5040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iano di miglioramento scaturisce dalla lettura critica della realtà scolastica e,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questa prima fase, si sostanzia nella individuazione di alcuni obiettivi strategic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sviluppo e nella precisazione di alcuni traguardi attesi. Le priorità forniscono le direzioni di marcia su cui sviluppare il piano di miglioramento: è importante evidenziarne la loro valenza strategica e scegliere con cura le linee di lavoro su cui focalizzare l’attenzione (massimo tre o quattro). I risultati attesi richiedono di essere espressi in termini misurabili e controllabili, facendo riferimento a indicat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Chi definisce gli obiettivi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1280" y="1628640"/>
            <a:ext cx="8291520" cy="489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obiettivi da raggiungere scaturiscono dal processo di autovalutazione e sono esplicitamente indicati nel Rapporto;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engono proposti dal Dirigente scolastico al Direttore dell’Ufficio Scolastico Regionale per la loro effettiva definizione e la conseguente assegnazione contrattu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La definizione negoziata degli obiettivi, fra Dirigente scolastico e Direttore USR, intende evidenziare l’importanza del ruolo del Dirigente scolastico e la sua responsabilità verso i risultati concorda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Quanti sono gli obiettivi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Gli obiettivi devono essere pochi, chiari, rilevanti, misurabili e valutabil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obiettivi riferiti agli es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obiettivi riferiti ai proce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È comunque consigliabile attestarsi su pochi obiettivi (n. 3 o 4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videntemente si tratterà di mettere  in relazione gli obiettivi di esito e quelli di processo, in relazione alla specifica situazione della scuo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Segnaposto contenuto 2" descr=""/>
          <p:cNvPicPr/>
          <p:nvPr/>
        </p:nvPicPr>
        <p:blipFill>
          <a:blip r:embed="rId1"/>
          <a:stretch/>
        </p:blipFill>
        <p:spPr>
          <a:xfrm>
            <a:off x="328680" y="646200"/>
            <a:ext cx="8559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0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   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QUADRO DI RIFERIMENTO</a:t>
            </a:r>
            <a:br>
              <a:rPr sz="4000"/>
            </a:b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   -1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Mettere a disposizione di ogni dirigente scolastico</a:t>
            </a:r>
            <a:r>
              <a:rPr b="1" lang="it-IT" sz="2800" spc="-1" strike="noStrike">
                <a:solidFill>
                  <a:srgbClr val="595959"/>
                </a:solidFill>
                <a:latin typeface="Arial"/>
              </a:rPr>
              <a:t> un sistema organico di dati sulle singole istituzioni scolastiche,</a:t>
            </a: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 una serie di indicatori specifici con un </a:t>
            </a:r>
            <a:r>
              <a:rPr b="0" i="1" lang="it-IT" sz="2800" spc="-1" strike="noStrike">
                <a:solidFill>
                  <a:srgbClr val="595959"/>
                </a:solidFill>
                <a:latin typeface="Arial"/>
              </a:rPr>
              <a:t>benchmark</a:t>
            </a: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 di riferimento, per effettuare una diagnosi sulla propria scu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(Fascicolo “</a:t>
            </a:r>
            <a:r>
              <a:rPr b="1" lang="it-IT" sz="2800" spc="-1" strike="noStrike">
                <a:solidFill>
                  <a:srgbClr val="595959"/>
                </a:solidFill>
                <a:latin typeface="Arial"/>
              </a:rPr>
              <a:t>Scuola in chiaro”/ </a:t>
            </a: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dati</a:t>
            </a:r>
            <a:r>
              <a:rPr b="1" lang="it-IT" sz="2800" spc="-1" strike="noStrike">
                <a:solidFill>
                  <a:srgbClr val="595959"/>
                </a:solidFill>
                <a:latin typeface="Arial"/>
              </a:rPr>
              <a:t> Invalsi</a:t>
            </a:r>
            <a:r>
              <a:rPr b="0" lang="it-IT" sz="28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11280" y="549360"/>
          <a:ext cx="7993080" cy="6119640"/>
        </p:xfrm>
        <a:graphic>
          <a:graphicData uri="http://schemas.openxmlformats.org/drawingml/2006/table">
            <a:tbl>
              <a:tblPr/>
              <a:tblGrid>
                <a:gridCol w="3894120"/>
                <a:gridCol w="4098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NALI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LA SITU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 RA è sostanzialmente composto da due parti. Nella prima parte si chiede al dirigente di selezionare una serie di informazioni e di dati per leggere la propria situazione e per definire, nella seconda parte, gli obiettivi di miglior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60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OBIETTI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MIGLIORAM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Segnaposto contenuto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656320"/>
          </a:xfrm>
          <a:prstGeom prst="rect">
            <a:avLst/>
          </a:prstGeom>
          <a:ln w="0">
            <a:noFill/>
          </a:ln>
        </p:spPr>
      </p:pic>
      <p:sp>
        <p:nvSpPr>
          <p:cNvPr id="160" name="CasellaDiTesto 2"/>
          <p:cNvSpPr/>
          <p:nvPr/>
        </p:nvSpPr>
        <p:spPr>
          <a:xfrm>
            <a:off x="39528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.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. OBIETTIVI DI MIGLI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268280"/>
          <a:ext cx="8351640" cy="5185080"/>
        </p:xfrm>
        <a:graphic>
          <a:graphicData uri="http://schemas.openxmlformats.org/drawingml/2006/table">
            <a:tbl>
              <a:tblPr/>
              <a:tblGrid>
                <a:gridCol w="3527280"/>
                <a:gridCol w="4824360"/>
              </a:tblGrid>
              <a:tr h="350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BIETTIVI DI MIGLIORA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375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li prospettive (nei prossimi anni) per il miglioramento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li obiettivi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li sono i risultati attesi per i prossimi ann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li indicatori? Benchmark e targe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ché questi obiettivi in relazione alle risultanze dell’autovalutazion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di </a:t>
                      </a:r>
                      <a:r>
                        <a:rPr b="1" lang="it-IT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TABELLA  4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 linee gu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7375e"/>
                    </a:solidFill>
                  </a:tcPr>
                </a:tc>
              </a:tr>
              <a:tr h="16797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A METODOLO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 chi è stato elaborato il rapport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013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dicazioni operative per la stesura del 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981000"/>
            <a:ext cx="8569080" cy="5688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1 . Analisi contesto/ris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la Tabella 1 per cercare di individuare, delineare e documentare, i caratteri salienti del contesto di riferimento in forma descrit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alisi dei proc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are la Tabella 2 per individuare i punti di forza e di debolezza attraverso una scala di valutazione . A seguito si chiede al Dirigente di individuare 2 punti di particolare forza e 2 punti di particolare debolezza su cui puntare l’attenzione e articolare meg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. Analisi degli es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ferirsi alla Tabella 3 in cui si definiscono degli indicatori strategici di riferimento con dati messi a disposizione da Invalsi e Scuola in Chiaro. Si chiede di individuare i punti su cui si intende porre l’attenzione per il miglioramento del serviz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4.  Obiettivi di miglio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riferimento alla tabella  4 si chiede di individuare alcuni obiettivi di miglioramento e di argomentare il collegamento fra la scelta degli obiettivi e l’analisi evidenziata nei punti prece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hema riassuntivo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Segnaposto contenuto 3" descr=""/>
          <p:cNvPicPr/>
          <p:nvPr/>
        </p:nvPicPr>
        <p:blipFill>
          <a:blip r:embed="rId1"/>
          <a:stretch/>
        </p:blipFill>
        <p:spPr>
          <a:xfrm>
            <a:off x="176040" y="1481040"/>
            <a:ext cx="80726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nalisi degli es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4"/>
          <p:cNvSpPr/>
          <p:nvPr/>
        </p:nvSpPr>
        <p:spPr>
          <a:xfrm>
            <a:off x="787320" y="2489040"/>
            <a:ext cx="7543800" cy="39880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0"/>
          <p:cNvSpPr/>
          <p:nvPr/>
        </p:nvSpPr>
        <p:spPr>
          <a:xfrm>
            <a:off x="857160" y="3537000"/>
            <a:ext cx="2424240" cy="9126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etenze acqui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10"/>
          <p:cNvSpPr/>
          <p:nvPr/>
        </p:nvSpPr>
        <p:spPr>
          <a:xfrm>
            <a:off x="870120" y="2558880"/>
            <a:ext cx="2423880" cy="91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ccesso scola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10"/>
          <p:cNvSpPr/>
          <p:nvPr/>
        </p:nvSpPr>
        <p:spPr>
          <a:xfrm>
            <a:off x="857160" y="4527720"/>
            <a:ext cx="2424240" cy="9126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quità degli es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10"/>
          <p:cNvSpPr/>
          <p:nvPr/>
        </p:nvSpPr>
        <p:spPr>
          <a:xfrm>
            <a:off x="857160" y="5505480"/>
            <a:ext cx="2424240" cy="91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ultati a d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sellaDiTesto 12"/>
          <p:cNvSpPr/>
          <p:nvPr/>
        </p:nvSpPr>
        <p:spPr>
          <a:xfrm>
            <a:off x="3720960" y="5638680"/>
            <a:ext cx="44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 è la riuscita degli studenti una volta usciti dalla scuo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sellaDiTesto 13"/>
          <p:cNvSpPr/>
          <p:nvPr/>
        </p:nvSpPr>
        <p:spPr>
          <a:xfrm>
            <a:off x="3746520" y="4559400"/>
            <a:ext cx="46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e disparità di rendimento tra alunni crescono o diminuiscono nel tempo? Sono concentrate in alcune classi / indirizz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ccia a destra 14"/>
          <p:cNvSpPr/>
          <p:nvPr/>
        </p:nvSpPr>
        <p:spPr>
          <a:xfrm>
            <a:off x="3378240" y="491508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ccia a destra 15"/>
          <p:cNvSpPr/>
          <p:nvPr/>
        </p:nvSpPr>
        <p:spPr>
          <a:xfrm>
            <a:off x="3378240" y="59054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ccia a destra 16"/>
          <p:cNvSpPr/>
          <p:nvPr/>
        </p:nvSpPr>
        <p:spPr>
          <a:xfrm>
            <a:off x="3365640" y="3949560"/>
            <a:ext cx="317520" cy="10188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ccia a destra 17"/>
          <p:cNvSpPr/>
          <p:nvPr/>
        </p:nvSpPr>
        <p:spPr>
          <a:xfrm>
            <a:off x="3403440" y="29336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sellaDiTesto 18"/>
          <p:cNvSpPr/>
          <p:nvPr/>
        </p:nvSpPr>
        <p:spPr>
          <a:xfrm>
            <a:off x="3936960" y="269244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La scuola riesce ad assicurare il successo scolastico dei suoi stud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e 19"/>
          <p:cNvSpPr/>
          <p:nvPr/>
        </p:nvSpPr>
        <p:spPr>
          <a:xfrm>
            <a:off x="1003320" y="1930320"/>
            <a:ext cx="2070000" cy="419040"/>
          </a:xfrm>
          <a:prstGeom prst="ellips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e 20"/>
          <p:cNvSpPr/>
          <p:nvPr/>
        </p:nvSpPr>
        <p:spPr>
          <a:xfrm>
            <a:off x="4394160" y="1917720"/>
            <a:ext cx="3378240" cy="482760"/>
          </a:xfrm>
          <a:prstGeom prst="ellips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o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21"/>
          <p:cNvSpPr/>
          <p:nvPr/>
        </p:nvSpPr>
        <p:spPr>
          <a:xfrm>
            <a:off x="3911760" y="367020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competenze acquisiscono gli allievi nella loro carriera scolast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nalisi del cont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tangolo 4"/>
          <p:cNvSpPr/>
          <p:nvPr/>
        </p:nvSpPr>
        <p:spPr>
          <a:xfrm>
            <a:off x="787320" y="2489040"/>
            <a:ext cx="7543800" cy="39880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10"/>
          <p:cNvSpPr/>
          <p:nvPr/>
        </p:nvSpPr>
        <p:spPr>
          <a:xfrm>
            <a:off x="857160" y="3537000"/>
            <a:ext cx="2424240" cy="912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pitale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10"/>
          <p:cNvSpPr/>
          <p:nvPr/>
        </p:nvSpPr>
        <p:spPr>
          <a:xfrm>
            <a:off x="870120" y="2558880"/>
            <a:ext cx="2423880" cy="912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10"/>
          <p:cNvSpPr/>
          <p:nvPr/>
        </p:nvSpPr>
        <p:spPr>
          <a:xfrm>
            <a:off x="857160" y="4527720"/>
            <a:ext cx="2424240" cy="912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orse econom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mate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10"/>
          <p:cNvSpPr/>
          <p:nvPr/>
        </p:nvSpPr>
        <p:spPr>
          <a:xfrm>
            <a:off x="857160" y="5505480"/>
            <a:ext cx="2424240" cy="9129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orse 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2"/>
          <p:cNvSpPr/>
          <p:nvPr/>
        </p:nvSpPr>
        <p:spPr>
          <a:xfrm>
            <a:off x="3720960" y="5638680"/>
            <a:ext cx="44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le caratteristiche del personale (es. età, stabilità nella scuola, titoli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13"/>
          <p:cNvSpPr/>
          <p:nvPr/>
        </p:nvSpPr>
        <p:spPr>
          <a:xfrm>
            <a:off x="3746520" y="4559400"/>
            <a:ext cx="46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e la qualità delle strutture e infrastrutture della scuola? Quali le risorse economiche disponib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ccia a destra 14"/>
          <p:cNvSpPr/>
          <p:nvPr/>
        </p:nvSpPr>
        <p:spPr>
          <a:xfrm>
            <a:off x="3378240" y="491508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ccia a destra 15"/>
          <p:cNvSpPr/>
          <p:nvPr/>
        </p:nvSpPr>
        <p:spPr>
          <a:xfrm>
            <a:off x="3378240" y="59054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ccia a destra 16"/>
          <p:cNvSpPr/>
          <p:nvPr/>
        </p:nvSpPr>
        <p:spPr>
          <a:xfrm>
            <a:off x="3365640" y="3949560"/>
            <a:ext cx="317520" cy="10188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ccia a destra 17"/>
          <p:cNvSpPr/>
          <p:nvPr/>
        </p:nvSpPr>
        <p:spPr>
          <a:xfrm>
            <a:off x="3403440" y="29336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8"/>
          <p:cNvSpPr/>
          <p:nvPr/>
        </p:nvSpPr>
        <p:spPr>
          <a:xfrm>
            <a:off x="3936960" y="269244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quali peculiarità si caratterizza il territorio in cui è collocata la scuo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e 19"/>
          <p:cNvSpPr/>
          <p:nvPr/>
        </p:nvSpPr>
        <p:spPr>
          <a:xfrm>
            <a:off x="1003320" y="1930320"/>
            <a:ext cx="2070000" cy="41904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e 20"/>
          <p:cNvSpPr/>
          <p:nvPr/>
        </p:nvSpPr>
        <p:spPr>
          <a:xfrm>
            <a:off x="4394160" y="1917720"/>
            <a:ext cx="3378240" cy="48276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o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sellaDiTesto 21"/>
          <p:cNvSpPr/>
          <p:nvPr/>
        </p:nvSpPr>
        <p:spPr>
          <a:xfrm>
            <a:off x="3911760" y="3670200"/>
            <a:ext cx="40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risorse e competenze utili per la scuola sono presenti nel territo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nalisi dei processi: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ratiche educative e didat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ttangolo 4"/>
          <p:cNvSpPr/>
          <p:nvPr/>
        </p:nvSpPr>
        <p:spPr>
          <a:xfrm>
            <a:off x="787320" y="2489040"/>
            <a:ext cx="7823160" cy="410220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10"/>
          <p:cNvSpPr/>
          <p:nvPr/>
        </p:nvSpPr>
        <p:spPr>
          <a:xfrm>
            <a:off x="844560" y="255888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sellaDiTesto 12"/>
          <p:cNvSpPr/>
          <p:nvPr/>
        </p:nvSpPr>
        <p:spPr>
          <a:xfrm>
            <a:off x="3822840" y="4838760"/>
            <a:ext cx="44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Quali percorsi sono progettati per singoli o gruppi di studenti che necessitano di particolare attenzi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sellaDiTesto 13"/>
          <p:cNvSpPr/>
          <p:nvPr/>
        </p:nvSpPr>
        <p:spPr>
          <a:xfrm>
            <a:off x="3784680" y="4203720"/>
            <a:ext cx="463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ome sono le relazioni tra studenti e insegnanti? E quelle tra studen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ccia a destra 14"/>
          <p:cNvSpPr/>
          <p:nvPr/>
        </p:nvSpPr>
        <p:spPr>
          <a:xfrm>
            <a:off x="3378240" y="438156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ccia a destra 15"/>
          <p:cNvSpPr/>
          <p:nvPr/>
        </p:nvSpPr>
        <p:spPr>
          <a:xfrm>
            <a:off x="3378240" y="525780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ccia a destra 16"/>
          <p:cNvSpPr/>
          <p:nvPr/>
        </p:nvSpPr>
        <p:spPr>
          <a:xfrm>
            <a:off x="3365640" y="3632040"/>
            <a:ext cx="317520" cy="10188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ccia a destra 17"/>
          <p:cNvSpPr/>
          <p:nvPr/>
        </p:nvSpPr>
        <p:spPr>
          <a:xfrm>
            <a:off x="3403440" y="29336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sellaDiTesto 18"/>
          <p:cNvSpPr/>
          <p:nvPr/>
        </p:nvSpPr>
        <p:spPr>
          <a:xfrm>
            <a:off x="3873600" y="2648880"/>
            <a:ext cx="431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l curricolo di scuola risponde ai bisogni formativi degli studen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e 19"/>
          <p:cNvSpPr/>
          <p:nvPr/>
        </p:nvSpPr>
        <p:spPr>
          <a:xfrm>
            <a:off x="1003320" y="1930320"/>
            <a:ext cx="2070000" cy="419040"/>
          </a:xfrm>
          <a:prstGeom prst="ellipse">
            <a:avLst/>
          </a:prstGeom>
          <a:solidFill>
            <a:srgbClr val="677f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e 20"/>
          <p:cNvSpPr/>
          <p:nvPr/>
        </p:nvSpPr>
        <p:spPr>
          <a:xfrm>
            <a:off x="4394160" y="1917720"/>
            <a:ext cx="3378240" cy="482760"/>
          </a:xfrm>
          <a:prstGeom prst="ellipse">
            <a:avLst/>
          </a:prstGeom>
          <a:solidFill>
            <a:srgbClr val="677f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o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sellaDiTesto 21"/>
          <p:cNvSpPr/>
          <p:nvPr/>
        </p:nvSpPr>
        <p:spPr>
          <a:xfrm>
            <a:off x="3822840" y="3352680"/>
            <a:ext cx="441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ome è strutturata la progettazione didattica? Come sono valutati gli apprendimenti degli studenti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0"/>
          <p:cNvSpPr/>
          <p:nvPr/>
        </p:nvSpPr>
        <p:spPr>
          <a:xfrm>
            <a:off x="844560" y="332100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10"/>
          <p:cNvSpPr/>
          <p:nvPr/>
        </p:nvSpPr>
        <p:spPr>
          <a:xfrm>
            <a:off x="831960" y="4095720"/>
            <a:ext cx="242388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viluppo della rel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ducativa e tra p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10"/>
          <p:cNvSpPr/>
          <p:nvPr/>
        </p:nvSpPr>
        <p:spPr>
          <a:xfrm>
            <a:off x="844560" y="4896000"/>
            <a:ext cx="2424240" cy="69192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clusione, integrazio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fferenzi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10"/>
          <p:cNvSpPr/>
          <p:nvPr/>
        </p:nvSpPr>
        <p:spPr>
          <a:xfrm>
            <a:off x="857160" y="569592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tinuità e orien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1101240" y="2541600"/>
            <a:ext cx="193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ezione saperi, scel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urricolari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fferta form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977760" y="3439440"/>
            <a:ext cx="223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ettazione didat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 valutazione stud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ccia a destra 26"/>
          <p:cNvSpPr/>
          <p:nvPr/>
        </p:nvSpPr>
        <p:spPr>
          <a:xfrm>
            <a:off x="3403440" y="596916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asellaDiTesto 28"/>
          <p:cNvSpPr/>
          <p:nvPr/>
        </p:nvSpPr>
        <p:spPr>
          <a:xfrm>
            <a:off x="3809880" y="5765760"/>
            <a:ext cx="44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 che modo la scuola garantisce la continuità educativa per gli studen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8758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alisi dei processi: ambiente organizzativo per 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ttangolo 4"/>
          <p:cNvSpPr/>
          <p:nvPr/>
        </p:nvSpPr>
        <p:spPr>
          <a:xfrm>
            <a:off x="787320" y="2489040"/>
            <a:ext cx="7543800" cy="3988080"/>
          </a:xfrm>
          <a:prstGeom prst="rect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10"/>
          <p:cNvSpPr/>
          <p:nvPr/>
        </p:nvSpPr>
        <p:spPr>
          <a:xfrm>
            <a:off x="844560" y="255888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dentità strategica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rezione d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sellaDiTesto 12"/>
          <p:cNvSpPr/>
          <p:nvPr/>
        </p:nvSpPr>
        <p:spPr>
          <a:xfrm>
            <a:off x="3720960" y="5638680"/>
            <a:ext cx="44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strumenti per il monitoraggio e la valutazione inter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asellaDiTesto 13"/>
          <p:cNvSpPr/>
          <p:nvPr/>
        </p:nvSpPr>
        <p:spPr>
          <a:xfrm>
            <a:off x="3746520" y="4965840"/>
            <a:ext cx="44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collaborazioni ha la scuola? Per quali finalit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ccia a destra 14"/>
          <p:cNvSpPr/>
          <p:nvPr/>
        </p:nvSpPr>
        <p:spPr>
          <a:xfrm>
            <a:off x="3378240" y="438156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ccia a destra 15"/>
          <p:cNvSpPr/>
          <p:nvPr/>
        </p:nvSpPr>
        <p:spPr>
          <a:xfrm>
            <a:off x="3378240" y="525780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ccia a destra 16"/>
          <p:cNvSpPr/>
          <p:nvPr/>
        </p:nvSpPr>
        <p:spPr>
          <a:xfrm>
            <a:off x="3365640" y="3632040"/>
            <a:ext cx="317520" cy="101880"/>
          </a:xfrm>
          <a:prstGeom prst="rightArrow">
            <a:avLst>
              <a:gd name="adj1" fmla="val 50000"/>
              <a:gd name="adj2" fmla="val 49866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ccia a destra 17"/>
          <p:cNvSpPr/>
          <p:nvPr/>
        </p:nvSpPr>
        <p:spPr>
          <a:xfrm>
            <a:off x="3403440" y="293364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sellaDiTesto 18"/>
          <p:cNvSpPr/>
          <p:nvPr/>
        </p:nvSpPr>
        <p:spPr>
          <a:xfrm>
            <a:off x="3848040" y="34545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e coerenza tra le scelte educative e l’allocazione delle risorse economic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e 19"/>
          <p:cNvSpPr/>
          <p:nvPr/>
        </p:nvSpPr>
        <p:spPr>
          <a:xfrm>
            <a:off x="1003320" y="1930320"/>
            <a:ext cx="2070000" cy="419040"/>
          </a:xfrm>
          <a:prstGeom prst="ellipse">
            <a:avLst/>
          </a:prstGeom>
          <a:solidFill>
            <a:srgbClr val="677f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e 20"/>
          <p:cNvSpPr/>
          <p:nvPr/>
        </p:nvSpPr>
        <p:spPr>
          <a:xfrm>
            <a:off x="4394160" y="1917720"/>
            <a:ext cx="3378240" cy="482760"/>
          </a:xfrm>
          <a:prstGeom prst="ellipse">
            <a:avLst/>
          </a:prstGeom>
          <a:solidFill>
            <a:srgbClr val="677f3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o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asellaDiTesto 21"/>
          <p:cNvSpPr/>
          <p:nvPr/>
        </p:nvSpPr>
        <p:spPr>
          <a:xfrm>
            <a:off x="3873600" y="4216320"/>
            <a:ext cx="43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Quali temi per la formazione del personale e perch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10"/>
          <p:cNvSpPr/>
          <p:nvPr/>
        </p:nvSpPr>
        <p:spPr>
          <a:xfrm>
            <a:off x="844560" y="330840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estione strateg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10"/>
          <p:cNvSpPr/>
          <p:nvPr/>
        </p:nvSpPr>
        <p:spPr>
          <a:xfrm>
            <a:off x="831960" y="4070520"/>
            <a:ext cx="2423880" cy="69192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viluppo professio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10"/>
          <p:cNvSpPr/>
          <p:nvPr/>
        </p:nvSpPr>
        <p:spPr>
          <a:xfrm>
            <a:off x="844560" y="4896000"/>
            <a:ext cx="2424240" cy="69192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Governo del territorio 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apporti con le famig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10"/>
          <p:cNvSpPr/>
          <p:nvPr/>
        </p:nvSpPr>
        <p:spPr>
          <a:xfrm>
            <a:off x="857160" y="5695920"/>
            <a:ext cx="2424240" cy="692280"/>
          </a:xfrm>
          <a:prstGeom prst="roundRect">
            <a:avLst>
              <a:gd name="adj" fmla="val 16667"/>
            </a:avLst>
          </a:prstGeom>
          <a:solidFill>
            <a:srgbClr val="86a6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ttività di autovalu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ccia a destra 26"/>
          <p:cNvSpPr/>
          <p:nvPr/>
        </p:nvSpPr>
        <p:spPr>
          <a:xfrm>
            <a:off x="3403440" y="5969160"/>
            <a:ext cx="317520" cy="1015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asellaDiTesto 27"/>
          <p:cNvSpPr/>
          <p:nvPr/>
        </p:nvSpPr>
        <p:spPr>
          <a:xfrm>
            <a:off x="3848040" y="2679840"/>
            <a:ext cx="45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 quali peculiarità si caratterizza la scuola? Quale il ruolo del DS e dello staf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 scala di valutazione: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e applicar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Segnaposto contenuto 6" descr=""/>
          <p:cNvPicPr/>
          <p:nvPr/>
        </p:nvPicPr>
        <p:blipFill>
          <a:blip r:embed="rId1"/>
          <a:stretch/>
        </p:blipFill>
        <p:spPr>
          <a:xfrm>
            <a:off x="450720" y="1682640"/>
            <a:ext cx="81694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715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QUADRO DI RIFERIMENTO</a:t>
            </a:r>
            <a:br>
              <a:rPr sz="4000"/>
            </a:b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                      -2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6183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Mettere a disposizione dei Dirigenti Scolastici un format di riferimento, con alcuni passaggi obbligati, per sviluppare</a:t>
            </a:r>
            <a:r>
              <a:rPr b="1" lang="it-IT" sz="2800" spc="-1" strike="noStrike">
                <a:solidFill>
                  <a:srgbClr val="404040"/>
                </a:solidFill>
                <a:latin typeface="Arial"/>
              </a:rPr>
              <a:t> un rapporto di autovalutazione sulla scuola 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e sulla propria azione profess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it-IT" sz="2800" spc="-1" strike="noStrike">
                <a:solidFill>
                  <a:srgbClr val="404040"/>
                </a:solidFill>
                <a:latin typeface="Arial"/>
              </a:rPr>
              <a:t>Rapporto di autovalutazione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11280" y="333360"/>
            <a:ext cx="7993080" cy="934920"/>
          </a:xfrm>
          <a:prstGeom prst="rect">
            <a:avLst/>
          </a:prstGeom>
          <a:noFill/>
          <a:ln w="572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58ed5"/>
                </a:solidFill>
                <a:latin typeface="Verdana"/>
              </a:rPr>
              <a:t>La tempistica gennaio/giu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58ed5"/>
                </a:solidFill>
                <a:latin typeface="Verdana"/>
              </a:rPr>
              <a:t>per il Rapporto di Autovalutazione (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4360" y="1397160"/>
          <a:ext cx="7920000" cy="4408200"/>
        </p:xfrm>
        <a:graphic>
          <a:graphicData uri="http://schemas.openxmlformats.org/drawingml/2006/table">
            <a:tbl>
              <a:tblPr/>
              <a:tblGrid>
                <a:gridCol w="1871640"/>
                <a:gridCol w="3600360"/>
                <a:gridCol w="2448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GET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FERI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tro genna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mission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cicolo Scuola in Chia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o Statistico MI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Entro 31 genna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azione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ario scu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ntro febbra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ituzione dat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uestionario scu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ntro febbra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rtura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 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o Statistico MI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ntro mar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4 R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ogni macro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/Men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ntro apr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si dei 16 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Entro fine magg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 Interregio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R/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Entro giug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04000" cy="1873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000099"/>
                </a:solidFill>
                <a:latin typeface="Verdana"/>
              </a:rPr>
              <a:t>I PASSAGGI</a:t>
            </a:r>
            <a:br>
              <a:rPr sz="5000"/>
            </a:br>
            <a:r>
              <a:rPr b="0" lang="it-IT" sz="5000" spc="-1" strike="noStrike">
                <a:solidFill>
                  <a:srgbClr val="000099"/>
                </a:solidFill>
                <a:latin typeface="Verdana"/>
              </a:rPr>
              <a:t>A SEGUI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4000" y="2066760"/>
            <a:ext cx="78483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li obiettivi scaturiti e selezionati a seguito della autovalutazione vanno negoziati con il Direttore dell’US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consegnati al Dirigente scolastico (integrazione/sottoscrizione del contratto triennale) per la loro effettiva declinazione e realizzazione nel contesto di riferim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1. La consegna degli obiet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2. L’accordo sugli obiettiv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ccordo sugli obiettivi svolge una funzion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 guida e di responsabilizzazio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parte dei Dirigenti Scolast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fatti, la definizione degli obiettivi deve inquadrarsi all’interno di una strategia dirigenziale di autonomia e di responsabilit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55828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efinizione del piano di miglioramento spett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 Dirigente scolastico in collaborazion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il nucleo di autovalutazione e in accordo con la comunità profess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dirigente scolastico potrà utilizzare gli strumenti di supporto e la consulenza sul campo messa a disposizione d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dire, Università, Enti di ricerca e Associazioni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53964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3. La definizione del pia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di miglio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568080"/>
            <a:ext cx="79246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99"/>
                </a:solidFill>
                <a:latin typeface="Arial"/>
              </a:rPr>
              <a:t>4. La valutazione (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6a6a6"/>
                </a:solidFill>
                <a:latin typeface="Arial"/>
              </a:rPr>
              <a:t>Al termine del triennio si dovrà produrre (anche passando per un protocollo di visita esterna) un </a:t>
            </a:r>
            <a:r>
              <a:rPr b="1" lang="it-IT" sz="2800" spc="-1" strike="noStrike">
                <a:solidFill>
                  <a:srgbClr val="a6a6a6"/>
                </a:solidFill>
                <a:latin typeface="Arial"/>
              </a:rPr>
              <a:t>Rapporto di valutazione finale</a:t>
            </a:r>
            <a:r>
              <a:rPr b="0" lang="it-IT" sz="2800" spc="-1" strike="noStrike">
                <a:solidFill>
                  <a:srgbClr val="a6a6a6"/>
                </a:solidFill>
                <a:latin typeface="Arial"/>
              </a:rPr>
              <a:t>, sulla cui base il </a:t>
            </a:r>
            <a:r>
              <a:rPr b="1" lang="it-IT" sz="2800" spc="-1" strike="noStrike">
                <a:solidFill>
                  <a:srgbClr val="a6a6a6"/>
                </a:solidFill>
                <a:latin typeface="Arial"/>
              </a:rPr>
              <a:t>Direttore dell’USR </a:t>
            </a:r>
            <a:r>
              <a:rPr b="0" lang="it-IT" sz="2800" spc="-1" strike="noStrike">
                <a:solidFill>
                  <a:srgbClr val="a6a6a6"/>
                </a:solidFill>
                <a:latin typeface="Arial"/>
              </a:rPr>
              <a:t>definirà la valutazione della dirigenza (accordi contrattuali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a6a6a6"/>
                </a:solidFill>
                <a:latin typeface="Arial"/>
              </a:rPr>
              <a:t>La relazione finale di valutazione (compresa la possibile valutazione di prima istanza del Nucleo esterno) sarà consegnata al Dirigente scolastico e dovrà essere inviata all’Invalsi e al Direttore US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971280" y="1268280"/>
            <a:ext cx="784836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entor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petta il compito d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compagnar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e varie tappe verso il 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upporta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l’uso degli strumenti messi a disposi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rientar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verso altri strumenti già in uso ne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ndirizzar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verso esperienze significative già presenti ne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romuove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momenti di scambio e confro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Verifica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la tenuta del percorso e interfacciarsi con il referente US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3280" y="477360"/>
            <a:ext cx="7221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610d0"/>
                </a:solidFill>
                <a:latin typeface="Arial"/>
              </a:rPr>
              <a:t>In sintesi per il 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21844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"Coloro che vogliono essere leader ma non lo sono dicono le 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bravi leader le spieg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eader ancora migliori le dimostr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grandi leader le ispirano"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nonim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65504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QUADRO DI RIFERIMENTO                                         </a:t>
            </a: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558ed5"/>
                </a:solidFill>
                <a:latin typeface="Arial"/>
              </a:rPr>
              <a:t>-3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2266560"/>
            <a:ext cx="814716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Fare in modo che il rapporto di autovalutazione sia il punto di riferimento per l’individuazione degli </a:t>
            </a:r>
            <a:r>
              <a:rPr b="1" lang="it-IT" sz="2800" spc="-1" strike="noStrike">
                <a:solidFill>
                  <a:srgbClr val="404040"/>
                </a:solidFill>
                <a:latin typeface="Arial"/>
              </a:rPr>
              <a:t>obiettivi di missione da sviluppare nel piano di miglioramento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 e sia integrato nel piano di miglioramento della scuo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(</a:t>
            </a:r>
            <a:r>
              <a:rPr b="1" lang="it-IT" sz="2800" spc="-1" strike="noStrike">
                <a:solidFill>
                  <a:srgbClr val="404040"/>
                </a:solidFill>
                <a:latin typeface="Arial"/>
              </a:rPr>
              <a:t>Obiettivi, indicatori, target, risultati attesi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350800"/>
            <a:ext cx="82296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conclusione del corso di formazione i corsisti provvederanno alla redazione di una relazione scritta (nella forma di un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apporto di autovalutazione sulla scuo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3809880" y="2514600"/>
            <a:ext cx="152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3809880" y="2514600"/>
            <a:ext cx="1524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4936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Arial"/>
              </a:rPr>
              <a:t>NOTA 20 settembre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58ed5"/>
                </a:solidFill>
                <a:latin typeface="Arial"/>
              </a:rPr>
              <a:t>(D.D.G. 13.7.2011 - Formazione e tirocinio dei dirigenti scolastici neo-assu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Nd9GcT_da4wtWSlezks95aOwnOCMlVuoED1M6ebFzovf_tA0tJ_qktv3w"/>
          <p:cNvPicPr/>
          <p:nvPr/>
        </p:nvPicPr>
        <p:blipFill>
          <a:blip r:embed="rId1"/>
          <a:stretch/>
        </p:blipFill>
        <p:spPr>
          <a:xfrm>
            <a:off x="6804000" y="4500720"/>
            <a:ext cx="17287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539640" y="404640"/>
            <a:ext cx="7993080" cy="1152720"/>
          </a:xfrm>
          <a:prstGeom prst="rect">
            <a:avLst/>
          </a:prstGeom>
          <a:noFill/>
          <a:ln w="572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58ed5"/>
                </a:solidFill>
                <a:latin typeface="Verdana"/>
              </a:rPr>
              <a:t>Regolamento Snv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58ed5"/>
                </a:solidFill>
                <a:latin typeface="Verdana"/>
              </a:rPr>
              <a:t>(prima approvazione C. dei M. 24/08/20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2"/>
          <p:cNvSpPr/>
          <p:nvPr/>
        </p:nvSpPr>
        <p:spPr>
          <a:xfrm>
            <a:off x="539640" y="1773360"/>
            <a:ext cx="7993080" cy="192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rt. 6: procedimento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Autovalutazione delle istituzioni scolastiche (R.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Valutazione es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zioni di  migli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endicontazione soc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sellaDiTesto 3"/>
          <p:cNvSpPr/>
          <p:nvPr/>
        </p:nvSpPr>
        <p:spPr>
          <a:xfrm>
            <a:off x="611280" y="4437000"/>
            <a:ext cx="792144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 azioni … sono dirette anche a evidenziare le aree di miglioramento organizzativo e gestionale delle istituzioni scolastich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iconducibili al dirigente scola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ccia in giù 4"/>
          <p:cNvSpPr/>
          <p:nvPr/>
        </p:nvSpPr>
        <p:spPr>
          <a:xfrm>
            <a:off x="4284720" y="3860640"/>
            <a:ext cx="647640" cy="55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asellaDiTesto 2"/>
          <p:cNvSpPr/>
          <p:nvPr/>
        </p:nvSpPr>
        <p:spPr>
          <a:xfrm>
            <a:off x="826920" y="620640"/>
            <a:ext cx="7921800" cy="85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nv art. 6: procedimento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utovalutazione delle istituzioni scola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5"/>
          <p:cNvSpPr/>
          <p:nvPr/>
        </p:nvSpPr>
        <p:spPr>
          <a:xfrm>
            <a:off x="826920" y="4724280"/>
            <a:ext cx="79218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- elaborazione di un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apporto di auto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- formulazione di un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iano di miglior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sellaDiTesto 6"/>
          <p:cNvSpPr/>
          <p:nvPr/>
        </p:nvSpPr>
        <p:spPr>
          <a:xfrm>
            <a:off x="900000" y="1989000"/>
            <a:ext cx="78487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nalisi e verifica del proprio servizi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lla base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ti resi disponibili dal sistema informativo de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ilevazioni sugli apprendimenti e elaborazioni sul valore aggiunto dell'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Inva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ulteriori elementi significativi integrati dalla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 sc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ccia in giù 7"/>
          <p:cNvSpPr/>
          <p:nvPr/>
        </p:nvSpPr>
        <p:spPr>
          <a:xfrm>
            <a:off x="4284720" y="1557360"/>
            <a:ext cx="431640" cy="358920"/>
          </a:xfrm>
          <a:prstGeom prst="downArrow">
            <a:avLst>
              <a:gd name="adj1" fmla="val 50000"/>
              <a:gd name="adj2" fmla="val 37569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ccia in giù 8"/>
          <p:cNvSpPr/>
          <p:nvPr/>
        </p:nvSpPr>
        <p:spPr>
          <a:xfrm>
            <a:off x="4284720" y="3933720"/>
            <a:ext cx="431640" cy="64764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395280" y="971640"/>
            <a:ext cx="6411960" cy="5697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03640" y="907560"/>
            <a:ext cx="218916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funzione attivata dall’area del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ID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levazioni sulle Scuole”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rmetterà ai Dirigenti Scolastici di inserire, in un form predefinito, il proprio Rapporto di Autovalutazione . La lista degli istituti principali che devono poter accedere alla rilevazione verrà caricata a sistema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accedere alla rilevazione dovrà essere digitato o selezionato dalla lista degli istituti su cui l’utente è abilitato, il codice dell’istituto principale che deve effettuare la rilevazione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11280" y="476280"/>
            <a:ext cx="75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70c0"/>
                </a:solidFill>
                <a:latin typeface="AvantGarde Bk BT"/>
              </a:rPr>
              <a:t>MODALITÀ DI ACCESSO FORMAT R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41ff8"/>
                </a:solidFill>
                <a:latin typeface="Arial"/>
              </a:rPr>
              <a:t>LA CORNICE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egnaposto contenuto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17000" cy="4676760"/>
          </a:xfrm>
          <a:prstGeom prst="rect">
            <a:avLst/>
          </a:prstGeom>
          <a:ln w="0">
            <a:noFill/>
          </a:ln>
        </p:spPr>
      </p:pic>
      <p:sp>
        <p:nvSpPr>
          <p:cNvPr id="133" name="CasellaDiTesto 10"/>
          <p:cNvSpPr/>
          <p:nvPr/>
        </p:nvSpPr>
        <p:spPr>
          <a:xfrm>
            <a:off x="324000" y="1125360"/>
            <a:ext cx="8569080" cy="42912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VINCOLI E OPPORTUNITA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1"/>
          <p:cNvSpPr/>
          <p:nvPr/>
        </p:nvSpPr>
        <p:spPr>
          <a:xfrm>
            <a:off x="324000" y="6093000"/>
            <a:ext cx="8569080" cy="42912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MPA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ccia circolare a sinistra 8"/>
          <p:cNvSpPr/>
          <p:nvPr/>
        </p:nvSpPr>
        <p:spPr>
          <a:xfrm>
            <a:off x="5003640" y="1484280"/>
            <a:ext cx="3672000" cy="4897440"/>
          </a:xfrm>
          <a:custGeom>
            <a:avLst/>
            <a:gdLst>
              <a:gd name="textAreaLeft" fmla="*/ 491760 w 3672000"/>
              <a:gd name="textAreaRight" fmla="*/ 3180240 w 3672000"/>
              <a:gd name="textAreaTop" fmla="*/ 1103400 h 4897440"/>
              <a:gd name="textAreaBottom" fmla="*/ 3582360 h 489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0932"/>
                </a:lnTo>
                <a:arcTo wR="21600" hR="9734" stAng="0" swAng="3058145"/>
                <a:lnTo>
                  <a:pt x="7412" y="21009"/>
                </a:lnTo>
                <a:lnTo>
                  <a:pt x="0" y="20067"/>
                </a:lnTo>
                <a:lnTo>
                  <a:pt x="7412" y="17943"/>
                </a:lnTo>
                <a:lnTo>
                  <a:pt x="7412" y="18877"/>
                </a:lnTo>
                <a:arcTo wR="21600" hR="9734" stAng="3058145" swAng="-2962654"/>
                <a:lnTo>
                  <a:pt x="21559" y="10333"/>
                </a:lnTo>
                <a:arcTo wR="21600" hR="9734" stAng="-95490" swAng="-5304510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0932"/>
                </a:lnTo>
                <a:arcTo wR="21600" hR="9734" stAng="0" swAng="-95490"/>
                <a:lnTo>
                  <a:pt x="21559" y="10333"/>
                </a:lnTo>
                <a:arcTo wR="21600" hR="9734" stAng="-95490" swAng="-5304510"/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ccia circolare a sinistra 9"/>
          <p:cNvSpPr/>
          <p:nvPr/>
        </p:nvSpPr>
        <p:spPr>
          <a:xfrm rot="10800000">
            <a:off x="468360" y="1267920"/>
            <a:ext cx="3672000" cy="4969080"/>
          </a:xfrm>
          <a:custGeom>
            <a:avLst/>
            <a:gdLst>
              <a:gd name="textAreaLeft" fmla="*/ 491760 w 3672000"/>
              <a:gd name="textAreaRight" fmla="*/ 3180240 w 3672000"/>
              <a:gd name="textAreaTop" fmla="*/ 1132920 h 4969080"/>
              <a:gd name="textAreaBottom" fmla="*/ 357804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50" stAng="-5400000" swAng="5400000"/>
                <a:lnTo>
                  <a:pt x="21600" y="10628"/>
                </a:lnTo>
                <a:arcTo wR="21600" hR="9850" stAng="0" swAng="3156806"/>
                <a:lnTo>
                  <a:pt x="7108" y="21051"/>
                </a:lnTo>
                <a:lnTo>
                  <a:pt x="0" y="20089"/>
                </a:lnTo>
                <a:lnTo>
                  <a:pt x="7108" y="18029"/>
                </a:lnTo>
                <a:lnTo>
                  <a:pt x="7108" y="19151"/>
                </a:lnTo>
                <a:arcTo wR="21600" hR="9850" stAng="3156806" swAng="-3094853"/>
                <a:lnTo>
                  <a:pt x="21583" y="10239"/>
                </a:lnTo>
                <a:arcTo wR="21600" hR="9850" stAng="-61953" swAng="-5338047"/>
                <a:close/>
              </a:path>
              <a:path fill="darkenLess" w="21600" h="21600">
                <a:moveTo>
                  <a:pt x="0" y="0"/>
                </a:moveTo>
                <a:arcTo wR="21600" hR="9850" stAng="-5400000" swAng="5400000"/>
                <a:lnTo>
                  <a:pt x="21600" y="10628"/>
                </a:lnTo>
                <a:arcTo wR="21600" hR="9850" stAng="0" swAng="-61953"/>
                <a:lnTo>
                  <a:pt x="21583" y="10239"/>
                </a:lnTo>
                <a:arcTo wR="21600" hR="9850" stAng="-61953" swAng="-5338047"/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4:07:11Z</dcterms:created>
  <dc:creator>Sara</dc:creator>
  <dc:description/>
  <dc:language>en-US</dc:language>
  <cp:lastModifiedBy>M.I.U.R.</cp:lastModifiedBy>
  <dcterms:modified xsi:type="dcterms:W3CDTF">2013-01-16T14:07:02Z</dcterms:modified>
  <cp:revision>64</cp:revision>
  <dc:subject/>
  <dc:title>Il rapporto tra mentor e dirigente</dc:title>
</cp:coreProperties>
</file>