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5599-601F-4854-8912-BD1B32E3F5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574-09E1-4B26-B00B-1C739B60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369-9EBB-450E-88F2-DAF4B9A0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A96-EEE4-470F-BC6D-3DC2438C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780-33B6-452E-9F75-C3E23188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1E16-62C3-4A16-8C3D-B2C12907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6A9B-418F-4A25-ABD9-1E979465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38A4-E3DB-4735-A448-BD92A8F9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6C61-747F-42B6-B3B5-D7C63B08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6FC1-33F5-4F6A-92B2-135763CD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9CE9-EC32-44CB-A549-15A46804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4B84-A9C9-4CA1-8676-6340C54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301-EEBF-4FCF-85E1-8DC6D141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7496-314B-415F-B452-38684A11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E750-8E03-4684-AAD7-78E14636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8FAA-BFCD-480F-9619-2AEB76BA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6189-A655-44F7-95E4-8D8BA08F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DECC-7565-473D-83A5-079EB012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1FF-3A78-4DDA-9544-C4BDA01E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3B9-8865-4319-A20A-FA3ADE78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4F2-B8D3-4737-AA0C-1F721093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161-ADCE-4BD9-9D4E-58B63939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064-B4DD-4BE4-A9E5-42415430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461-8144-4612-817B-4E190669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BC0-F5E7-49EF-9DC4-0A53DAB0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40BF-F82A-4139-9880-5CEB0D07B1AF}" type="datetime"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9F3C-57DE-468E-8948-842374A7C5E2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D5B9-A7E6-4577-80F7-9D90987BEB6C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AC10-5E6C-4A86-9EC5-D3C67B00B375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Progetto SNVI a.s. 2004-2005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15640" y="2927520"/>
            <a:ext cx="7488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Corso di formazione per coordinatori di Istitut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(da materiale INVALSI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Ancona 21 febbraio 200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5E0C9CC-6A8C-4601-B17D-41B2549B1E42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773000"/>
            <a:ext cx="80010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617400"/>
            <a:ext cx="771516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Esame di stat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276640"/>
            <a:ext cx="771516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onclude i due cicli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onsidera e valuta le competenze acquisite dagli studenti nel corso e al termine del ciclo attravers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a. prove organizzate dalle commiss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d’esa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b. prove predisposte e gestite dall’Invalsi 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base agli Osa del corso e alle discip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d’insegnamento dell’ultimo anno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23CFD-04C7-42FB-83DB-95A0E1AAB785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Obiettivi dei sistemi di istruzione e formazione in Europ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Lettura, scrittura e calco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Matematica, scienze e tecnolog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Lingue strani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Settore delle tic e uso delle tecnolo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Apprendere ad apprend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Competenze social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Spirito di impre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Cultura gener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92D63-C48B-40A8-9D88-24C43A4C13C2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Quali strument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Prove oggettive con quesiti a scelta multipl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3 alternative di risposta in II primaria, 4/5 alternative di risposta per gli altri livelli) (edizioni per i diversamente abili visivamente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materiale di supporto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manuali, elenchi, moduli somministrazione, ecc.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questionario insegnante on-line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sulle opportunità di apprendimento (solo per gli insegnanti delle discipline indagate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altro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questionario on-line sulle edizioni delle prove per i diversamente abili)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C9488-FBBF-431F-B6EB-3219A886826B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3300"/>
                </a:solidFill>
                <a:latin typeface="Arial"/>
              </a:rPr>
              <a:t>Quali criteri per la costruzione </a:t>
            </a:r>
            <a:br>
              <a:rPr sz="3600"/>
            </a:br>
            <a:r>
              <a:rPr b="0" lang="it-IT" sz="3600" spc="-1" strike="noStrike">
                <a:solidFill>
                  <a:srgbClr val="cc3300"/>
                </a:solidFill>
                <a:latin typeface="Arial"/>
              </a:rPr>
              <a:t>delle prove?   (1/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Analisi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pprofondita degli item PP3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individuazione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di un numero limitato di conoscenze ed abilità ritenute irrinunciabili (essenziali), acquisite nel biennio precedente, tenendo conto delle indicazioni nazionali, degli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OSA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(I ciclo) e dei “programmi” effettivamente e generalmente sviluppati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icorsività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di alcune conoscenze ed abilità in più livelli ed esplorazione con complessità cresc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9965F-32C2-4431-B493-6EC96B641FDA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Quali criteri per la costruzione </a:t>
            </a:r>
            <a:br>
              <a:rPr sz="3600"/>
            </a:b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delle prove?   (2/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truttura dei quesiti per riflettere e non per rispondere meccanicament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niformità della struttura (quesiti a scelta multipla per consentire la lettura ottica e restituire gli esiti alle Is in tempi brevi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urata della prova non superiore ad 1 ora e per la II primaria a 30 minuti (3 gg.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aratura dei quesiti nel pretesting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BBEF8-4639-4BAE-A934-939D4A4CC867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Quali criteri per la costruzione </a:t>
            </a:r>
            <a:br>
              <a:rPr sz="3600"/>
            </a:b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delle prove?   (3/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er il I ciclo predisposizione di una prova per disciplina e per livello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er la secondaria di II grad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 la I classe, nessuna differenziazione (a regime somministrazione ad inizio di a. s., testano conoscenze ed abilità acquisite nella scuola secondaria di I grado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8E3A8-1F72-4755-995F-27EEB3065929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Quali criteri per la costruzione </a:t>
            </a:r>
            <a:br>
              <a:rPr sz="3600"/>
            </a:b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delle prove?   (4/5</a:t>
            </a: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 la classe III, diverso comportamento a seconda delle discipli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talian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, nessuna differenziazione perché si saggiano conoscenze ed abilità di ba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Matematica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, 2 forme della stessa prova: una di alfabetizzazione matematica (concetti di base, argomenti fondamentali ed applicazioni) ed una specialistica (prassi didattica consolidata, argomenti esporati in profondità, liceo scientifico, ITI, ecc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C6855-8921-4B8F-A125-A233E1C50A75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Criteri per la costruzione delle pro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Scienz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, 2 forme della stessa prova: una prova di alfabetizzazione scientifica (conoscenza ed abilità di carattere fondamentale); una specialistica che implica conoscenze ed abilità più specifiche (linguaggi specialistici) relative alla Chimica e Fisica (ITI e licei scientifici tecnologici)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BCB28-1D03-4A9C-B5C7-8EDFCDDAA0FA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I diversamente abil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Per motori e sensorial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partecipazione alle prove con edizioni ad hoc (braille, caratteri ingranditi, ecc.) o accorgimenti in sede di somministrazione (insegnante di sostegno che conosce il linguaggio dei gesti, prolungamento della sessione di somministrazione, ecc.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per gli intellettiv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l’Is preparerà le prove, anche attingendo dalle prove nazionali, e somministrerà in contemporanea. Invierà tali prove all’INValSI che costruirà un archiv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35E53-06D3-4B98-A504-B16FF9668360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Gli alunni dislessici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Arial"/>
              </a:rPr>
              <a:t>Ogni alunno possiede personali risorse e disabilità diverse per affrontare lettura, scrittura e calcolo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Arial"/>
              </a:rPr>
              <a:t>consigli in sede di manuale di somministrazione (tempi più lunghi, presenza insegnante sostegno, lettore, ecc)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Arial"/>
              </a:rPr>
              <a:t>decisione Is cosa somministrare (numero inferiore di item, suddivisione della prova, ecc)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5C09A-0EDD-4E75-BFCB-A4769537E85E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9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Progetti Pilota a confronto :</a:t>
            </a:r>
            <a:br>
              <a:rPr sz="3200"/>
            </a:b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PP 1 PP 2 PP 3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nno scolastico 2001 -2002 ,2002 -2003 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003 -20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copo  : Or g a ni zzat iv o Va lu tat iv 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 ipo d i partec ip a z io n e  :Vo lo n tar 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92E03-539F-41E8-BDA1-A4B4FC098D96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</a:rPr>
              <a:t>Gli alunni di prima lingua diversa dalla lingua delle prove? (1/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gli alunni di lingua tedesca e ladina di Bolzano verranno somministrate solo le prove di matematica e scienze in lingua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gli alunni di lingua slovena di Gorizia e Trieste verranno somministrate solo le prove di matematica e scienze in lingua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51911-E02D-47E1-BC3D-6DDC53077F6C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</a:rPr>
              <a:t>Gli alunni di prima lingua diversa dalla lingua delle prove? (2/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gli alunni di prima lingua diversa dalla lingua delle prove completamente integrati si dovranno somministrare le prove nazionali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gli alunni di prima lingua diversa dalla lingua delle prove aventi problemi nella decodifica del messaggio scritto, l’Is preparerà le prove, anche attingendo dalle prove nazionali, e somministrerà in contemporanea. Invierà tali prove all’INValSI che costruirà un archiv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EE300-0E17-4E7D-8D44-C23CA65AD969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Pretesting : scelte </a:t>
            </a:r>
            <a:r>
              <a:rPr b="1" lang="it-IT" sz="28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omministrazione in un campione di giudizio (facilità di somministrazione e massima collaborazione da parte dei somministratori), equilibrato sul territorio per I ciclo e presenza di numerosi indirizzi per scuola secondaria di II grado (classe III, 2 forme per matematica e scienze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uddivisione dei quesiti in molti fascicoli (tempo di somministrazione basso) senza banalizzare, ad esempio in II primaria per matematica 4 test di 16-18 quesiti in 25 minuti, per italiano 3 test con una breve storia e 19 quesiti in 25 minuti;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B0E49-2B1F-4E0F-BF12-686A4D9F2E4D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Pretesting: scelte </a:t>
            </a:r>
            <a:r>
              <a:rPr b="1" lang="it-IT" sz="28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omministrati a metà novembre in una classe successiva a quella oggetto di rilevazione (III e V primaria, II secondaria di I grado, II e IV secondaria di II grado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riteri di scelt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 matematica e scienze, indice di facilità medio facile ed indice di discriminazione elevato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 italiano, indice di consistenza interna elevato (testo con relativi quesiti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liminazione o modifica dei distrattori non funziona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B3C0D-F0D0-459F-B515-7D96349BD72F}" type="datetime1">
              <a:rPr lang="en-US"/>
              <a:t>07/31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4536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</a:rPr>
              <a:t>La prova di italiano per la scuola primaria (dalla relazione della prof.ssa Pavan)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il tipo di testo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IVELL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     TIP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II primaria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nar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IV primaria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narrativo, esposi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I sec. I grad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narrativo, esposi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I sec. II grad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narrativo, espositivo/argoment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III sec. II grado</a:t>
            </a: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narrativo, espositivo/argomentativo,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oe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5F552-3A4D-48D6-AEF5-15A33EA21FEF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taliano: criteri per la scelta dei testi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unghezza media, crescente dalla primaria alle superio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utosufficie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on troppo correnti nella pratica didat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Originali in italia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’autore o comunque di buona qualità (registro medio o medio-   alt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ncettualmente densi, complessi ma non troppo rispetto al livello scolast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i validità generale (se troppo legati all’attualità diventano rapidamente obsolet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06582-6773-47C6-B317-F687BF4AD17D}" type="datetime1">
              <a:rPr lang="en-US"/>
              <a:t>07/31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Italiano: mappa concettua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68996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dea princip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dea di fo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Personaggi principal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ratti caratteristic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Fun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mbi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Espressioni chia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04000" y="2205000"/>
          <a:ext cx="1332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2205000"/>
                    <a:ext cx="1332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A7E05-24DE-4A8B-A0AF-B5105E0FC20E}" type="datetime1">
              <a:rPr lang="en-US"/>
              <a:t>07/31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Italiano: mappa concettua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761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Contenu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Abilit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Quesi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C802B-207E-4A11-B7B8-32426524845A}" type="datetime1">
              <a:rPr lang="en-US"/>
              <a:t>07/31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taliano: contenuti   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Quesiti per una prova di IV primaria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76124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ategoria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Frequenza quesi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rtografi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    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essico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    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orfo-sintass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    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rganizzazione logico-semantic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    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spetti retorici e formal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    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mprensione particolare del testo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     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mprensione globale del testo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    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65244-7945-4015-BA64-AF4882D3A840}" type="datetime1">
              <a:rPr lang="en-US"/>
              <a:t>07/31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Arial"/>
              </a:rPr>
              <a:t>Quel che NON si testa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oscenze letterarie, culturali o “enciclopedich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bilità produttive scritte o oral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95BE3-201D-48E9-BDB7-6D0900367899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Obiettivi     - strum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accogliere informa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prire un osservatorio sul sistema scuola rispetto all’autonom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ve ogget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Questionario di sist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0E1AC-843F-4EC5-8450-A925C7A23E2F}" type="datetime1">
              <a:rPr lang="en-US"/>
              <a:t>07/31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I primaria                          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Italia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sto narr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2 quesiti a 3 alternativ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30 minu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mprensione testo, sequenz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3D0C6-5D24-4C89-889D-DF869B363155}" type="datetime1">
              <a:rPr lang="en-US"/>
              <a:t>07/31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Matematica :II primar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6 quesiti a 3 alternativ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30 minu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UMERO (lettura/scrittura, riconoscimento di regole, scelta di operazioni opportun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EOMETRIA (riconoscimento figure, individuazione di punti in una quadrettatu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85540-0247-4F5B-A23C-13263777DB54}" type="datetime1">
              <a:rPr lang="en-US"/>
              <a:t>07/31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ematica- IVprimar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5-28 quesiti (4 alternative) in 45 minut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ume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eomet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Mis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troduzione al pensiero razio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6241A-1FB6-4EED-9FB4-1EABE209A4B1}" type="datetime1">
              <a:rPr lang="en-US"/>
              <a:t>07/31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ematica: I secondaria I gr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8-30 quesiti (4 alternative)  45 minu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ume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eomet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Misura, dati e previs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troduzione al pensiero razio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C8B75-9342-4156-BAA6-CA31F0080291}" type="datetime1">
              <a:rPr lang="en-US"/>
              <a:t>07/31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Scienze :   primaria e secondaria di I gr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mi :II primaria :10 quesiti a 3 alternativ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30 minu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lementi di metodo speriment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iventi e non viv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omo / amb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bilità: Osservare, ordinare, classific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D902A-51A1-4453-AF75-ECEC814F2BA5}" type="datetime1">
              <a:rPr lang="en-US"/>
              <a:t>07/31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rimaria e secondaria di I gr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mi: IV primaria e I secondaria di I GRADO 25-28 quesiti   45 minu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lementi di metodo speriment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iventi e non viv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omo/amb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rasforma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4760B-7F97-4901-BCAE-01336EB1F5F4}" type="datetime1">
              <a:rPr lang="en-US"/>
              <a:t>07/31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bilità primaria e secondaria I gr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sservare,ordinare in sequenze temporali e/o logiche, classific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inguaggi specifi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7D840-D1BB-46F8-8715-4DDAD0ADA49E}" type="datetime1">
              <a:rPr lang="en-US"/>
              <a:t>07/31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Scienze- te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4^ elementare- 1^ 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lementi di metodo speriment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iventi e non viv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omo/amb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rasforma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793F1-DD16-446D-A060-9E283AEE8A98}" type="datetime1">
              <a:rPr lang="en-US"/>
              <a:t>07/31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Modalità organizzative: Controllo di qualità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plicitare e rassicurare sui significati della valu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assicurare sulle caratteristiche di riservatez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celta dei somministrato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Formazione dei somministrato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98BA7-DD8B-4B31-90BE-5F667E6D828B}" type="datetime1">
              <a:rPr lang="en-US"/>
              <a:t>07/31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Controllo di qualità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biettiv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erificare il rispetto delle proced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accogliere proposte miglior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tervistare alunni e doc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Quand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ei giorni di somministrazione delle pr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C76BD-D85A-42F8-B58A-4585FE5442BE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SNVI a.s.2004-200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ttività di valutazione del sistema di istruzione a.s. 2004-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mpetenza del Ministro le discipline da indagar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ivelli scolastici e periodo di somministrazione per il I ciclo contenuti nella Riforma (D.lgs. N. 59 2004) (fissi, inizio I, II e III biennio, obbligatorietà pubbliche e paritarie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B51A4-8972-4DB3-B07E-47DBA0D49864}" type="datetime1">
              <a:rPr lang="en-US"/>
              <a:t>07/31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Verdana"/>
              </a:rPr>
              <a:t>Compiti del coordinato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813744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opo l’arrivo del materiale inviato dall’Invalsi conserva in luogo sicuro le prove , controlla i materiali ricevuti e applica o fa applicare le etichette autoadesiv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2924280"/>
            <a:ext cx="64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3640" y="2924280"/>
            <a:ext cx="33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335640" y="260280"/>
            <a:ext cx="24843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B308D-17E4-407A-8210-5F79F420E651}" type="datetime1">
              <a:rPr lang="en-US"/>
              <a:t>07/31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Compiti del coordinato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113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mpila gli elenchi delle classi e gli elenchi degli studenti e ne fa copia da inviare all’INVal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egnala le particolarità( solo a livello di elaborazione dati) con il relativo cod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 presenza di studenti con disabilità visiva  stessi strumenti ma in formato opport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716560" cy="24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A6460-0532-45B3-838A-056489DCEFBE}" type="datetime1">
              <a:rPr lang="en-US"/>
              <a:t>07/31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Compiti del coordinato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402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rganizza la somministrazione delle prove assegnando a ciascuna classe un docente somministratore ester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ianifica l’eventuale prova di recupero(solo per le scuole campione) se non si raggiunge il 90% delle presen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644920" cy="24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4158F-619E-48DA-82C2-AFB4C8B25978}" type="datetime1">
              <a:rPr lang="en-US"/>
              <a:t>07/31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La pianificazione dei tempi delle prove (dal manuale Invalsi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Tempi per la classe di II primari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rova di italiano(1° GIORN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rova di matematica(2° GIORN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rova di scienze(3° GIORN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10 minuti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 la distribuzione dei fascicoli e la lettura delle istruzion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30 minuti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 lo svolgimento della prov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46E77-1A08-4555-9AE7-2A56B42D631E}" type="datetime1">
              <a:rPr lang="en-US"/>
              <a:t>07/31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ASI PARTICOLA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Fino a 20 minuti in più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 gli studenti non vedenti che compilano la prova in brail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Fino a 10 minuti in più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 gli studenti ipovedenti c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mpilano le prove con carattere ingrandi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Tempi per la classe di IV primari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rova di italiano (1° GIORN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rova di matematica (2° GIORN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rova di scienze (3° GIORN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1EF95-6CBB-447E-94DE-57747C8EB277}" type="datetime1">
              <a:rPr lang="en-US"/>
              <a:t>07/31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10 minuti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 la distribuzione dei fascicoli e la lettura delle    istruzion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45 minuti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 lo svolgimento della prov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CASI PARTICOLA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Fino a 30 minuti in più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 gli studenti non vedenti 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mpilano la prova in brail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Fino a 10 minuti in più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 gli studenti ipovedenti che compilano le prove con carattere ingrandit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on è prevista alcuna forma di intervallo durante la somministrazione delle prov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52341-D56F-4E41-8C08-912F3B10C101}" type="datetime1">
              <a:rPr lang="en-US"/>
              <a:t>07/31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2349360"/>
            <a:ext cx="7750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SCEGLIERE I SOMMINISTRATO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a somministrazione dovrà essere affidata agli insegnanti che avrebbero fatto lezione nel giorno e nell’ora stabilita per lo svolgimento delle prove (anche se l’insegnante è un supplente). È opportuno che il coordinatore, in accordo con il Dirigente scolastico, si   comporti nel seguente mod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- sia per le classi II che per le classi IV ruoti di classe gli insegnanti individuati, in mo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he questi somministrino la prova ad una classe di II e di IV non propria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5849A-196F-4A51-A619-2FC3C2CB5CCA}" type="datetime1">
              <a:rPr lang="en-US"/>
              <a:t>07/31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3300"/>
                </a:solidFill>
                <a:latin typeface="Arial"/>
              </a:rPr>
              <a:t>CODICI DI PARTICOLARIT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CODICE DI PARTICOLARITÀ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‘1’: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Lo studente è un disabile fisico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. Si tratta di studenti la cui disabilità fisica permanente non consente loro di partecip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lle prove INValSI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 questi studenti è prevista la somministrazione di prove personalizzate elaborate dalla scuo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li studenti disabili che possono comunque partecipare dovrebbero essere inclusi e dunque non deve essere loro attribuito il codice 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7E5AC-6C93-44A0-8CC0-8929F63DDFF7}" type="datetime1">
              <a:rPr lang="en-US"/>
              <a:t>07/31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2924280"/>
            <a:ext cx="80010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6920" y="24922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CODICE DI PARTICOLARITÀ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‘2’: </a:t>
            </a: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Lo studente è un disabile intellettivo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. Si tratta di studenti che presentano disturbi mentali certificati dalla ASL. Questi studenti presentano disturbi mentali ed emozionali tali da non riuscire nemmeno a seguire le istruzioni previste per la prova. In tale categoria non devono essere inclusi studenti con uno scarso livello di rendimento o problemi disciplinari. Per questi studenti è prevista la somministrazione d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rove personalizzate elaborate dalla scuo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9648B-AE9C-4BE6-9213-027538AD9AB8}" type="datetime1">
              <a:rPr lang="en-US"/>
              <a:t>07/31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CODICE DI PARTICOLARITÀ ‘3’: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Lo studente è di lingua madre diversa dalla lingua delle prove e dunque non comprende la lingua delle prove o la comprende con molta difficoltà. In questa categoria sono inclusi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olo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li studenti di lingua madre diversa dalla lingua delle prove che secondo il parere dell'insegnante della classe non sono in grado di rispondere alla pro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 difficoltà di comprensione del linguaggio. Per questi studenti è prevista la somministrazione di prove personalizzate elaborate dalla scuo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F1FC1-B04B-450C-9AC4-B44F4FDA9610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620640"/>
            <a:ext cx="77151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Valutazione intern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2421000"/>
            <a:ext cx="757080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L’autovalutazione d’Istitut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È connessa all’autonomia delle Istituzioni scolastic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mpete agli OOCC che sono responsabili dell’utilizzo dei risultati della valutazione esterna e delle scelte adottate in merito ai risulta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Verifica la funzionalità degli elementi di sistema (efficacia programmazione didattica, rispetto degli standard di prestazione del servizio, 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7A88A-EB39-40B5-B3BE-0E2BFDE1CA8E}" type="datetime1">
              <a:rPr lang="en-US"/>
              <a:t>07/31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CODICE DI PARTICOLAR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‘4’: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Lo studente è ipovedent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. Per questi studenti è prevista la somministrazione di fascicoli stampati con caratteri più grand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Questi studenti non saranno esclusi dall’analisi dei dati; il codice segnala    soltanto che l’immissione dei loro dati dovrà avvenire manualmente e non    attraverso la lettura ott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CODICE DI PARTICOLAR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‘5’: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Lo studente è non vedent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. Per questi studenti è prevista la somministrazione di fascicoli stampati in braille. Questi studenti non saranno esclusi dall’analisi dei dati; il codice segnala soltanto che l’immissione dei loro dati dovrà avvenire manualmente e non attraverso la lettura ott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72409-B074-472E-93E8-EFA6BA61B2D6}" type="datetime1">
              <a:rPr lang="en-US"/>
              <a:t>07/31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CODICE DI PARTICOLARITÀ</a:t>
            </a:r>
            <a:r>
              <a:rPr b="0" lang="it-IT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‘6’:</a:t>
            </a:r>
            <a:r>
              <a:rPr b="0" lang="it-IT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Lo studente è ipovedente o non vedente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ma ha compilato il fascicolo standard. Tale codice è utile solo all’INValSI in quanto segnala che l’elaborazione dei dati dovrà avvenire secondo le normali procedu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CODICE DI PARTICOLAR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‘7’: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Lo studente è dislessico.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 questi studenti si possono verificare i seguenti casi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) il somministratore concede un tempo aggiuntivo di massimo 10 minuti per rispondere all’intera prova INValSI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b) il somministratore concede un tempo aggiuntivo maggiore di 10 minuti  e/o stabilisce una compilazione parziale del fascicolo. Per questi studenti si dovrà segnalare la compilazione con la lettera “P” sia nell’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Elenco degli studenti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ella colonna (6) – sia nel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Modulo prove personalizzat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89B92-C66C-4808-BAD8-31B4BCC0CFD8}" type="datetime1">
              <a:rPr lang="en-US"/>
              <a:t>07/31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Compiti del coordinato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186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l termine della procedura  raccoglie tutto il materiale e lo predispone per la restitu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trollo materiali e rinv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servazione copia elench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eparazione degli studenti ai t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736720" cy="25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D4E5D-B928-4D53-9EC0-C5B407BA16EE}" type="datetime1">
              <a:rPr lang="en-US"/>
              <a:t>07/31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cc3300"/>
                </a:solidFill>
                <a:latin typeface="Arial"/>
              </a:rPr>
              <a:t>IL MODULO PER LE PROVE PERSONALIZZAT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ul retro dell’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Elenco degli studenti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è stampato un modulo dedicato alla somministr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elle prove personalizzate per studenti appartenenti ad alcune categori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e prove personalizzate sono previste per le seguenti categorie di studenti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·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Studente con disabilità fisica.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e prove personalizzate compilate da questi studenti devono essere rispedite con il resto del materi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·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Studenti con disabilità intellettiva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. Le prove personalizzate compilate da questi studenti devono rimanere agli atti della scuola e non devono essere spedite con il resto del materiale. Tali prove dovranno essere inviate all’INValSI solo previa richies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D2A40-9F67-4A65-B02D-7ED054A5EA7F}" type="datetime1">
              <a:rPr lang="en-US"/>
              <a:t>07/31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·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Studenti con lingua madre diversa dalla lingua delle prove.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Le prove personalizzate compilate da questi studenti devono essere rispedite con il resto del material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·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Studenti dislessici.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Le prove personalizzate compilate da questi studenti (si ricor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che in questo caso la prova si intende personalizzata se il somministratore concede un tempo aggiuntivo maggiore di 10 minuti e/o stabilisce una compilazione parziale del fascicolo) devono essere rispedite con il resto del material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Gli studenti appartenenti ad una di queste 3 categorie devono essere segnalati sia nell’</a:t>
            </a:r>
            <a:r>
              <a:rPr b="0" i="1" lang="it-IT" sz="1600" spc="-1" strike="noStrike">
                <a:solidFill>
                  <a:srgbClr val="003366"/>
                </a:solidFill>
                <a:latin typeface="Arial"/>
              </a:rPr>
              <a:t>Elenco degli studenti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(colonna 3) sia nel </a:t>
            </a:r>
            <a:r>
              <a:rPr b="0" i="1" lang="it-IT" sz="1600" spc="-1" strike="noStrike">
                <a:solidFill>
                  <a:srgbClr val="003366"/>
                </a:solidFill>
                <a:latin typeface="Arial"/>
              </a:rPr>
              <a:t>Modulo per le prove personalizzate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(colonna 5) con il codice più opportuno scelto tra i seguenti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codice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= lo studente è disabile fisic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codice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= lo studente è un disabile intellettiv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codice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= lo studente non comprende l’italiano o lo comprende con    molta difficoltà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83EE9-3CF5-4BA9-98AB-AF1CC71719A5}" type="datetime1">
              <a:rPr lang="en-US"/>
              <a:t>07/31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- codice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= lo studente è dislessic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l somministratore dovrà indicare nelle colonne (2), (3), (4) del </a:t>
            </a: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Modulo per le prove personalizzate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l tipo di prova scelta per ciascuno studente segnalato con il relativo codice nella colonna (5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 seconda del grado di difficoltà degli studenti la scuola può scegliere, in accordo con il Dirigente scolastico, tra i seguenti tipi di prov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· Prova Standard (codice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· Prova INValSI modificata (codice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· Prova Personalizzata (codice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· Prova personalizzata da tenere agli atti della scuola (codice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Psc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Questo codice va utilizzato solamente per gli studenti con disabilità intellettiva. Una volta compilata la prova va conservata presso la scuola e spedita solo in caso di richiesta da parte dell’INValS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B6899-D427-46BE-88F5-B789AD6C09A1}" type="datetime1">
              <a:rPr lang="en-US"/>
              <a:t>07/31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colonna (6) è divisa in tre colonne dedicate alla somministrazione delle tre pro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(Italiano, Matematica e Scienze). Il somministratore dovrà riportare l’ora di inizio e l’ora di fine della somministrazione per gli studenti segnalati con il codice specifico nella colonna (5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41F5C-1A5F-4489-9534-740265FC23FE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476280"/>
            <a:ext cx="7715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Valutazione intern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565360"/>
            <a:ext cx="76834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È di competenza dei docenti delle istituzioni di istruzione e formazione e riguard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a valutazione periodica e annuale degli apprendimenti e del comportamento degli stud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a certificazione delle competenz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a valutazione dei periodi didattici ai fini del passaggio al periodo success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’autovalutazione di Istituto  connessa all’autonomia dell’I.S. (DPR 275/99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CFF9B-0D7C-4EC1-A525-88C486510662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836640"/>
            <a:ext cx="77151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Valutazione intern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2421000"/>
            <a:ext cx="757080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valutazione degli apprendiment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valutazione dei comportam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valutazione delle competenz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2060640"/>
            <a:ext cx="215640" cy="1297080"/>
          </a:xfrm>
          <a:custGeom>
            <a:avLst/>
            <a:gdLst>
              <a:gd name="textAreaLeft" fmla="*/ 0 w 215640"/>
              <a:gd name="textAreaRight" fmla="*/ 151200 w 215640"/>
              <a:gd name="textAreaTop" fmla="*/ 54000 h 1297080"/>
              <a:gd name="textAreaBottom" fmla="*/ 1243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2565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5801400" y="3423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Portfolio delle competenze person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4005360"/>
            <a:ext cx="1727280" cy="863640"/>
          </a:xfrm>
          <a:custGeom>
            <a:avLst/>
            <a:gdLst>
              <a:gd name="textAreaLeft" fmla="*/ 231120 w 1727280"/>
              <a:gd name="textAreaRight" fmla="*/ 1496160 w 172728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3933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99ff"/>
                </a:solidFill>
                <a:latin typeface="Arial"/>
              </a:rPr>
              <a:t>Valorizzazione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cc99ff"/>
                </a:solidFill>
                <a:latin typeface="Arial"/>
              </a:rPr>
              <a:t>autonomia scolastic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4005360"/>
            <a:ext cx="1152720" cy="129528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4724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cc"/>
                </a:solidFill>
                <a:latin typeface="Arial"/>
              </a:rPr>
              <a:t>Conservazione di un quadro unitario nazion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D8F69-808D-4BEA-8060-C761F784E39D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565000"/>
            <a:ext cx="80010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010280" cy="3673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92360" y="692280"/>
            <a:ext cx="669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Attività di valutazione del sistema d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Istruzione A.S.2004-200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B384E-8DFB-4BDF-9DE1-54DAABDB8F36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692280"/>
            <a:ext cx="77151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Valutazione estern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2727360"/>
            <a:ext cx="771516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È di competenza dell’INVALSI e riguard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erifiche periodiche e sistematiche sulle conoscenze e  abilità degli allie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erifiche periodiche e sistematiche sulla qualità complessiva dell’offerta formativa della scuo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86A61-1384-4058-93F8-557E4C240615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6:42:06Z</dcterms:created>
  <dc:creator>PAOLA</dc:creator>
  <dc:description/>
  <dc:language>en-US</dc:language>
  <cp:lastModifiedBy>luciano.belardinelli</cp:lastModifiedBy>
  <dcterms:modified xsi:type="dcterms:W3CDTF">2005-03-15T16:45:48Z</dcterms:modified>
  <cp:revision>52</cp:revision>
  <dc:subject/>
  <dc:title>SNVI2005- LE PROVE</dc:title>
</cp:coreProperties>
</file>