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F2AB-735E-4AD3-9529-7838FE0AA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4867-6C79-49C3-B016-11256578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F7DD-9FF5-430A-9338-5DA10993E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2A42-FCCA-4EDB-8364-2CB222D33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6D01-ED27-41EB-A00B-CB699AAF4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1E117-C999-4A5C-832E-D834C42C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53B6E-BFD0-4709-A0C3-71092F5E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2E89-9260-42EE-A8EA-075045DE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6DDA-3E33-4D77-AB70-279908A9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38A3-EB6C-46F4-A873-996A7B21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9310-FD6C-42FF-91A4-4619A332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B5FE-257B-4EA4-9F6A-752698C2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5B4F-C204-4C8D-B28C-B68470D0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375B-FF96-4732-A014-DB11C83D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8641-4024-46AA-BF1C-03FF1D9B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456A-912A-4894-8735-866DDAE0C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AFF4D-42DE-461E-AC76-C7D66140C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71BC-E071-49AD-BC1A-501E1BAA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99E3-DC4E-4C48-B132-617AC382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21F6-5094-4612-8F26-1863B0C9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FCE6-B16B-4792-91F4-68519292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2212-A985-484D-8209-0E60E7B6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3797-2D01-4F8D-AF9E-5C81279D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DFAF-8F6B-4776-9B50-40787173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F004-19B2-47AE-8186-B54D17A2EB32}" type="datetime"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3AF0-E195-47AD-B179-4AA68CD5557A}" type="slidenum"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C0F4-F542-40F8-926F-8B9513C09AF7}" type="datetime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A0EB-DB2E-491E-8A63-E887893855BC}" type="slidenum"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Arial"/>
              </a:rPr>
              <a:t>Progetto SNVI a.s. 2004-2005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15640" y="2927520"/>
            <a:ext cx="748836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6666"/>
                </a:solidFill>
                <a:latin typeface="Arial"/>
              </a:rPr>
              <a:t>Corso di formazione per coordinatori di Istituto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6666"/>
                </a:solidFill>
                <a:latin typeface="Arial"/>
              </a:rPr>
              <a:t>(da materiale INVALSI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6666"/>
                </a:solidFill>
                <a:latin typeface="Arial"/>
              </a:rPr>
              <a:t>Ancona 15 febbraio 2004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E249768-027B-48DA-BE1B-718019EC892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6666"/>
                </a:solidFill>
                <a:latin typeface="Arial"/>
              </a:rPr>
              <a:t>Obiettivi     - strument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Raccogliere informazion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Aprire un osservatorio sul sistema scuola rispetto all’autonom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Prove oggett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Questionario di sist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3BF750-2A75-40C0-9259-2268128C1FC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2560" y="151920"/>
            <a:ext cx="7643880" cy="16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Verdana"/>
              </a:rPr>
              <a:t>Progetto Pilot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Progetto pilota 1(2001 – 2002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Sperimentazione di un modello organizzativo (Miur, INValSI, direzioni regionali, scuole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Organizzazione decentr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Strumentazione: test oggettivi a scelta multipla e questionario di sist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124330-DA4B-4879-9EFA-6E1E59F2FB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Pilota1:risultat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Prove oggettiv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-somministrazione cartacea (2832 scuole partecipant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41c72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e41c72"/>
                </a:solidFill>
                <a:latin typeface="Arial"/>
              </a:rPr>
              <a:t>-somministrazione informatica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per un numero limitato di scuole ( di 228 dichiarate disponibili solo 90 hanno risposto e di ques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41 modalità diret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40 modalità indiret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9 sono andati persi i da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7C0288-CC73-47B8-9AF3-7FF5A21707A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6666"/>
                </a:solidFill>
                <a:latin typeface="Arial"/>
              </a:rPr>
              <a:t>Limiti del pp1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Impossibilità di generalizzare le misur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Inadeguatezza delle risorse rispetto ai compiti richies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Strumenti pover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Limitata diffusione della cultura della valutazione tra operatori e uten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20000F-EC4D-4F03-9716-98EA7BDC1A6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560" y="981000"/>
            <a:ext cx="76438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Progetto Pilota 2:una seconda sperimentazion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Articolazione delle scuole in due gruppi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campione probabilistico (selezionato dall’INValSI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scuole aderenti volontariamente ( circa 6400 scuole, circa 4760 istituzioni scolastiche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rilevazione in classi che prefigurano la riforma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3 discipline indagate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anticipazione della somministrazione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continuazione sperimentazione informatic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5002BB-461F-46BA-93E9-B3434012298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280" y="765000"/>
            <a:ext cx="771516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6666"/>
                </a:solidFill>
                <a:latin typeface="Arial"/>
              </a:rPr>
              <a:t>Progetto Pilota 2 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Discipline indagate: lingua italiana, matematica e scienz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Presenza del campione probabilisti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Rilevazioni in classi prefiguranti la riforma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-IV element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-I med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-I e III superio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D50B14-890C-4CE8-9136-B222D63140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6666"/>
                </a:solidFill>
                <a:latin typeface="Arial"/>
              </a:rPr>
              <a:t>Limiti del pp2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Inadeguatezza delle risorse dell’INValSI per compiti puramente operativ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Tempi più lunghi del previsto per la restituzione dei risulta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Modalità di somministrazione non sempre rispettate nelle scuole camp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Non coinvolgimento di tutti i livelli scolastici indicati dalla riforma (</a:t>
            </a:r>
            <a:r>
              <a:rPr b="0" i="1" lang="it-IT" sz="2800" spc="-1" strike="noStrike" u="sng">
                <a:solidFill>
                  <a:srgbClr val="003366"/>
                </a:solidFill>
                <a:uFillTx/>
                <a:latin typeface="Arial"/>
              </a:rPr>
              <a:t>2° elementare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893331-64DF-43A3-8A57-E40C41C310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6666"/>
                </a:solidFill>
                <a:latin typeface="Arial"/>
              </a:rPr>
              <a:t>Limiti del pp2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Strumenti non del tutto adeguati alle richieste delle scuo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Inadeguatezza della somministrazione informatica per problemi organizzativi e tecnici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Formazione limitata ai soli aspetti metodologici ed organizzativi del Pilota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Limitata diffusione della cultura della valutazione( lettura dei risultati e ricaduta sull’organizzazione scolastic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884EE1-F150-4848-9C37-29456DE79D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6666"/>
                </a:solidFill>
                <a:latin typeface="Arial"/>
              </a:rPr>
              <a:t>Superamento di tali limit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Organizzazione della somministrazione cartacea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L’INValSI mantiene il coordinamento nazionale ma demanda ad una risorsa esterna gli aspetti operativi in modo da concentrarsi sull’elaborazione dei dati e sull’analisi dei risultati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37F438-D3F2-4BD3-9C74-494EBB1BE7B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6666"/>
                </a:solidFill>
                <a:latin typeface="Arial"/>
              </a:rPr>
              <a:t>Superamento dei limit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Metodologia della rilevazion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Si riconferma la stessa del pp2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Indagine campionaria + indagine a partecipazione volontaria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Due modalità di valutazione: valutazione di sistema ( riferimento per il confronto ) e valutazione singole Istituzioni Scolastiche( ordini scolastici e classi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2ED345-8AD5-440E-AAAA-C2E075C1CED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Programma cors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15/02/0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dai progetti pilota alla rilevazione obbligatoria per il 1° cicl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Le prove oggettive e il questionario di sistema nei progetti preceden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16/02/0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La rilevazione nell’a.s.2003-2004:il Pilota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A68550-F29A-4068-8ED0-841C6E9978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6666"/>
                </a:solidFill>
                <a:latin typeface="Arial"/>
              </a:rPr>
              <a:t>Caratteristich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Discipline indagate : lingua italiana,matematica e scienz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Anticipazione della somministrazione e restituzio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Continuazione sperimentazione informatica Rilevazione in classi che prefigurano la riforma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II e IV elementa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I med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I e III superio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Scuole partecipanti pp2 e pp3 :6048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8364D6-B7B6-45D5-8EAB-B901AB34F2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6666"/>
                </a:solidFill>
                <a:latin typeface="Arial"/>
              </a:rPr>
              <a:t>Efficaci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Arricchimento dell’operazione di valutazione in </a:t>
            </a:r>
            <a:r>
              <a:rPr b="0" i="1" lang="it-IT" sz="2800" spc="-1" strike="noStrike">
                <a:solidFill>
                  <a:srgbClr val="003366"/>
                </a:solidFill>
                <a:latin typeface="Arial"/>
              </a:rPr>
              <a:t>autovalutazione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con l’attivazione di più azioni e indagini sistematich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Coinvolgimento e condivisione degli studenti e famigl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8E191A-B469-4D37-AE19-56B336F1979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Come scaricare le prove dei progetti pilota precedent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vai sul progetto </a:t>
            </a:r>
            <a:r>
              <a:rPr b="1" i="1" lang="it-IT" sz="2400" spc="-1" strike="noStrike">
                <a:solidFill>
                  <a:srgbClr val="0033cc"/>
                </a:solidFill>
                <a:latin typeface="Arial"/>
              </a:rPr>
              <a:t>pilota1</a:t>
            </a:r>
            <a:r>
              <a:rPr b="1" lang="it-IT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http://www.invalsi.it/pilota3/pp3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inserisci il codice identificativo dell’istitu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vai sul progetto </a:t>
            </a:r>
            <a:r>
              <a:rPr b="1" i="1" lang="it-IT" sz="2400" spc="-1" strike="noStrike">
                <a:solidFill>
                  <a:srgbClr val="0033cc"/>
                </a:solidFill>
                <a:latin typeface="Arial"/>
              </a:rPr>
              <a:t>pilota 2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http://www.invalsi.it/pilota3/pp3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seleziona 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strument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inserisci la pw 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pp2200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ancora in alto su strument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clicca su 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prove e chiavi di rispos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scegli la classe e la disciplin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FFBD5F-F684-4CD2-8F00-18F8489FD03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Come scaricare le prove dei progetti pilota precedent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Vai sul progetto </a:t>
            </a:r>
            <a:r>
              <a:rPr b="1" i="1" lang="it-IT" sz="2800" spc="-1" strike="noStrike">
                <a:solidFill>
                  <a:srgbClr val="0033cc"/>
                </a:solidFill>
                <a:latin typeface="Arial"/>
              </a:rPr>
              <a:t>pilota 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33cc"/>
                </a:solidFill>
                <a:latin typeface="Arial"/>
              </a:rPr>
              <a:t>Prove pp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Inserisci il codice di istituto del MIU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Inserisci il codice attribuito dall’Invals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Oppure registrati come utente estern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F7D777-DA63-4F41-AB14-B04E6721AED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Rilevazione degli apprendimenti a.s.2004-2005 di A.M Capu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Attività di valutazione del sistema di istruzione a.s. 2004-200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Competenza del Ministro le discipline da indagare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livelli scolastici e periodo di somministrazione per il I ciclo contenuti nella Riforma (D.lgs. N. 59 2004) (fissi, inizio I, II e III biennio, obbligatorietà pubbliche e paritarie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D3DAB0-E0C3-43EC-B58A-953CD3CC1B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Quadro normativ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D.lgs n59 del 200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Direttiva n 56 del luglio 200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D.lgs 286 del 200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254BEB-E2C4-4B38-AF1E-4108FD32E19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39640" y="2421000"/>
            <a:ext cx="8078760" cy="4513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E’ composto di circa 100 domande che toccano tutti i temi del PO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Rapporto con le famiglie, accoglienza, integrazione, handicap, minoranze, monitoraggio,valutazione e autovalutazione, risultati studenti, progetti di miglioramento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E’ indipendente dall’esito delle prove oggettiv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E’ pensato come uno strumento di autovalutazione delle scuo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55280" y="1413000"/>
            <a:ext cx="78548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Arial"/>
              </a:rPr>
              <a:t>Questionario di sistema- progetti Pilot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77080" y="714240"/>
            <a:ext cx="1440000" cy="1095480"/>
          </a:xfrm>
          <a:prstGeom prst="rect">
            <a:avLst/>
          </a:prstGeom>
          <a:ln w="12600">
            <a:solidFill>
              <a:srgbClr val="33cc33"/>
            </a:solidFill>
            <a:miter/>
          </a:ln>
          <a:effectLst>
            <a:outerShdw dist="63504" dir="2216091" blurRad="0" rotWithShape="0">
              <a:srgbClr val="003366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08BE85-32A7-49D8-A36D-501A153EE7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00000" y="2349360"/>
            <a:ext cx="6838920" cy="378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Le istituzioni scolastiche possono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riflettere e confrontarsi con esso, utilizzandolo come mezzo per descrivere l’attività della scuola, analizzand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le scelte fatte, le azioni e risultati ottenut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le risorse e l’ambiente dove si colloca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Il questionario è stato validato da Dirigenti scolastici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1197000"/>
            <a:ext cx="7345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Arial"/>
              </a:rPr>
              <a:t>Autovalutazion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524720" y="907920"/>
            <a:ext cx="1390680" cy="986040"/>
          </a:xfrm>
          <a:prstGeom prst="rect">
            <a:avLst/>
          </a:prstGeom>
          <a:ln w="12600">
            <a:solidFill>
              <a:srgbClr val="33cc33"/>
            </a:solidFill>
            <a:miter/>
          </a:ln>
          <a:effectLst>
            <a:outerShdw dist="63504" dir="2216091" blurRad="0" rotWithShape="0">
              <a:srgbClr val="003366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F6663D-F4FB-4F5C-A057-3591DEC124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16000" y="1268280"/>
            <a:ext cx="6408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3366"/>
                </a:solidFill>
                <a:latin typeface="Arial"/>
              </a:rPr>
              <a:t>Il questionario di sistem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00000" y="2349360"/>
            <a:ext cx="7775640" cy="34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Principale riferimento:qualità complessiva dell’offerta formati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Valorizzar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l’esperienza e la capacità di analizzare le realtà dell’istituto scolastico attraverso una compartecipazione di tutti gli attori alla valutazione interna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620120" y="430200"/>
            <a:ext cx="984240" cy="784080"/>
          </a:xfrm>
          <a:prstGeom prst="rect">
            <a:avLst/>
          </a:prstGeom>
          <a:ln w="12600">
            <a:solidFill>
              <a:srgbClr val="33cc33"/>
            </a:solidFill>
            <a:miter/>
          </a:ln>
          <a:effectLst>
            <a:outerShdw dist="71785" dir="2700000" blurRad="0" rotWithShape="0">
              <a:srgbClr val="003366"/>
            </a:outerShdw>
          </a:effectLst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877080" y="430200"/>
            <a:ext cx="1727280" cy="1376280"/>
          </a:xfrm>
          <a:prstGeom prst="rect">
            <a:avLst/>
          </a:prstGeom>
          <a:ln w="12600">
            <a:solidFill>
              <a:srgbClr val="33cc33"/>
            </a:solidFill>
            <a:miter/>
          </a:ln>
          <a:effectLst>
            <a:outerShdw dist="71785" dir="2700000" blurRad="0" rotWithShape="0">
              <a:srgbClr val="003366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B5A7F8-B9B2-40CE-8B2C-0A4A0611F98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6666"/>
                </a:solidFill>
                <a:latin typeface="Arial"/>
              </a:rPr>
              <a:t>Questionario di sistema Pilota3- caratteristich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113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Il questionario si suddivide in due parti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i="1" lang="it-IT" sz="2800" spc="-1" strike="noStrike">
                <a:solidFill>
                  <a:srgbClr val="003366"/>
                </a:solidFill>
                <a:latin typeface="Arial"/>
              </a:rPr>
              <a:t>1.   </a:t>
            </a:r>
            <a:r>
              <a:rPr b="1" lang="it-IT" sz="2800" spc="-1" strike="noStrike">
                <a:solidFill>
                  <a:srgbClr val="003366"/>
                </a:solidFill>
                <a:latin typeface="Arial"/>
              </a:rPr>
              <a:t>la </a:t>
            </a:r>
            <a:r>
              <a:rPr b="1" i="1" lang="it-IT" sz="2800" spc="-1" strike="noStrike">
                <a:solidFill>
                  <a:srgbClr val="003366"/>
                </a:solidFill>
                <a:latin typeface="Arial"/>
              </a:rPr>
              <a:t>prima parte</a:t>
            </a:r>
            <a:r>
              <a:rPr b="1" lang="it-IT" sz="2800" spc="-1" strike="noStrike">
                <a:solidFill>
                  <a:srgbClr val="003366"/>
                </a:solidFill>
                <a:latin typeface="Arial"/>
              </a:rPr>
              <a:t> intende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raccogliere le informazioni che permettono di evidenziare le caratteristiche strutturali salienti dell’istituto scolastico (strutture fisiche e risorse disponibili) e del contesto in cui ope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236000" y="750960"/>
            <a:ext cx="1441440" cy="64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7A872B-0ECE-4EBD-A135-687EDD638A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Programma cors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21/01/0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SNVI :a.s. 2004-200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Lo strumentar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8DA788-AD22-42C0-914A-DAE5AEFA8AD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6666"/>
                </a:solidFill>
                <a:latin typeface="Arial"/>
              </a:rPr>
              <a:t>Questionario 1^part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La compilazione della prima parte è a cura o del Dirigente scolastico o del coordinatore scolastico e della struttura amministrativa della scuola (amministrazione)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655E57-C356-4A77-969D-44F521EC561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6666"/>
                </a:solidFill>
                <a:latin typeface="Arial"/>
              </a:rPr>
              <a:t>Questionario 2^part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Arial"/>
              </a:rPr>
              <a:t>La </a:t>
            </a:r>
            <a:r>
              <a:rPr b="1" i="1" lang="it-IT" sz="2800" spc="-1" strike="noStrike">
                <a:solidFill>
                  <a:srgbClr val="003366"/>
                </a:solidFill>
                <a:latin typeface="Arial"/>
              </a:rPr>
              <a:t>seconda parte</a:t>
            </a:r>
            <a:r>
              <a:rPr b="1" lang="it-IT" sz="2800" spc="-1" strike="noStrike">
                <a:solidFill>
                  <a:srgbClr val="003366"/>
                </a:solidFill>
                <a:latin typeface="Arial"/>
              </a:rPr>
              <a:t> ha l’obiettivo di </a:t>
            </a:r>
            <a:r>
              <a:rPr b="1" lang="it-IT" sz="2800" spc="-1" strike="noStrike" u="sng">
                <a:solidFill>
                  <a:srgbClr val="003366"/>
                </a:solidFill>
                <a:uFillTx/>
                <a:latin typeface="Arial"/>
              </a:rPr>
              <a:t>tracc</a:t>
            </a:r>
            <a:r>
              <a:rPr b="1" lang="it-IT" sz="2800" spc="-1" strike="noStrike">
                <a:solidFill>
                  <a:srgbClr val="003366"/>
                </a:solidFill>
                <a:latin typeface="Arial"/>
              </a:rPr>
              <a:t>ia</a:t>
            </a:r>
            <a:r>
              <a:rPr b="1" lang="it-IT" sz="2800" spc="-1" strike="noStrike" u="sng">
                <a:solidFill>
                  <a:srgbClr val="003366"/>
                </a:solidFill>
                <a:uFillTx/>
                <a:latin typeface="Arial"/>
              </a:rPr>
              <a:t>re </a:t>
            </a:r>
            <a:r>
              <a:rPr b="1" lang="it-IT" sz="2800" spc="-1" strike="noStrike">
                <a:solidFill>
                  <a:srgbClr val="003366"/>
                </a:solidFill>
                <a:latin typeface="Arial"/>
              </a:rPr>
              <a:t>un profilo saliente del </a:t>
            </a:r>
            <a:r>
              <a:rPr b="1" lang="it-IT" sz="2800" spc="-1" strike="noStrike" u="sng">
                <a:solidFill>
                  <a:srgbClr val="003366"/>
                </a:solidFill>
                <a:uFillTx/>
                <a:latin typeface="Arial"/>
              </a:rPr>
              <a:t>servizio scolastico</a:t>
            </a:r>
            <a:r>
              <a:rPr b="1" lang="it-IT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coerente con quanto</a:t>
            </a:r>
            <a:r>
              <a:rPr b="0" lang="it-IT" sz="2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dichiarato e  disposto nel Piano nell’offerta formativa da ogni istituzioni scolastica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A431C3-3BFC-4D3D-818A-5EDDC94C40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42560" y="1125000"/>
            <a:ext cx="764388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66"/>
                </a:solidFill>
                <a:latin typeface="Arial"/>
              </a:rPr>
              <a:t>compilazione del questionario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32000" y="2421000"/>
            <a:ext cx="674532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Verdana"/>
                <a:ea typeface="Arial"/>
              </a:rPr>
              <a:t>In ogni istituzione scolastica si può costituire un </a:t>
            </a:r>
            <a:r>
              <a:rPr b="1" lang="it-IT" sz="2400" spc="-1" strike="noStrike">
                <a:solidFill>
                  <a:srgbClr val="003366"/>
                </a:solidFill>
                <a:latin typeface="Verdana"/>
                <a:ea typeface="Arial"/>
              </a:rPr>
              <a:t>gruppo di discussione</a:t>
            </a:r>
            <a:r>
              <a:rPr b="0" lang="it-IT" sz="2400" spc="-1" strike="noStrike">
                <a:solidFill>
                  <a:srgbClr val="003366"/>
                </a:solidFill>
                <a:latin typeface="Verdana"/>
                <a:ea typeface="Arial"/>
              </a:rPr>
              <a:t> che risponderà alle domande del questionario di sistem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Verdana"/>
                <a:ea typeface="Arial"/>
              </a:rPr>
              <a:t>Il risultato dell’attività sarà riportato sul formato digitale del questionario di sistema  e, quindi, la registrazione (e archiviazione) avviene direttament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Verdana"/>
                <a:ea typeface="Arial"/>
              </a:rPr>
              <a:t>on lin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164360" y="5157720"/>
            <a:ext cx="1219320" cy="11098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943600" y="6094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6699"/>
                </a:solidFill>
                <a:latin typeface="Verdana"/>
              </a:rPr>
              <a:t>www.invalsi.i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164360" y="5157720"/>
            <a:ext cx="1219320" cy="1109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7524720" y="5289480"/>
            <a:ext cx="1150920" cy="104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A081B0-5F58-484D-9010-429315F7595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Arial"/>
              </a:rPr>
              <a:t>Compilazione on lin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16000" y="2637000"/>
            <a:ext cx="7272360" cy="381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CDF9E3-D29C-4F92-8E95-6EEDAB3626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1° incontr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Rilevazione obbligatoria ma derogata ( d.l.59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Quadro di riferimento per la costruzione delle pro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3D1CE7-0077-4393-B80A-351F0620579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Servizio Nazionale per la Valutazion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I Progetti Pilota 2001-2004e il PP3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Il metodo utilizzato per la valutazione nazionale combina la valutazione delle prestazioni degli studenti, attraverso l’uso di prove oggettive appositamente costruite e validate, con la rilevazione delle attività avviate dalle istituzioni scolastiche su specifici aspetti del servizio scolastic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54F91B-C432-48E4-A769-AD18B445B6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Le prove d’apprendimento consistono in quesiti accompagnati da risposte chiuse tra le quali l’allievo deve individuare quella esatt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La rilevazione delle attività degli istituti avviene attraverso un questionario di sistema da compilarsi a cura di tutte le componenti interessate (direzione, docenti, genitori …..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9EA010-732E-49A4-B6FA-374C4194959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Arial"/>
              </a:rPr>
              <a:t>Le prestazioni degli studenti sono rilevate attraverso la somministrazione di prove di apprendimento per alcune discipline (per il PP3: italiano, matematica e scienze) e per alcuni livelli scolastici (per il PP3: II e IV elementare, I media, I e III superiore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7ECB11-B2C5-44B2-9BCF-B8E749446FA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6666"/>
                </a:solidFill>
                <a:latin typeface="Arial"/>
              </a:rPr>
              <a:t>Servizio nazionale di valutazione</a:t>
            </a: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Nel luglio del 2001 viene istituito un gruppo di lavoro per la realizzazione del servizio nazionale di valutazione che promuove un </a:t>
            </a:r>
            <a:r>
              <a:rPr b="1" lang="it-IT" sz="2800" spc="-1" strike="noStrike" u="sng">
                <a:solidFill>
                  <a:srgbClr val="003366"/>
                </a:solidFill>
                <a:uFillTx/>
                <a:latin typeface="Arial"/>
              </a:rPr>
              <a:t>progetto pilo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in attesa di un decreto applicatico degli artt.1 e 3 della legge 28 marzo 2003 n.53 anche per l’a.s. 2003-2004 è stato effettuato </a:t>
            </a:r>
            <a:r>
              <a:rPr b="1" lang="it-IT" sz="2800" spc="-1" strike="noStrike" u="sng">
                <a:solidFill>
                  <a:srgbClr val="003366"/>
                </a:solidFill>
                <a:uFillTx/>
                <a:latin typeface="Arial"/>
              </a:rPr>
              <a:t>un terzo progetto pilo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D9CE0D-F7D9-4869-BF0E-920E942D1F9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6666"/>
                </a:solidFill>
                <a:latin typeface="Arial"/>
              </a:rPr>
              <a:t>Progetti pilota  1,2  e 3 </a:t>
            </a:r>
            <a:br>
              <a:rPr sz="3200"/>
            </a:br>
            <a:r>
              <a:rPr b="1" lang="it-IT" sz="3200" spc="-1" strike="noStrike">
                <a:solidFill>
                  <a:srgbClr val="006666"/>
                </a:solidFill>
                <a:latin typeface="Arial"/>
              </a:rPr>
              <a:t>            a confront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Progetto Pilota :perché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Stimare i livelli di conoscenza e di abilità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- in specifiche aree disciplinar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- per  specifici livelli scolastic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- a livello naziona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Confrontare la posizione della singola scuola rispetto alla media naziona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8530DB-4B0B-43D9-AED9-33A8711A80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2T16:42:06Z</dcterms:created>
  <dc:creator>PAOLA</dc:creator>
  <dc:description/>
  <dc:language>en-US</dc:language>
  <cp:lastModifiedBy>luciano.belardinelli</cp:lastModifiedBy>
  <dcterms:modified xsi:type="dcterms:W3CDTF">2005-03-15T16:45:33Z</dcterms:modified>
  <cp:revision>51</cp:revision>
  <dc:subject/>
  <dc:title>SNVI-INTRODUZIONE</dc:title>
</cp:coreProperties>
</file>