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DE9-E3FC-4762-8273-F177B398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8F1C-21BF-4BC1-8C5D-9FF17098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C946-5912-4B1B-92BD-36DFF122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EAB-C4D1-4449-8AD9-8EF3D8F0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4CD3-8BFD-406E-A082-854AB821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DE3C-EC9F-4EA5-8229-8B354E53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72D8-249D-4C6E-9608-5B560F21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9262-B499-49CA-B103-DC3E4D10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1E76-580E-4561-AA4D-79B593BC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4941-1DBC-4A0C-B4B8-E1766C0E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A6FD-460F-48C9-9655-DDEB9B9D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F70-551C-4264-97D3-653E41D9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5467-749E-4DD8-B217-2CFC46E2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BBCB-0A87-4C30-8B28-8A3EA2A0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CDBA-003E-4176-A0C1-67F6646B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192A-9050-4FF1-9439-0D96B02C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AEC9-CD44-4652-AFA1-B84145B0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83F-BBFB-4696-B0EE-CA066D28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4505-D027-469E-9580-0DDC5317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9EC-CB0E-4277-9373-91E1B837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F455-0569-4947-B195-E16F1C7B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658C-F62F-444E-9269-B94C1EB1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8F1C-1CB3-4BE5-826C-182D4802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8D6F-9D60-495A-A9F0-319E435F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5F7D-F0EB-46DD-9727-0EF4EA43D926}" type="datetime"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86CE-70C8-4E10-B564-19CAB75A0381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3536-B322-4171-B471-670EBDAA0EF6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7E6A-0476-4CF9-A8B5-9410EB4E8CF8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Progetto pilota3- l’organizzazione della rilevazione a.s.2003-2004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504960" y="2927520"/>
            <a:ext cx="48258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rso di formazione per coordinatori di Istitu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6 febbraio 200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03198C6-0B39-4750-B17C-39834937CC61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Ruolo e compiti dei Referenti scolastic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1523880"/>
            <a:ext cx="7010280" cy="4648320"/>
          </a:xfrm>
          <a:prstGeom prst="flowChartMultidocumen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04000" y="2637000"/>
            <a:ext cx="2016000" cy="1512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2133720"/>
            <a:ext cx="6050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cc3300"/>
                </a:solidFill>
                <a:latin typeface="Arial"/>
              </a:rPr>
              <a:t>Codice ‘ 3’:</a:t>
            </a:r>
            <a:r>
              <a:rPr b="1" i="1" lang="it-IT" sz="2000" spc="-1" strike="noStrike">
                <a:solidFill>
                  <a:srgbClr val="003366"/>
                </a:solidFill>
                <a:latin typeface="Arial"/>
              </a:rPr>
              <a:t>lo studente è di lingua madr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Arial"/>
              </a:rPr>
              <a:t>diversa dall’italiano e dunque non legg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Arial"/>
              </a:rPr>
              <a:t>l’italiano o lo legge con difficoltà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e41c72"/>
                </a:solidFill>
                <a:latin typeface="Arial"/>
              </a:rPr>
              <a:t>Si consiglia di far partecipare alle prov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e41c72"/>
                </a:solidFill>
                <a:latin typeface="Arial"/>
              </a:rPr>
              <a:t>anche gli studenti a cui è stato assegnato un codice di esclus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870AE-2983-4B22-8348-E37D42F8E9B0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Ruolo e compiti dei Referenti scolastic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523880"/>
            <a:ext cx="7010280" cy="4648320"/>
          </a:xfrm>
          <a:prstGeom prst="flowChartMultidocumen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e41c72"/>
                </a:solidFill>
                <a:latin typeface="Arial"/>
              </a:rPr>
              <a:t>Codice ‘4’: </a:t>
            </a:r>
            <a:r>
              <a:rPr b="1" i="1" lang="it-IT" sz="2000" spc="-1" strike="noStrike">
                <a:solidFill>
                  <a:srgbClr val="003366"/>
                </a:solidFill>
                <a:latin typeface="Arial"/>
              </a:rPr>
              <a:t>lo studente è un disabile visiv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e41c72"/>
                </a:solidFill>
                <a:latin typeface="Arial"/>
              </a:rPr>
              <a:t>Codice ‘5’: </a:t>
            </a:r>
            <a:r>
              <a:rPr b="1" i="1" lang="it-IT" sz="2000" spc="-1" strike="noStrike">
                <a:solidFill>
                  <a:srgbClr val="003366"/>
                </a:solidFill>
                <a:latin typeface="Arial"/>
              </a:rPr>
              <a:t>lo studente è un disabile visiv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003366"/>
                </a:solidFill>
                <a:latin typeface="Arial"/>
              </a:rPr>
              <a:t>ma ha compilato il fascicol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Arial"/>
              </a:rPr>
              <a:t>senza modifich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04000" y="2637000"/>
            <a:ext cx="2016000" cy="151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D5A37-6D82-4278-A2D0-2489DF488D23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73915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Arial"/>
              </a:rPr>
              <a:t>I docenti somministratori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95880" y="914400"/>
            <a:ext cx="2229120" cy="2090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2924280"/>
            <a:ext cx="8353440" cy="3491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Arial"/>
              </a:rPr>
              <a:t>i docenti somministratori sono i docenti in servizio nel giorno e nelle ore della somministrazione, non della classe e non della mater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Arial"/>
              </a:rPr>
              <a:t>Oppure scelta del dirigente per un maggiore coinvolgime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Arial"/>
              </a:rPr>
              <a:t>L’anno scorso la somministrazione non è andata sempre be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66"/>
                </a:solidFill>
                <a:latin typeface="Arial"/>
              </a:rPr>
              <a:t>Rispetto assoluto dell’orari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620640"/>
            <a:ext cx="236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771640" y="620280"/>
            <a:ext cx="273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27CDD-0CE4-405B-81E3-7698DCA79ABD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Ruolo e compiti dei somministrator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523880"/>
            <a:ext cx="7010280" cy="4648320"/>
          </a:xfrm>
          <a:prstGeom prst="flowChartMultidocumen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Al momento del ritiro del fascicol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il somministratore scriverà sulla coperti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del fascicolo l’indicazione ESCLUS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Il giorno della somministrazion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controllo dei materiali da distribui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Dopo la somministr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controllo della restituzione dei material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breve rel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invio dei material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04000" y="2637000"/>
            <a:ext cx="2016000" cy="151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CB8D9-22B3-4727-88BB-67DBDB8D78C5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00400" y="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Elenco classi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62120" y="-1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13442" r="0" b="23851"/>
          <a:stretch/>
        </p:blipFill>
        <p:spPr>
          <a:xfrm>
            <a:off x="1763640" y="907920"/>
            <a:ext cx="6934320" cy="529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9150B-0A86-47BD-A56A-3206AB360547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28880" y="-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2035" r="12062" b="57712"/>
          <a:stretch/>
        </p:blipFill>
        <p:spPr>
          <a:xfrm>
            <a:off x="826920" y="907920"/>
            <a:ext cx="8317080" cy="4689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438280" y="304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Elenco studenti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28880" y="-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21552" t="63218" r="34087" b="31501"/>
          <a:stretch/>
        </p:blipFill>
        <p:spPr>
          <a:xfrm>
            <a:off x="3352680" y="4724280"/>
            <a:ext cx="2667240" cy="45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E6B11-C6A5-462E-B454-D75CCB01A405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23840" y="904680"/>
            <a:ext cx="7777440" cy="5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Riepilogo per livelli pp3- italian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4920" y="1413000"/>
          <a:ext cx="8534160" cy="5370480"/>
        </p:xfrm>
        <a:graphic>
          <a:graphicData uri="http://schemas.openxmlformats.org/drawingml/2006/table">
            <a:tbl>
              <a:tblPr/>
              <a:tblGrid>
                <a:gridCol w="2133360"/>
                <a:gridCol w="3733920"/>
                <a:gridCol w="1295280"/>
                <a:gridCol w="1371600"/>
              </a:tblGrid>
              <a:tr h="82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ivell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ipo di tes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umero quesit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umero rispost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I elementar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arrativ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+ prova scienze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V elementar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arrativ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spositiv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edie inferior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arrativ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spositivo(-argomentativo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edie superior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arrativo/poetic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spositivo-argomentativ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5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 u="sng">
                          <a:solidFill>
                            <a:srgbClr val="666699"/>
                          </a:solidFill>
                          <a:uFillTx/>
                          <a:latin typeface="Webdings"/>
                          <a:ea typeface="Webdings"/>
                          <a:hlinkClick r:id="rId1" action="ppaction://hlinksldjump"/>
                        </a:rPr>
                        <a:t>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32221-C019-4156-8E29-6ED1A544A234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Comprensione particolare del test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74560" y="2492280"/>
            <a:ext cx="7437240" cy="18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Es. 1: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livello scuola elementare (testo narrativo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All’inizio del racconto, il personaggio X è presentato come un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he cosa fa X per / contro 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erché X compie una certa azion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19280" y="4221000"/>
            <a:ext cx="698508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Es. 2: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livello scuola media (testo espositiv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Dopo aver letto la prima parte del brano hai capito che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L’autore afferma che X: questo vuol dire che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Qual è il significato dell’espressione X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A9BB5-47FE-42EE-AB95-E832358D203C}" type="datetime1">
              <a:rPr lang="en-US"/>
              <a:t>07/29/26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37960" y="1019160"/>
            <a:ext cx="75531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Comprensione globale del test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0000" y="2349360"/>
            <a:ext cx="82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s. 1: livello scuola element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Da chi è raccontata la storia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Dove / Quando si svolge la storia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In quale ordine accadono i fatti della storia?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[uso di disegni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4149720"/>
            <a:ext cx="771516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Es. 2: livello scuola med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- Qual è lo scopo principale del brano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- Qual è l’argomento principale del brano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- Quale delle seguenti sequenze riassume meglio il brano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E8BBA-8B48-4116-B11E-DC6BE44EFE56}" type="datetime1">
              <a:rPr lang="en-US"/>
              <a:t>07/29/26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23840" y="1193400"/>
            <a:ext cx="77774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Comprensione del testo poetic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280" y="2349000"/>
            <a:ext cx="78786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Livello: scuola secondaria superiore, III an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Qual è il ‘tema’ profondo della poesia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Qual è il registro linguistico usato dal poeta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In quante strofe si articola la poesia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Da che tipo di versi è composta la poesia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Qual è lo schema rimico della poesia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Il poeta si rivolge ad un interlocutore che va identificato con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La condizione esistenziale / Lo stato d’animo del poeta trova una corrispondenza nell’immagine di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onfrontando il verso X con il verso Y, si può osservare che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Qual è la parafrasi corretta dei versi X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666699"/>
                </a:solidFill>
                <a:uFillTx/>
                <a:latin typeface="Webdings"/>
                <a:ea typeface="Webdings"/>
                <a:hlinkClick r:id="rId1" action="ppaction://hlinksldjump"/>
              </a:rPr>
              <a:t>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C4802-012A-40C8-9B55-FED3FE8F91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52280"/>
            <a:ext cx="83073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Ruolo e compiti dei Referenti scolastic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523880"/>
            <a:ext cx="7010280" cy="4648320"/>
          </a:xfrm>
          <a:prstGeom prst="flowChartMultidocumen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esentazione del progetto alle scuo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Sensibilizzazione degli student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(riservatezza, non anonimat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ompilazione degli elenchi studen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odice esclusio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Segnalazione studenti disabili (vist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esentazione delle proced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Garanzia di uniformità (rispetto delle consegn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60+20 minu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5120" y="5562720"/>
            <a:ext cx="60195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41c72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orso per somministratori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41c72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5880" y="914400"/>
            <a:ext cx="2229120" cy="209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E4F9C-D6A1-430C-ABC4-C40A70586C51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Matematica :quello che si vuole testare-pp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276640"/>
            <a:ext cx="8001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Livello di appropriazione personale della conoscen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Abilità nell’uso di alcuni strumenti matematici elementari, ma cruciali nella modellizzazione della realt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Gli item non richiedono solo d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eseguire calcol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sviluppare algoritm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applicare formu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ma soprattut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Precisazione e riflessione linguist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51E24-2A67-4B78-A9C4-ADAFE8B7B09C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Matematica quello che si vuole testa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noscenze e abilità II element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3366"/>
                </a:solidFill>
                <a:uFillTx/>
                <a:latin typeface="Arial"/>
              </a:rPr>
              <a:t>Il numero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lettura e scrittura dei numeri naturali:riconoscimento e regolarit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Nozione di precedente e success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Capacità di riconoscere ed eseguire operazioni di addizione e di sottra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3366"/>
                </a:solidFill>
                <a:uFillTx/>
                <a:latin typeface="Arial"/>
              </a:rPr>
              <a:t>Geometria 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Capacità di attuare percorsi e di riconoscere caratteristiche( più o meno lungo, aperto…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Capacità di identificare e denominare correttamenyte forme geometrich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CB17A-FCFB-4FA7-90D1-D2554FB8C9A7}" type="datetime1">
              <a:rPr lang="en-US"/>
              <a:t>07/29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noscenze e abilità IV elementa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l nume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Geomet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a mis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troduzione al pensiero razion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09F5E-11EC-4C52-9840-D77DE69BB4A9}" type="datetime1">
              <a:rPr lang="en-US"/>
              <a:t>07/29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Matematica 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noscenze e abilità I me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l nume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Geomet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a mis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troduzione al pensiero razion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ati e previsio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D161A-7D55-44C4-B446-7448EBB73094}" type="datetime1">
              <a:rPr lang="en-US"/>
              <a:t>07/29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Matematic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noscenze e abilità I e III Scuola media superi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Numero e algeb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Geomet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Relazioni e funzio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ati e previsioni/ log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E237F-AA51-4379-9892-A4C72E868EDF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2349360"/>
            <a:ext cx="8153640" cy="39805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b6e1b6"/>
              </a:gs>
            </a:gsLst>
            <a:lin ang="10800000"/>
          </a:gradFill>
          <a:ln w="9360">
            <a:solidFill>
              <a:srgbClr val="003366"/>
            </a:solidFill>
            <a:miter/>
          </a:ln>
          <a:effectLst>
            <a:outerShdw dist="125751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5 ambiti disciplinar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Fis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Chim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Biolog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Scienze della ter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Scienze ambiental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Le prove di scienze PP2 sono risultate FACILI, queste saranno leggermente più impegnativ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143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Scienze</a:t>
            </a:r>
            <a:br>
              <a:rPr sz="2800"/>
            </a:b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 pp3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D7092-55F3-495C-B52C-64F08205C266}" type="datetime1">
              <a:rPr lang="en-US"/>
              <a:t>07/29/26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439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SCIENZE</a:t>
            </a:r>
            <a:br>
              <a:rPr sz="3200"/>
            </a:b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 Temi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Seconda element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Elementi di metodo sperimenta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Viventi/non viven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Uomo/amb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E7F96-1A3D-4DA8-99E6-93D74701947A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11280" y="549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SCIENZ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emi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2276640"/>
            <a:ext cx="7391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Quarta elementare - Prima med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ementi di metodo sperimental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Viventi/non viven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Uomo/ambie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Trasformazio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rima superiore - Terza superio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ementi di metodo sperimental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Biologi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himica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Fisic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Scienze della Ter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0296A-93F3-4734-86C3-76E1D99D74E5}" type="datetime1">
              <a:rPr lang="en-US"/>
              <a:t>07/29/26</a:t>
            </a:fld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907920"/>
            <a:ext cx="5905440" cy="54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SCIENZE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abilità :seconda element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Osserv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•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splorare attraverso i  sens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•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discriminare tra  vivente e non vive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Ordinar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Classific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•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stabilire relazio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1413000"/>
            <a:ext cx="3124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D4B38-1419-4451-8C39-49403FE89059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620280"/>
            <a:ext cx="8001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SCIENZE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abilità:quarta elementare/prima media</a:t>
            </a:r>
            <a:r>
              <a:rPr b="0" lang="it-IT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2276640"/>
            <a:ext cx="7461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Osserva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descrivere: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raccogliere dat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riflettere su indiz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riconoscere caratteristiche   specifiche di un fenomen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Ordinare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in sequenze temporali e/o logich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Classifica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stabilire relazion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in base a caratteristiche specifich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confrontare in termini qualitativi e/o quantitativ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Linguaggi specific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Leggere e comprendere un breve testo scientifico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usando termini del lessico specific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Leggere il linguaggio grafic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CA845-3FBD-4F7B-BF9E-CC25A0100FA6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Ruolo e compiti dei Referenti scolastic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1844640"/>
            <a:ext cx="7010280" cy="4256280"/>
          </a:xfrm>
          <a:prstGeom prst="flowChartMultidocumen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e41c72"/>
                </a:solidFill>
                <a:latin typeface="Arial"/>
              </a:rPr>
              <a:t>Organizzare la somministrazione d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e41c72"/>
                </a:solidFill>
                <a:latin typeface="Arial"/>
              </a:rPr>
              <a:t> </a:t>
            </a:r>
            <a:r>
              <a:rPr b="0" i="1" lang="it-IT" sz="2000" spc="-1" strike="noStrike" u="sng">
                <a:solidFill>
                  <a:srgbClr val="e41c72"/>
                </a:solidFill>
                <a:uFillTx/>
                <a:latin typeface="Arial"/>
              </a:rPr>
              <a:t>questionario di rilevazione dei processi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u="sng">
                <a:solidFill>
                  <a:srgbClr val="e41c72"/>
                </a:solidFill>
                <a:uFillTx/>
                <a:latin typeface="Arial"/>
              </a:rPr>
              <a:t>Organizzare la somministrazione delle pro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Riconsegnare ,secondo le modalit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indicate, il materi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04000" y="2637000"/>
            <a:ext cx="2016000" cy="151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B0691-F0C7-4282-9291-337149B9442B}" type="datetime1">
              <a:rPr lang="en-US"/>
              <a:t>07/29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SCIENZE </a:t>
            </a:r>
            <a:br>
              <a:rPr sz="3200"/>
            </a:b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abilità :1^ superio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82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Osserva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riconoscere fenomeni di natura diver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Classificare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ordinare (in sequenze temporali e/o logiche, in termini quantitativi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stabilire relazion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riconoscere caratteristiche specifich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Linguaggi specific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Utilizzare il linguaggio matematic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alcolare, quantificare (unità di misura, strumenti di misura), confronta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eggere tabelle, leggere grafici, leggere ed eseguire disegni in sca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nterpretare dati empirici   e/o sperimental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Risolvere situazioni problematich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mediante concetti disciplinar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eggere e comprendere un breve testo scientifico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04110-8D66-44D4-9EA8-4CBA94E0B124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2120" y="2349360"/>
            <a:ext cx="7924680" cy="36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Classificare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ordinare (in sequenze temporali e/o logiche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iconoscere caratteristiche specifich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Linguaggi specific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Utilizzare il linguaggio matematico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calcolare, quantificare (unità di misura, strumenti di misura, confrontare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leggere tabelle, leggere grafic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nterpretare dati sperimental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isolvere situazioni problematich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n termini qualitativi utilizzando concetti di diverse disciplin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n termini quantitativi utilizzando modellizzazioni matematich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Leggere e comprendere un testo scientifico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981000"/>
            <a:ext cx="633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CIEN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Abilità :3^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uperior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0BAC3-7F39-4F91-B361-6555F68546FA}" type="datetime1">
              <a:rPr lang="en-US"/>
              <a:t>07/29/26</a:t>
            </a:fld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38080" y="38088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CIEN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lasse seconda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element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2492280"/>
            <a:ext cx="73472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it-IT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esempio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a mamma ha messo sul fuoco una pentola colma d’acqua. Si è però distratta per preparare la verdura e l’acqua ha continuato a bollire per 15 minuti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he cosa è successo nel frattempo alla quantità d’acqua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A. È rimasta quella inizial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B. È diminuita molt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. È aumentata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4D408-7F9D-46F7-8CAF-DDAC63E5AF76}" type="datetime1">
              <a:rPr lang="en-US"/>
              <a:t>07/29/26</a:t>
            </a:fld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38080" y="62064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SCIEN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Classe quarta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element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2349360"/>
            <a:ext cx="79250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it-IT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esempio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Renzo porta in classe una piccola calamita che gli è stata regalata dal nonno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I compagni avvicinano alla calamita i seguenti oggetti: una chiave di ferro; un foglio di carta appallottolato; una biglia di vetro; una gomm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Quali oggetti verranno attirati dalla calamita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A.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Tutti gli oggetti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B.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La chiave e la bigli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C.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La chiav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D.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Nessun oggett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EF25D-362F-4212-84AA-40E6F907C66C}" type="datetime1">
              <a:rPr lang="en-US"/>
              <a:t>07/29/26</a:t>
            </a:fld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125360"/>
            <a:ext cx="80010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Consigli per la risoluzione tes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ima lettura rap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elezione delle risposte sic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Rileggere ed andare per esclus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asciare in bianco le domande su cui non si riesce a escludere nul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u due risposte, tentare la sor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721EF-72B2-4C08-BEE7-A776F2618ED8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2421000"/>
            <a:ext cx="8534160" cy="2558520"/>
          </a:xfrm>
          <a:prstGeom prst="rect">
            <a:avLst/>
          </a:prstGeom>
          <a:gradFill rotWithShape="0">
            <a:gsLst>
              <a:gs pos="0">
                <a:srgbClr val="cc8ec8"/>
              </a:gs>
              <a:gs pos="100000">
                <a:srgbClr val="e2c0e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Le classi interessate: 2 elementare, 4 elementare, 1 media, 1 superiore, 3 superiore. La popolazione è composta da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tutti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gli alunni di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tutt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le class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Le discipline interessate: italiano, matematica, scienz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Si possono utilizzare le prove dell’anno scorso per simulazio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853560"/>
            <a:ext cx="6039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2003-2004 </a:t>
            </a:r>
            <a:br>
              <a:rPr sz="2800"/>
            </a:b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Prove oggettive: </a:t>
            </a:r>
            <a:br>
              <a:rPr sz="2800"/>
            </a:b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classi e disciplin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303200" cy="1371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27160" y="460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5661000"/>
            <a:ext cx="755028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La valutazione è sul segmento di scuola precede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C1B19-8989-4392-B2DA-305FCFC9FD61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964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Ruolo e compiti dei Referenti scolastic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77080" y="1487520"/>
            <a:ext cx="2266920" cy="2104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0200" y="323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341360"/>
            <a:ext cx="6337440" cy="4896000"/>
          </a:xfrm>
          <a:prstGeom prst="flowChartMultidocumen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41c72"/>
                </a:solidFill>
                <a:latin typeface="Arial"/>
              </a:rPr>
              <a:t>Organizzazione somministrazione pro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e41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41c72"/>
                </a:solidFill>
                <a:latin typeface="Arial"/>
              </a:rPr>
              <a:t>Controllare i materiali ricevu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41c72"/>
                </a:solidFill>
                <a:latin typeface="Arial"/>
              </a:rPr>
              <a:t>(</a:t>
            </a:r>
            <a:r>
              <a:rPr b="0" lang="it-IT" sz="2000" spc="-1" strike="noStrike">
                <a:solidFill>
                  <a:srgbClr val="006666"/>
                </a:solidFill>
                <a:latin typeface="Arial"/>
              </a:rPr>
              <a:t>copie sufficienti per le prove,elenco classi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Arial"/>
              </a:rPr>
              <a:t>elenchi studenti e copia de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6666"/>
                </a:solidFill>
                <a:latin typeface="Arial"/>
              </a:rPr>
              <a:t>MANUALE DEL SOMMINISTRATOR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e41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e41c72"/>
                </a:solidFill>
                <a:latin typeface="Arial"/>
              </a:rPr>
              <a:t>Conservazione dei material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e41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D44BE-0314-43AB-A507-F9291C1A2A50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Ruolo e compiti dei Referenti scolastic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cc3300"/>
                </a:solidFill>
                <a:latin typeface="Arial"/>
              </a:rPr>
              <a:t>Provvedere ad applicare  le etichette con i codici identificativi sulle copertine di ogni fascicol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cc3300"/>
                </a:solidFill>
                <a:latin typeface="Arial"/>
              </a:rPr>
              <a:t>Compilare elenco classi ed elenco studen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Arial"/>
              </a:rPr>
              <a:t>Avvertire l’Invalsi se è variato il numer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cc3300"/>
                </a:solidFill>
                <a:latin typeface="Arial"/>
              </a:rPr>
              <a:t>degli studen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Arial"/>
              </a:rPr>
              <a:t>Preparazione studen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92866-7DD1-4EAE-9164-667FD30934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Verdana"/>
              </a:rPr>
              <a:t>Ruolo e compiti dei Referenti scolastic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5880" y="914400"/>
            <a:ext cx="2229120" cy="2090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26920" y="2781360"/>
            <a:ext cx="6624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cc3300"/>
                </a:solidFill>
                <a:uFillTx/>
                <a:latin typeface="Arial"/>
              </a:rPr>
              <a:t>Scuole campione</a:t>
            </a:r>
            <a:r>
              <a:rPr b="0" i="1" lang="it-IT" sz="2800" spc="-1" strike="noStrike">
                <a:solidFill>
                  <a:srgbClr val="cc3300"/>
                </a:solidFill>
                <a:latin typeface="Arial"/>
              </a:rPr>
              <a:t>: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somministrazione cartacea delle prove per tutte le class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cc3300"/>
                </a:solidFill>
                <a:latin typeface="Arial"/>
              </a:rPr>
              <a:t>nella classe selezionata dall’INValSI</a:t>
            </a:r>
            <a:r>
              <a:rPr b="1" lang="it-IT" sz="1800" spc="-1" strike="noStrike">
                <a:solidFill>
                  <a:srgbClr val="e41c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necessità di raggiungere il </a:t>
            </a:r>
            <a:r>
              <a:rPr b="1" lang="it-IT" sz="1800" spc="-1" strike="noStrike">
                <a:solidFill>
                  <a:srgbClr val="cc3300"/>
                </a:solidFill>
                <a:latin typeface="Arial"/>
              </a:rPr>
              <a:t>90%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di presenza degli studenti (tasso di rispondenza), eventuale sessione di recupero (strategie di recupero presenze) solo per gli assenti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riconsegna degli strumenti tempo più lungo (una settimana – dieci giorni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cc3300"/>
                </a:solidFill>
                <a:uFillTx/>
                <a:latin typeface="Arial"/>
              </a:rPr>
              <a:t>Controllo di qualit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3C0E9-750F-46AC-8B74-365E00033C38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Ruolo e compiti dei Referenti scolastic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2205000"/>
            <a:ext cx="7010280" cy="3967200"/>
          </a:xfrm>
          <a:prstGeom prst="flowChartMultidocumen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e41c72"/>
                </a:solidFill>
                <a:latin typeface="Arial"/>
              </a:rPr>
              <a:t>Elenco studenti</a:t>
            </a: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È responsabilità della scuola assicurare ch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siano esclusi soltanto gli studenti ch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rientrano tra i casi previsti per la n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partecipazion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Il motivo dell’eventuale esclus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dovrà essere indicato con uno de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codici indicati negli elenchi classi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04000" y="2637000"/>
            <a:ext cx="2016000" cy="151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C5918-C905-4F84-9BA5-BC20430A3218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915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Ruolo e compiti dei Referenti scolastic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523880"/>
            <a:ext cx="7010280" cy="4648320"/>
          </a:xfrm>
          <a:prstGeom prst="flowChartMultidocumen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e41c72"/>
                </a:solidFill>
                <a:latin typeface="Arial"/>
              </a:rPr>
              <a:t>Codice ‘1’:</a:t>
            </a:r>
            <a:r>
              <a:rPr b="1" i="1" lang="it-IT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003366"/>
                </a:solidFill>
                <a:latin typeface="Arial"/>
              </a:rPr>
              <a:t>disabile fisico,studenti la cu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003366"/>
                </a:solidFill>
                <a:latin typeface="Arial"/>
              </a:rPr>
              <a:t>disabilità fisica permanente non conse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003366"/>
                </a:solidFill>
                <a:latin typeface="Arial"/>
              </a:rPr>
              <a:t>di partecipare alle prove,i disabil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Arial"/>
              </a:rPr>
              <a:t>che possono partecipare dovrebber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Arial"/>
              </a:rPr>
              <a:t>essere inclus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Arial"/>
              </a:rPr>
              <a:t>Codice ‘2’: lo studente è un disabile psichi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Arial"/>
              </a:rPr>
              <a:t>(disturbi mentali certificati dalla ASL)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it-IT" sz="2000" spc="-1" strike="noStrike" u="sng">
                <a:solidFill>
                  <a:srgbClr val="003366"/>
                </a:solidFill>
                <a:uFillTx/>
                <a:latin typeface="Arial"/>
              </a:rPr>
              <a:t>non devono essere esclusi student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3366"/>
                </a:solidFill>
                <a:uFillTx/>
                <a:latin typeface="Arial"/>
              </a:rPr>
              <a:t>con scarso rendimento 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3366"/>
                </a:solidFill>
                <a:uFillTx/>
                <a:latin typeface="Arial"/>
              </a:rPr>
              <a:t>problemi disciplinar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04000" y="2637000"/>
            <a:ext cx="2016000" cy="151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ola Guidi referente provincia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14A95-FE73-4B84-8F81-BCA4B97EB4E1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16:42:06Z</dcterms:created>
  <dc:creator>PAOLA</dc:creator>
  <dc:description/>
  <dc:language>en-US</dc:language>
  <cp:lastModifiedBy>luciano.belardinelli</cp:lastModifiedBy>
  <dcterms:modified xsi:type="dcterms:W3CDTF">2005-03-15T16:44:46Z</dcterms:modified>
  <cp:revision>34</cp:revision>
  <dc:subject/>
  <dc:title>PILOTA3-LA STORIA</dc:title>
</cp:coreProperties>
</file>