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CAF-A4FB-47D3-BB88-C2A066B5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BE9-BCF5-401B-9450-2205967E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D07-4583-4FA3-B295-8739E279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F36-BE1F-4B22-8161-A414B5C7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76CC-2DA4-4520-A168-8902B1AA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433-AED9-4677-8ECE-1AE4BD0D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D864-ADA5-458F-AEFE-6404F2D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1649-6065-431F-9770-1D012B5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87C-9435-493A-85D7-AD9FC162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0860-C38A-4DF5-91CB-AC43586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0DEE-58D6-40AF-9A92-8701879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52C-E4A1-4423-AA7D-3038458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C26-4459-49FE-8862-EEFEC5E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3EFC-BD26-4967-B719-4000EF62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D4AB-FBDE-4CFD-85F4-24E9940E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D23-6AED-4D58-B74D-FA27AF27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5ABC-57B3-406E-B905-0ACF1C3B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616-0E50-4D3A-BDC1-102D1BF5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AE2-5942-4741-9E29-B7B7E3D6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1A2-0AE4-4F3A-A8CC-1E8FEB9B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296-2013-4DC4-8A7A-C08C440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CF9-2175-44D3-93DD-B6EC352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EDE-F5FE-424C-AE28-BFCE7FF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46A-7B86-46EA-A017-33B7451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6A9-A86C-4676-A846-C46C86F80D64}" type="datetime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415-CEC9-46D1-88D8-50A7B1CBEF72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B0FE-9CA5-486B-AE5C-59DA605383C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E64-36EC-4166-865C-C49B4DC8FAB9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Progetto SNVI a.s. 2004-2005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2927520"/>
            <a:ext cx="7488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Corso di formazione per coordinatori di Istitut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(da materiale INVALSI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Ancona 21 febbraio 2005- 2^ par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BDD2A3-0631-4441-9A9B-042205FB7C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a caratteristiche dello strumentario: livello istituto scolastic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e dimensioni e i relativi insiemi di attività che sono inserite nei questionari sono i seguenti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3300"/>
                </a:solidFill>
                <a:latin typeface="Arial"/>
              </a:rPr>
              <a:t>Questionario 1</a:t>
            </a: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Dati general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nagrafica, composizione istituto, popolazione scolastica, risorse e dotazioni (fisiche, tecnologiche, finanziarie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Attività di definizione del contesto (esterno)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municazioni genitori, reti di scuole, Enti locali e altri enti, accoglienz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Attività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di definizione del contesto (interno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lima interno, controllo competenze iniziali, integrazi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FB603-3EB8-4C74-8DF1-F403220C4B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a caratteristiche dello strumentario: livello istituto scolastic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Questionario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di organizzazione dell’istituto scola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esponsabilità, comunicazione, flessibilità, integrazione, monitoraggio e verifica delle attività, valutazione interna o autovalutazi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6A30-A0C3-47C4-86F5-622F11ED5F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di sviluppo dell’istruzione e della for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 di organizzazion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struzione del curricolo, insegnamenti integrativi, recupero, supporto,continuità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 d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’’insegnamento</a:t>
            </a: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47DD4-4139-47B6-89EB-510387CA37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zione didattica, individualizzazione,  valutazione profit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di direzione e coordina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vvedimenti amministrativi, negozi giuridici, coordinamento organi d’istitu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E0AE6-B43D-4D65-BFEE-4D306D9B4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a caratteristiche dello strumentario: livello istituto scolastic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Arial"/>
              </a:rPr>
              <a:t>Questionario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Attività di analisi sui risultati ottenu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isultati degli studenti, risultati dei servizi attuati, analisi degli scostament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Destinazione degli studenti, soddisfazione degli utenti, miglioram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ddisfazione delle famiglie, studenti, altri soggetti, piani di miglioramen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989A-B301-4B5F-9C8E-8CEC94FDA0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Le caratteristiche dello strumentario: livello regional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 livello regionale le dimensioni e i relativi insiemi di attività selezionati che potranno essere oggetto di rilevazione sono i seguent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la programmazione dell’offerta formativa in termini di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definizione dei curricoli per la parte di influenza delle Regioni, quindi anche in termini di azioni e progetti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promozione di attività sociali e culturali generali e specifich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F44E9-8CCC-40B9-9DC2-0861987C58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I legami tra istruzione  e le politiche sociali nelle istituzioni scolastiche per quanto attie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l’orientamento scolastico e professionale 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la gestione del disagio giovanile e dell’insuccesso personale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il contrasto al fenomeno della dispersione scolastica e di quella formativa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l’integrazione scolastica di soggetti deboli e a rischio come i cittadini stranieri, i diversamente abili, i soggetti devianti, ec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48C1B-D754-4D78-B4F2-E582CC207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Rilevazioni specifiche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er l’indagine nazionale del 2004/2005 si rileveranno informazioni per l’attuazione della Riforma degli ordinamenti scolastici nel primo ciclo in base a quanto richiesto dalla Direttiva 2004 del Ministr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D5F3B-E5A0-486E-A108-981E41EFE7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Le principali informazioni che saranno richieste per l’adozione della riforma riguarderanno: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scrizioni anticipa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rario obbligatorio “27 ore” (attività educative e didattiche, scuola primaria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rario facoltativo e opzionale “3 ore” (attività educative e didattiche, scuola primaria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Quantità orarie discipline* (vedi orario per la scuola primaria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82230-F4E3-4F9F-A308-529B121657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Nuova configurazione Tempo prolungato (scuola secondaria di primo grado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2ª lingua straniera (scelta, criteri di selezione; scuola secondaria di primo grado)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Forme di coordinamento e funzioni tutorial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ortfoli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468E1-5DBF-41AA-8C25-33446700C3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Lo strum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inalità dell’indagine naziona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 finalità conoscitive dell’indagine nazionale, condotta a livello e di singola istituzione scolastica e di aggregato territoriale (Provincia, Regione) possono essere espresse com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evidenziare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le micropolitiche assunte dalle istituzioni scolastiche 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far emergere eventuali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imensioni o aree del servizio scolastico, su cui condurre specifiche analisi e riflessioni circa i risultati ottenuti;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54587-1393-4D71-97E6-1FA0C20966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ntenuti essenziali dei piani di studio organizzati per Unità di apprendimento (sulla base delle  Indicazioni Nazionali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rocedure valutazio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ntenuti e collocazione oraria “6 ore” (scuola secondaria di primo grado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F2AF3-99FC-4D62-A286-9184E76B8D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ilazione del questionar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ll’interno delle scuole l’organizzazione per la compilazione del questionario delle attività preve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l dirigente scolastico, responsabile della compilazione de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Questionari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n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coordinator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scuola che coordina le attività di compilazione della prima e della seconda parte de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Questionari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tale figura può coincidere con quella del Dirigente scolastico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gruppo di discuss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he risponde alla seconda parte del </a:t>
            </a:r>
            <a:r>
              <a:rPr b="0" i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Q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uestionari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8BDD1-A229-45BC-B80B-3729B9CDBC0B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64388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compilazione del questionar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2421000"/>
            <a:ext cx="6745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In ogni istituzione scolastica si può costituire un </a:t>
            </a:r>
            <a:r>
              <a:rPr b="1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gruppo di discussione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 che risponderà alle domande del questionario di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Il risultato dell’attività sarà riportato sul formato digitale del questionario di sistema  e, quindi, la registrazione (e archiviazione) avviene direttamen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Verdana"/>
                <a:ea typeface="Arial"/>
              </a:rPr>
              <a:t>on 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5157720"/>
            <a:ext cx="1219320" cy="11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6699"/>
                </a:solidFill>
                <a:latin typeface="Verdana"/>
              </a:rPr>
              <a:t>www.invalsi.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1219320" cy="11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524720" y="52894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3817-F1C8-4A66-B23D-1E75FEAE964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Questionario di rilevazione delle attività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ventano prioritari tre fattori, cioè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un </a:t>
            </a: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sistema di indicator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e relativo strumentario per la raccolta dei dati relativi al funzionamento e alle prestazioni delle istituzioni scolastiche;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un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collaborazione e cooper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effettiva (anche via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integrazion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tecnologica) con i soggetti detentori dei dati relativi al sistema di istruzione e formazione (ad esempio Direzioni del MIUR, Uffici scolastici regionali, ecc.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complementarità dei da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gruenza con altri Progetti  in corso (il Monitoraggio dei finanziamenti della legge 440/97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BF1C6-E799-41B6-B32F-7C7D19C9A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Ambiti specifici istituzione scolastica: le macro categorie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Identità dell’istituzione scolastic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Immagine dell’istituto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elaborazione del Pof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clima esterno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rapporti esterni, clima interno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Organizzazione e gestione del servizio scolastico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Gestione risors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assegnazion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gestione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utilizzazio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63715-C990-4307-9F46-2353FEDE3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it-IT" sz="2000" spc="-1" strike="noStrike">
                <a:solidFill>
                  <a:srgbClr val="3333ff"/>
                </a:solidFill>
                <a:latin typeface="Arial"/>
              </a:rPr>
              <a:t>Organizzazione scolastic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lessibilità orari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azione scolastic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azione didattica, ec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it-IT" sz="2000" spc="-1" strike="noStrike">
                <a:solidFill>
                  <a:srgbClr val="3333ff"/>
                </a:solidFill>
                <a:latin typeface="Arial"/>
              </a:rPr>
              <a:t>Dispositivi di attuazione organizzazione e gestione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rezion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rdinamento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mpiezza della deleg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vvedimenti amministrativ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E2592-3232-41CC-A13D-9FAC653E5C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Gestione risorse finanziarie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ondi ricevuti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a annual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tratti integrativi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ilancio consuntivo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inanziamento dei proget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C62FC-5DB0-4D2C-994D-334BE74A14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Sistema di relazioni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egozi giuridici costruiti, partecipati e sostenuti nel processo di costruzione delle micropolitiche loca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Innovazione e lo svilupp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istruzione e formazione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aggiornamento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integrazione con il contesto esterno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progetti finalizzati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accord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15028-F8AA-46B3-B1C0-0E8D0E8547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Valutazione e qualità del servizio 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organizzazione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 verific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 monitoraggio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 risultati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 miglioramento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 effet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CF14A-8E6E-4992-8515-BC48CCC8AF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Lo strumentario :Obiettiv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dimensioni conoscitive considerate per il nuovo strumentario sono esplicitate come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aree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raggruppamento di attivit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e sono poste come livello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operativ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base di anali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o strumentario è costruito sulla base e delle dimensioni o aree conoscitive e del periodo temporale in cui si formeranno i dati rileva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5154E-2CBE-486A-884B-75CE5E0F48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6:42:06Z</dcterms:created>
  <dc:creator>Paola</dc:creator>
  <dc:description/>
  <dc:language>en-US</dc:language>
  <cp:lastModifiedBy>luciano.belardinelli</cp:lastModifiedBy>
  <dcterms:modified xsi:type="dcterms:W3CDTF">2005-03-15T16:45:20Z</dcterms:modified>
  <cp:revision>50</cp:revision>
  <dc:subject/>
  <dc:title>snvi- lo strumentario</dc:title>
</cp:coreProperties>
</file>